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7F47-6900-48BD-B70A-FE6D8BDD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67BC-1448-42E5-91AA-2D88F432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E257-0BF8-4367-BA4E-01EDC0DB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CEC3-4284-4096-AAE1-75CD1DBC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C095-62E1-431F-B787-9E3BA0F6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92F5-4D56-4142-A9F4-1DD4B7E6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9DF4-9CE1-40B8-93D5-7217230C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89DB-10F7-47A0-A830-8D8F70D2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9509-326C-4F5D-9A28-482AD9F2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2531-710B-4BB7-BF31-1EE47100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A955-5282-4223-9F99-F1AA60D0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5DB8-A71B-47EE-9C37-1DBE7551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2E41-3493-40C9-8C86-36A6BBF925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-248400" y="6137280"/>
            <a:ext cx="146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A960-B7E5-42F1-BB68-71B3AD9D14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95320" y="2475720"/>
            <a:ext cx="39625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hapter 6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343400" y="342900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omic 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43120" y="1066680"/>
          <a:ext cx="3813120" cy="46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1066680"/>
                    <a:ext cx="381312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ich is i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energy a wave like light, or a particl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pt is called the Wave -Particle dualit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about the other way, is matter a wave?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tter as a wav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ing the velocity v instead of the wavelength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we ge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Broglie’s equation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h/m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 calculate the wavelength of an objec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laser light of a CD is 7.80 x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. What is the frequency of this ligh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the energy of a photon of this ligh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the apparent mass of a photon of this ligh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the energy of a mole of these photon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iffrac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 light passes through, or reflects off, a series of thinly spaced lines, it creates a rainbow effec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cause the waves interfere with each other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274320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0" y="449568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04080" y="351000"/>
            <a:ext cx="2530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wave moves toward a sl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76520" y="914400"/>
            <a:ext cx="0" cy="4876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274320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449568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65560" y="917640"/>
            <a:ext cx="2926800" cy="3342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51" y="42"/>
                </a:moveTo>
                <a:arcTo wR="10800" hR="10800" stAng="-5702384" swAng="11348751"/>
                <a:lnTo>
                  <a:pt x="10800" y="10800"/>
                </a:lnTo>
                <a:close/>
              </a:path>
              <a:path fill="none" w="21600" h="21600">
                <a:moveTo>
                  <a:pt x="9851" y="42"/>
                </a:moveTo>
                <a:arcTo wR="10800" hR="10800" stAng="-5702384" swAng="11348751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0480" y="884160"/>
            <a:ext cx="367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s out as a cu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at will an electron do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has mass, so it is matt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particle can only go through one hol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wave through many hol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 electron makes an interference patter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behaves like a wav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ther matter has wavelengths too small to notic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pectru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ange of frequencies present in ligh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te light has a continuous spectru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the colors are possibl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rainbow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ydrogen spectru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ission spectrum because these are the colors it gives off or emit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led a line spectru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are just a few discrete lines show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43000" y="4495680"/>
            <a:ext cx="723888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523880" y="4495680"/>
            <a:ext cx="0" cy="1219320"/>
          </a:xfrm>
          <a:prstGeom prst="line">
            <a:avLst/>
          </a:prstGeom>
          <a:ln w="76320">
            <a:solidFill>
              <a:srgbClr val="b50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62320" y="4495680"/>
            <a:ext cx="0" cy="1219320"/>
          </a:xfrm>
          <a:prstGeom prst="line">
            <a:avLst/>
          </a:prstGeom>
          <a:ln w="76320">
            <a:solidFill>
              <a:srgbClr val="003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19720" y="4495680"/>
            <a:ext cx="0" cy="1219320"/>
          </a:xfrm>
          <a:prstGeom prst="line">
            <a:avLst/>
          </a:prstGeom>
          <a:ln w="76320">
            <a:solidFill>
              <a:srgbClr val="009c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162920" y="4495680"/>
            <a:ext cx="0" cy="1219320"/>
          </a:xfrm>
          <a:prstGeom prst="line">
            <a:avLst/>
          </a:prstGeom>
          <a:ln w="7632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19000" y="5761080"/>
            <a:ext cx="1420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10 n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809720" y="3932280"/>
            <a:ext cx="1420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34 n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90800" y="5761080"/>
            <a:ext cx="1420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86 n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34000" y="3780000"/>
            <a:ext cx="1420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56 n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at this mea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ly certain energies are absorbed for the hydrogen ato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, it can only give off certain energi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 hc /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ergy in the atom is quantized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igh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de up of electromagnetic radiatio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 behave as a particle as well as a wa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iels Boh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ed the quantum model of the hydrogen ato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 said the atom was like a solar syste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electrons were attracted to the nucleus because of opposite charg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dn’t fall in to the nucleus because it was moving aroun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 Bohr Ring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didn’t know why but only certain energies were absorb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called these allowed energies energy level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tting energy into the atom moved the electron away from the nucleu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its ground state to its excited stat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it returns to ground state it gives off light of a certain energ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 Bohr Ring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62320" y="3581280"/>
            <a:ext cx="152280" cy="15264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44800" y="3263760"/>
            <a:ext cx="787320" cy="78768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549440" y="2768760"/>
            <a:ext cx="1778040" cy="177768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092240" y="2235240"/>
            <a:ext cx="2692440" cy="284472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58720" y="1778040"/>
            <a:ext cx="3759120" cy="375912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886400" y="1722600"/>
            <a:ext cx="1027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=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886400" y="1189080"/>
            <a:ext cx="1027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=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86400" y="2255760"/>
            <a:ext cx="1027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=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962720" y="2789280"/>
            <a:ext cx="1027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=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843640" y="3613320"/>
            <a:ext cx="1037160" cy="120240"/>
            <a:chOff x="2843640" y="3613320"/>
            <a:chExt cx="1037160" cy="120240"/>
          </a:xfrm>
        </p:grpSpPr>
        <p:sp>
          <p:nvSpPr>
            <p:cNvPr id="345" name=""/>
            <p:cNvSpPr/>
            <p:nvPr/>
          </p:nvSpPr>
          <p:spPr>
            <a:xfrm>
              <a:off x="2843640" y="3628800"/>
              <a:ext cx="138960" cy="10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343" y="13143"/>
                  </a:moveTo>
                  <a:arcTo wR="10800" hR="10800" stAng="751729" swAng="464827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343" y="13143"/>
                  </a:moveTo>
                  <a:arcTo wR="10800" hR="10800" stAng="751729" swAng="4648271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2978280" y="3654360"/>
              <a:ext cx="20520" cy="3816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97000" y="3618000"/>
              <a:ext cx="140040" cy="10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13" y="7511"/>
                  </a:moveTo>
                  <a:arcTo wR="10800" hR="10800" stAng="-9736045" swAng="4257927"/>
                  <a:lnTo>
                    <a:pt x="10800" y="10800"/>
                  </a:lnTo>
                  <a:close/>
                </a:path>
                <a:path fill="none" w="21600" h="21600">
                  <a:moveTo>
                    <a:pt x="513" y="7511"/>
                  </a:moveTo>
                  <a:arcTo wR="10800" hR="10800" stAng="-9736045" swAng="4257927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997360" y="3614760"/>
              <a:ext cx="135720" cy="1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49" y="3"/>
                  </a:moveTo>
                  <a:arcTo wR="10800" hR="10800" stAng="-5479933" swAng="44220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49" y="3"/>
                  </a:moveTo>
                  <a:arcTo wR="10800" hR="10800" stAng="-5479933" swAng="4422079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2640" y="3654360"/>
              <a:ext cx="31680" cy="4608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46760" y="3627720"/>
              <a:ext cx="138600" cy="1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47" y="21597"/>
                  </a:moveTo>
                  <a:arcTo wR="10800" hR="10800" stAng="5480557" swAng="47011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47" y="21597"/>
                  </a:moveTo>
                  <a:arcTo wR="10800" hR="10800" stAng="5480557" swAng="4701152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150000" y="3628800"/>
              <a:ext cx="135720" cy="10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354" y="13092"/>
                  </a:moveTo>
                  <a:arcTo wR="10800" hR="10800" stAng="735166" swAng="48296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354" y="13092"/>
                  </a:moveTo>
                  <a:arcTo wR="10800" hR="10800" stAng="735166" swAng="4829600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3274920" y="3649320"/>
              <a:ext cx="30240" cy="4932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301920" y="3616200"/>
              <a:ext cx="136800" cy="10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8" y="8198"/>
                  </a:moveTo>
                  <a:arcTo wR="10800" hR="10800" stAng="-9963664" swAng="4483731"/>
                  <a:lnTo>
                    <a:pt x="10800" y="10800"/>
                  </a:lnTo>
                  <a:close/>
                </a:path>
                <a:path fill="none" w="21600" h="21600">
                  <a:moveTo>
                    <a:pt x="318" y="8198"/>
                  </a:moveTo>
                  <a:arcTo wR="10800" hR="10800" stAng="-9963664" swAng="4483731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94360" y="3613320"/>
              <a:ext cx="138960" cy="1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5" y="3"/>
                  </a:moveTo>
                  <a:arcTo wR="10800" hR="10800" stAng="-5478117" swAng="44213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5" y="3"/>
                  </a:moveTo>
                  <a:arcTo wR="10800" hR="10800" stAng="-5478117" swAng="4421363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24320" y="3648240"/>
              <a:ext cx="31680" cy="5076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50240" y="3628800"/>
              <a:ext cx="137880" cy="10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94" y="21588"/>
                  </a:moveTo>
                  <a:arcTo wR="10800" hR="10800" stAng="5561027" swAng="46206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94" y="21588"/>
                  </a:moveTo>
                  <a:arcTo wR="10800" hR="10800" stAng="5561027" swAng="4620683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1600" y="3628800"/>
              <a:ext cx="139680" cy="10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343" y="13143"/>
                  </a:moveTo>
                  <a:arcTo wR="10800" hR="10800" stAng="751729" swAng="464827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343" y="13143"/>
                  </a:moveTo>
                  <a:arcTo wR="10800" hR="10800" stAng="751729" swAng="4648271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3576600" y="3652920"/>
              <a:ext cx="19080" cy="4104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97120" y="3616200"/>
              <a:ext cx="136800" cy="10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8" y="8198"/>
                  </a:moveTo>
                  <a:arcTo wR="10800" hR="10800" stAng="-9963664" swAng="4483731"/>
                  <a:lnTo>
                    <a:pt x="10800" y="10800"/>
                  </a:lnTo>
                  <a:close/>
                </a:path>
                <a:path fill="none" w="21600" h="21600">
                  <a:moveTo>
                    <a:pt x="318" y="8198"/>
                  </a:moveTo>
                  <a:arcTo wR="10800" hR="10800" stAng="-9963664" swAng="4483731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590640" y="3614760"/>
              <a:ext cx="139680" cy="1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5" y="3"/>
                  </a:moveTo>
                  <a:arcTo wR="10800" hR="10800" stAng="-5478117" swAng="44213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5" y="3"/>
                  </a:moveTo>
                  <a:arcTo wR="10800" hR="10800" stAng="-5478117" swAng="4421363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18080" y="3648240"/>
              <a:ext cx="33120" cy="5076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42200" y="3627720"/>
              <a:ext cx="138600" cy="1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47" y="21597"/>
                  </a:moveTo>
                  <a:arcTo wR="10800" hR="10800" stAng="5480557" swAng="47011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47" y="21597"/>
                  </a:moveTo>
                  <a:arcTo wR="10800" hR="10800" stAng="5480557" swAng="4701152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693520" y="3842640"/>
            <a:ext cx="1563840" cy="671040"/>
            <a:chOff x="2693520" y="3842640"/>
            <a:chExt cx="1563840" cy="671040"/>
          </a:xfrm>
        </p:grpSpPr>
        <p:grpSp>
          <p:nvGrpSpPr>
            <p:cNvPr id="364" name=""/>
            <p:cNvGrpSpPr/>
            <p:nvPr/>
          </p:nvGrpSpPr>
          <p:grpSpPr>
            <a:xfrm>
              <a:off x="2693520" y="3842640"/>
              <a:ext cx="858240" cy="389520"/>
              <a:chOff x="2693520" y="3842640"/>
              <a:chExt cx="858240" cy="389520"/>
            </a:xfrm>
          </p:grpSpPr>
          <p:sp>
            <p:nvSpPr>
              <p:cNvPr id="365" name=""/>
              <p:cNvSpPr/>
              <p:nvPr/>
            </p:nvSpPr>
            <p:spPr>
              <a:xfrm rot="1020000">
                <a:off x="2700720" y="3859560"/>
                <a:ext cx="126720" cy="6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04" y="13313"/>
                    </a:moveTo>
                    <a:arcTo wR="10800" hR="10800" stAng="807255" swAng="4772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04" y="13313"/>
                    </a:moveTo>
                    <a:arcTo wR="10800" hR="10800" stAng="807255" swAng="4772653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2813040" y="3901680"/>
                <a:ext cx="22320" cy="1764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1820000">
                <a:off x="2824200" y="3894120"/>
                <a:ext cx="128160" cy="7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32" y="12695"/>
                    </a:moveTo>
                    <a:arcTo wR="10800" hR="10800" stAng="606445" swAng="49687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32" y="12695"/>
                    </a:moveTo>
                    <a:arcTo wR="10800" hR="10800" stAng="606445" swAng="4968721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1820000">
                <a:off x="2815200" y="3894120"/>
                <a:ext cx="128520" cy="6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48" y="21586"/>
                    </a:moveTo>
                    <a:arcTo wR="10800" hR="10800" stAng="5575926" swAng="45770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48" y="21586"/>
                    </a:moveTo>
                    <a:arcTo wR="10800" hR="10800" stAng="5575926" swAng="4577016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935440" y="3940200"/>
                <a:ext cx="14040" cy="4428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020000">
                <a:off x="2943720" y="3958560"/>
                <a:ext cx="129240" cy="6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48" y="21586"/>
                    </a:moveTo>
                    <a:arcTo wR="10800" hR="10800" stAng="5575926" swAng="45770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48" y="21586"/>
                    </a:moveTo>
                    <a:arcTo wR="10800" hR="10800" stAng="5575926" swAng="4577016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020000">
                <a:off x="2937960" y="3957120"/>
                <a:ext cx="125280" cy="7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32" y="12696"/>
                    </a:moveTo>
                    <a:arcTo wR="10800" hR="10800" stAng="606817" swAng="47931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32" y="12696"/>
                    </a:moveTo>
                    <a:arcTo wR="10800" hR="10800" stAng="606817" swAng="4793183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3044880" y="3993840"/>
                <a:ext cx="33120" cy="2844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1820000">
                <a:off x="3062520" y="3988080"/>
                <a:ext cx="128880" cy="7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32" y="12695"/>
                    </a:moveTo>
                    <a:arcTo wR="10800" hR="10800" stAng="606445" swAng="49687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32" y="12695"/>
                    </a:moveTo>
                    <a:arcTo wR="10800" hR="10800" stAng="606445" swAng="4968721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1820000">
                <a:off x="3051360" y="3987720"/>
                <a:ext cx="128520" cy="6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24" y="21596"/>
                    </a:moveTo>
                    <a:arcTo wR="10800" hR="10800" stAng="5487821" swAng="46787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24" y="21596"/>
                    </a:moveTo>
                    <a:arcTo wR="10800" hR="10800" stAng="5487821" swAng="4678774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70160" y="4032360"/>
                <a:ext cx="17640" cy="4608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020000">
                <a:off x="3180600" y="4050360"/>
                <a:ext cx="129240" cy="6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24" y="21596"/>
                    </a:moveTo>
                    <a:arcTo wR="10800" hR="10800" stAng="5487821" swAng="46787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24" y="21596"/>
                    </a:moveTo>
                    <a:arcTo wR="10800" hR="10800" stAng="5487821" swAng="4678774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020000">
                <a:off x="3172680" y="4051440"/>
                <a:ext cx="126000" cy="6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04" y="13313"/>
                    </a:moveTo>
                    <a:arcTo wR="10800" hR="10800" stAng="807255" swAng="4772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04" y="13313"/>
                    </a:moveTo>
                    <a:arcTo wR="10800" hR="10800" stAng="807255" swAng="4772653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3284640" y="4088880"/>
                <a:ext cx="21960" cy="2412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1820000">
                <a:off x="3292560" y="4083120"/>
                <a:ext cx="131040" cy="7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33" y="12694"/>
                    </a:moveTo>
                    <a:arcTo wR="10800" hR="10800" stAng="606092" swAng="49649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33" y="12694"/>
                    </a:moveTo>
                    <a:arcTo wR="10800" hR="10800" stAng="606092" swAng="4964910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1820000">
                <a:off x="3288960" y="4084560"/>
                <a:ext cx="125280" cy="6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17" y="21596"/>
                    </a:moveTo>
                    <a:arcTo wR="10800" hR="10800" stAng="5490016" swAng="46916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17" y="21596"/>
                    </a:moveTo>
                    <a:arcTo wR="10800" hR="10800" stAng="5490016" swAng="4691694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402000" y="4125960"/>
                <a:ext cx="15840" cy="4608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020000">
                <a:off x="3416400" y="4145040"/>
                <a:ext cx="128160" cy="6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24" y="21596"/>
                    </a:moveTo>
                    <a:arcTo wR="10800" hR="10800" stAng="5487821" swAng="46938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24" y="21596"/>
                    </a:moveTo>
                    <a:arcTo wR="10800" hR="10800" stAng="5487821" swAng="4693889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402000" y="4128480"/>
              <a:ext cx="855360" cy="385200"/>
              <a:chOff x="3402000" y="4128480"/>
              <a:chExt cx="855360" cy="385200"/>
            </a:xfrm>
          </p:grpSpPr>
          <p:sp>
            <p:nvSpPr>
              <p:cNvPr id="384" name=""/>
              <p:cNvSpPr/>
              <p:nvPr/>
            </p:nvSpPr>
            <p:spPr>
              <a:xfrm rot="1020000">
                <a:off x="3409200" y="4145040"/>
                <a:ext cx="126000" cy="6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04" y="13313"/>
                    </a:moveTo>
                    <a:arcTo wR="10800" hR="10800" stAng="807255" swAng="4772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04" y="13313"/>
                    </a:moveTo>
                    <a:arcTo wR="10800" hR="10800" stAng="807255" swAng="4772653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3521160" y="4184640"/>
                <a:ext cx="20520" cy="2232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1820000">
                <a:off x="3532320" y="4176720"/>
                <a:ext cx="128160" cy="7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32" y="12695"/>
                    </a:moveTo>
                    <a:arcTo wR="10800" hR="10800" stAng="606445" swAng="49687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32" y="12695"/>
                    </a:moveTo>
                    <a:arcTo wR="10800" hR="10800" stAng="606445" swAng="4968721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1820000">
                <a:off x="3529080" y="4179240"/>
                <a:ext cx="121680" cy="6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21" y="21584"/>
                    </a:moveTo>
                    <a:arcTo wR="10800" hR="10800" stAng="5584513" swAng="45812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21" y="21584"/>
                    </a:moveTo>
                    <a:arcTo wR="10800" hR="10800" stAng="5584513" swAng="4581288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641760" y="4226040"/>
                <a:ext cx="17280" cy="4284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020000">
                <a:off x="3650760" y="4235400"/>
                <a:ext cx="128520" cy="6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24" y="21596"/>
                    </a:moveTo>
                    <a:arcTo wR="10800" hR="10800" stAng="5487821" swAng="46787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24" y="21596"/>
                    </a:moveTo>
                    <a:arcTo wR="10800" hR="10800" stAng="5487821" swAng="4678774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020000">
                <a:off x="3644640" y="4241520"/>
                <a:ext cx="128160" cy="6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17" y="12779"/>
                    </a:moveTo>
                    <a:arcTo wR="10800" hR="10800" stAng="633405" swAng="49421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17" y="12779"/>
                    </a:moveTo>
                    <a:arcTo wR="10800" hR="10800" stAng="633405" swAng="4942123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3754440" y="4279680"/>
                <a:ext cx="34920" cy="2700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1820000">
                <a:off x="3772080" y="4272120"/>
                <a:ext cx="128160" cy="7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32" y="12695"/>
                    </a:moveTo>
                    <a:arcTo wR="10800" hR="10800" stAng="606445" swAng="49687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32" y="12695"/>
                    </a:moveTo>
                    <a:arcTo wR="10800" hR="10800" stAng="606445" swAng="4968721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1820000">
                <a:off x="3759480" y="4274640"/>
                <a:ext cx="128160" cy="7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25" y="21596"/>
                    </a:moveTo>
                    <a:arcTo wR="10800" hR="10800" stAng="5487640" swAng="47204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25" y="21596"/>
                    </a:moveTo>
                    <a:arcTo wR="10800" hR="10800" stAng="5487640" swAng="4720411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876840" y="4313160"/>
                <a:ext cx="17280" cy="4788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020000">
                <a:off x="3890880" y="4333680"/>
                <a:ext cx="125280" cy="6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17" y="21596"/>
                    </a:moveTo>
                    <a:arcTo wR="10800" hR="10800" stAng="5490016" swAng="467619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17" y="21596"/>
                    </a:moveTo>
                    <a:arcTo wR="10800" hR="10800" stAng="5490016" swAng="4676192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020000">
                <a:off x="3877920" y="4333680"/>
                <a:ext cx="128160" cy="6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17" y="12779"/>
                    </a:moveTo>
                    <a:arcTo wR="10800" hR="10800" stAng="633405" swAng="49421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17" y="12779"/>
                    </a:moveTo>
                    <a:arcTo wR="10800" hR="10800" stAng="633405" swAng="4942123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3995640" y="4375080"/>
                <a:ext cx="19080" cy="2088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1820000">
                <a:off x="4004640" y="4365360"/>
                <a:ext cx="126360" cy="7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41" y="13150"/>
                    </a:moveTo>
                    <a:arcTo wR="10800" hR="10800" stAng="754163" swAng="48253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41" y="13150"/>
                    </a:moveTo>
                    <a:arcTo wR="10800" hR="10800" stAng="754163" swAng="4825374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1820000">
                <a:off x="3993480" y="4366440"/>
                <a:ext cx="129240" cy="6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24" y="21596"/>
                    </a:moveTo>
                    <a:arcTo wR="10800" hR="10800" stAng="5487821" swAng="46787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24" y="21596"/>
                    </a:moveTo>
                    <a:arcTo wR="10800" hR="10800" stAng="5487821" swAng="4678774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111560" y="4410000"/>
                <a:ext cx="19080" cy="4788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020000">
                <a:off x="4124520" y="4427280"/>
                <a:ext cx="125280" cy="6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35" y="21585"/>
                    </a:moveTo>
                    <a:arcTo wR="10800" hR="10800" stAng="5579908" swAng="45862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35" y="21585"/>
                    </a:moveTo>
                    <a:arcTo wR="10800" hR="10800" stAng="5579908" swAng="4586299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2" name=""/>
          <p:cNvGrpSpPr/>
          <p:nvPr/>
        </p:nvGrpSpPr>
        <p:grpSpPr>
          <a:xfrm>
            <a:off x="2638440" y="2885760"/>
            <a:ext cx="451800" cy="506880"/>
            <a:chOff x="2638440" y="2885760"/>
            <a:chExt cx="451800" cy="506880"/>
          </a:xfrm>
        </p:grpSpPr>
        <p:sp>
          <p:nvSpPr>
            <p:cNvPr id="403" name=""/>
            <p:cNvSpPr/>
            <p:nvPr/>
          </p:nvSpPr>
          <p:spPr>
            <a:xfrm rot="18660000">
              <a:off x="2666160" y="3270960"/>
              <a:ext cx="80280" cy="11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373" y="13003"/>
                  </a:moveTo>
                  <a:arcTo wR="10800" hR="10800" stAng="706098" swAng="497637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373" y="13003"/>
                  </a:moveTo>
                  <a:arcTo wR="10800" hR="10800" stAng="706098" swAng="4976374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flipV="1">
              <a:off x="2712600" y="3266640"/>
              <a:ext cx="25560" cy="3492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7860000">
              <a:off x="2709360" y="3197880"/>
              <a:ext cx="80280" cy="11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373" y="13003"/>
                  </a:moveTo>
                  <a:arcTo wR="10800" hR="10800" stAng="706098" swAng="497637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373" y="13003"/>
                  </a:moveTo>
                  <a:arcTo wR="10800" hR="10800" stAng="706098" swAng="4976374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7860000">
              <a:off x="2707200" y="3197520"/>
              <a:ext cx="77040" cy="10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76" y="21560"/>
                  </a:moveTo>
                  <a:arcTo wR="10800" hR="10800" stAng="5694438" swAng="4505083"/>
                  <a:lnTo>
                    <a:pt x="10800" y="10800"/>
                  </a:lnTo>
                  <a:close/>
                </a:path>
                <a:path fill="none" w="21600" h="21600">
                  <a:moveTo>
                    <a:pt x="9876" y="21560"/>
                  </a:moveTo>
                  <a:arcTo wR="10800" hR="10800" stAng="5694438" swAng="4505083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57600" y="3214800"/>
              <a:ext cx="47520" cy="2196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8660000">
              <a:off x="2774520" y="3145320"/>
              <a:ext cx="77760" cy="11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4" y="21564"/>
                  </a:moveTo>
                  <a:arcTo wR="10800" hR="10800" stAng="5682471" swAng="4345029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4" y="21564"/>
                  </a:moveTo>
                  <a:arcTo wR="10800" hR="10800" stAng="5682471" swAng="4345029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18660000">
              <a:off x="2774880" y="3144240"/>
              <a:ext cx="74520" cy="11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372" y="13006"/>
                  </a:moveTo>
                  <a:arcTo wR="10800" hR="10800" stAng="707291" swAng="469270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372" y="13006"/>
                  </a:moveTo>
                  <a:arcTo wR="10800" hR="10800" stAng="707291" swAng="4692709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2819160" y="3135240"/>
              <a:ext cx="28440" cy="4752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7860000">
              <a:off x="2817720" y="3072240"/>
              <a:ext cx="77400" cy="11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306" y="13302"/>
                  </a:moveTo>
                  <a:arcTo wR="10800" hR="10800" stAng="803550" swAng="487892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306" y="13302"/>
                  </a:moveTo>
                  <a:arcTo wR="10800" hR="10800" stAng="803550" swAng="4878921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7860000">
              <a:off x="2811960" y="3072600"/>
              <a:ext cx="77040" cy="11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37" y="21590"/>
                  </a:moveTo>
                  <a:arcTo wR="10800" hR="10800" stAng="5547362" swAng="46689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37" y="21590"/>
                  </a:moveTo>
                  <a:arcTo wR="10800" hR="10800" stAng="5547362" swAng="4668983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57680" y="3086280"/>
              <a:ext cx="52200" cy="2052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18660000">
              <a:off x="2880720" y="3017520"/>
              <a:ext cx="77040" cy="10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76" y="21560"/>
                  </a:moveTo>
                  <a:arcTo wR="10800" hR="10800" stAng="5694438" swAng="4505083"/>
                  <a:lnTo>
                    <a:pt x="10800" y="10800"/>
                  </a:lnTo>
                  <a:close/>
                </a:path>
                <a:path fill="none" w="21600" h="21600">
                  <a:moveTo>
                    <a:pt x="9876" y="21560"/>
                  </a:moveTo>
                  <a:arcTo wR="10800" hR="10800" stAng="5694438" swAng="4505083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8660000">
              <a:off x="2878920" y="3021840"/>
              <a:ext cx="80280" cy="11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373" y="13003"/>
                  </a:moveTo>
                  <a:arcTo wR="10800" hR="10800" stAng="706098" swAng="497637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373" y="13003"/>
                  </a:moveTo>
                  <a:arcTo wR="10800" hR="10800" stAng="706098" swAng="4976374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2922480" y="3017880"/>
              <a:ext cx="23760" cy="3312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7860000">
              <a:off x="2922120" y="2948760"/>
              <a:ext cx="80280" cy="11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373" y="13003"/>
                  </a:moveTo>
                  <a:arcTo wR="10800" hR="10800" stAng="706098" swAng="497637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373" y="13003"/>
                  </a:moveTo>
                  <a:arcTo wR="10800" hR="10800" stAng="706098" swAng="4976374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7860000">
              <a:off x="2918160" y="2948400"/>
              <a:ext cx="77040" cy="10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76" y="21560"/>
                  </a:moveTo>
                  <a:arcTo wR="10800" hR="10800" stAng="5694438" swAng="4505083"/>
                  <a:lnTo>
                    <a:pt x="10800" y="10800"/>
                  </a:lnTo>
                  <a:close/>
                </a:path>
                <a:path fill="none" w="21600" h="21600">
                  <a:moveTo>
                    <a:pt x="9876" y="21560"/>
                  </a:moveTo>
                  <a:arcTo wR="10800" hR="10800" stAng="5694438" swAng="4505083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60640" y="2962440"/>
              <a:ext cx="54000" cy="2376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8660000">
              <a:off x="2984040" y="2895840"/>
              <a:ext cx="77040" cy="11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37" y="21590"/>
                  </a:moveTo>
                  <a:arcTo wR="10800" hR="10800" stAng="5547362" swAng="46689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37" y="21590"/>
                  </a:moveTo>
                  <a:arcTo wR="10800" hR="10800" stAng="5547362" swAng="4668983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048120" y="2971800"/>
            <a:ext cx="464796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495680" y="4495680"/>
            <a:ext cx="3886200" cy="1219320"/>
            <a:chOff x="4495680" y="4495680"/>
            <a:chExt cx="3886200" cy="1219320"/>
          </a:xfrm>
        </p:grpSpPr>
        <p:sp>
          <p:nvSpPr>
            <p:cNvPr id="423" name=""/>
            <p:cNvSpPr/>
            <p:nvPr/>
          </p:nvSpPr>
          <p:spPr>
            <a:xfrm>
              <a:off x="4495680" y="4495680"/>
              <a:ext cx="3886200" cy="121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00520" y="4495680"/>
              <a:ext cx="0" cy="121932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49800" y="4495680"/>
              <a:ext cx="0" cy="1219320"/>
            </a:xfrm>
            <a:prstGeom prst="line">
              <a:avLst/>
            </a:prstGeom>
            <a:ln w="76320">
              <a:solidFill>
                <a:srgbClr val="0031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254640" y="4495680"/>
              <a:ext cx="0" cy="1219320"/>
            </a:xfrm>
            <a:prstGeom prst="line">
              <a:avLst/>
            </a:prstGeom>
            <a:ln w="76320">
              <a:solidFill>
                <a:srgbClr val="009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728120" y="4495680"/>
              <a:ext cx="0" cy="1219320"/>
            </a:xfrm>
            <a:prstGeom prst="line">
              <a:avLst/>
            </a:prstGeom>
            <a:ln w="7632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 flipV="1">
            <a:off x="6248520" y="3657600"/>
            <a:ext cx="0" cy="914400"/>
          </a:xfrm>
          <a:prstGeom prst="line">
            <a:avLst/>
          </a:prstGeom>
          <a:ln w="507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809880" y="3657600"/>
            <a:ext cx="243864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7696080" y="2895480"/>
            <a:ext cx="0" cy="1524240"/>
          </a:xfrm>
          <a:prstGeom prst="line">
            <a:avLst/>
          </a:prstGeom>
          <a:ln w="507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4419720"/>
            <a:ext cx="990720" cy="457200"/>
          </a:xfrm>
          <a:prstGeom prst="line">
            <a:avLst/>
          </a:prstGeom>
          <a:ln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 Bohr Model Equ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Rydberg constant -2.178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18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 is the energy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 = -2.178 x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-1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 / n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 = 1 is called the ground sta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d to find the energy of one hydrogen electr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e are worried about the change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 the electron moves from one energy level to anoth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0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 = E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final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E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initia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spcAft>
                <a:spcPts val="1199"/>
              </a:spcAft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v = -2.178 x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-1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 x (1/ n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- 1/ 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e the energy need to move an electron from its first to third energy level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e the frequency released when an electron moves from n= 4 to n=2 in a hydrogen ato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e the energy released when an electron moves from n= 5 to n=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en is it true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ly for hydrogen atoms and other monoelectronic species (H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+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the  negative sign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/c to increase the energy of the electron you make it closer to the nucleu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 Bohr Mode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esn’t work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ly works for hydrogen atom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s don’t move in circl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quantization of energy is righ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 Quantum Mechanical Mode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totally new approach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Broglie said matter could be like a wav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Broglie said they were like standing wav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vibrations of a stringed instrume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chroedinger’s Equ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wave is a function of (x, y, z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utions to the equation are called orbital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se are not Bohr orbit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ch solution is tied to a certain energ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se are the energy level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arts of a wav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-75960" y="2739960"/>
            <a:ext cx="9127440" cy="1374480"/>
            <a:chOff x="-75960" y="2739960"/>
            <a:chExt cx="9127440" cy="1374480"/>
          </a:xfrm>
        </p:grpSpPr>
        <p:sp>
          <p:nvSpPr>
            <p:cNvPr id="55" name=""/>
            <p:cNvSpPr/>
            <p:nvPr/>
          </p:nvSpPr>
          <p:spPr>
            <a:xfrm>
              <a:off x="-75960" y="2895840"/>
              <a:ext cx="121896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4" y="13393"/>
                  </a:moveTo>
                  <a:arcTo wR="10800" hR="10800" stAng="833471" swAng="45665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4" y="13393"/>
                  </a:moveTo>
                  <a:arcTo wR="10800" hR="10800" stAng="833471" swAng="4566529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1117440" y="3200400"/>
              <a:ext cx="176400" cy="4572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80160" y="2743200"/>
              <a:ext cx="12178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" y="8161"/>
                  </a:moveTo>
                  <a:arcTo wR="10800" hR="10800" stAng="-9951323" swAng="454237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" y="8161"/>
                  </a:moveTo>
                  <a:arcTo wR="10800" hR="10800" stAng="-9951323" swAng="4542371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18960" y="2739960"/>
              <a:ext cx="1220040" cy="121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2" y="0"/>
                  </a:moveTo>
                  <a:arcTo wR="10800" hR="10800" stAng="-5408952" swAng="45667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2" y="0"/>
                  </a:moveTo>
                  <a:arcTo wR="10800" hR="10800" stAng="-5408952" swAng="4566778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386080" y="3200400"/>
              <a:ext cx="257040" cy="557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75080" y="2892600"/>
              <a:ext cx="12186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2" y="21600"/>
                  </a:moveTo>
                  <a:arcTo wR="10800" hR="10800" stAng="5408976" swAng="45683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2" y="21600"/>
                  </a:moveTo>
                  <a:arcTo wR="10800" hR="10800" stAng="5408976" swAng="4568394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90560" y="2895840"/>
              <a:ext cx="12196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4" y="13393"/>
                  </a:moveTo>
                  <a:arcTo wR="10800" hR="10800" stAng="833471" swAng="45665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4" y="13393"/>
                  </a:moveTo>
                  <a:arcTo wR="10800" hR="10800" stAng="833471" swAng="4566529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3743280" y="3155760"/>
              <a:ext cx="257400" cy="585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47040" y="2743200"/>
              <a:ext cx="12178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" y="8161"/>
                  </a:moveTo>
                  <a:arcTo wR="10800" hR="10800" stAng="-9951323" swAng="454237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" y="8161"/>
                  </a:moveTo>
                  <a:arcTo wR="10800" hR="10800" stAng="-9951323" swAng="4542371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85840" y="2739960"/>
              <a:ext cx="1220040" cy="121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2" y="0"/>
                  </a:moveTo>
                  <a:arcTo wR="10800" hR="10800" stAng="-5408952" swAng="45667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2" y="0"/>
                  </a:moveTo>
                  <a:arcTo wR="10800" hR="10800" stAng="-5408952" swAng="4566778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29200" y="3124080"/>
              <a:ext cx="271440" cy="590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1960" y="2892600"/>
              <a:ext cx="12186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2" y="21600"/>
                  </a:moveTo>
                  <a:arcTo wR="10800" hR="10800" stAng="5408976" swAng="45683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2" y="21600"/>
                  </a:moveTo>
                  <a:arcTo wR="10800" hR="10800" stAng="5408976" swAng="4568394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81840" y="2895840"/>
              <a:ext cx="121896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4" y="13393"/>
                  </a:moveTo>
                  <a:arcTo wR="10800" hR="10800" stAng="833471" swAng="45665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4" y="13393"/>
                  </a:moveTo>
                  <a:arcTo wR="10800" hR="10800" stAng="833471" swAng="4566529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375240" y="3200400"/>
              <a:ext cx="176400" cy="4572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37960" y="2743200"/>
              <a:ext cx="12178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" y="8161"/>
                  </a:moveTo>
                  <a:arcTo wR="10800" hR="10800" stAng="-9951323" swAng="454237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" y="8161"/>
                  </a:moveTo>
                  <a:arcTo wR="10800" hR="10800" stAng="-9951323" swAng="4542371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76760" y="2739960"/>
              <a:ext cx="1220040" cy="121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2" y="0"/>
                  </a:moveTo>
                  <a:arcTo wR="10800" hR="10800" stAng="-5408952" swAng="45667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2" y="0"/>
                  </a:moveTo>
                  <a:arcTo wR="10800" hR="10800" stAng="-5408952" swAng="4566778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20120" y="3124080"/>
              <a:ext cx="295200" cy="604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32880" y="2892600"/>
              <a:ext cx="12186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2" y="21600"/>
                  </a:moveTo>
                  <a:arcTo wR="10800" hR="10800" stAng="5408976" swAng="45683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2" y="21600"/>
                  </a:moveTo>
                  <a:arcTo wR="10800" hR="10800" stAng="5408976" swAng="4568394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905120" y="2285640"/>
            <a:ext cx="2666880" cy="152280"/>
            <a:chOff x="1905120" y="2285640"/>
            <a:chExt cx="2666880" cy="152280"/>
          </a:xfrm>
        </p:grpSpPr>
        <p:sp>
          <p:nvSpPr>
            <p:cNvPr id="74" name=""/>
            <p:cNvSpPr/>
            <p:nvPr/>
          </p:nvSpPr>
          <p:spPr>
            <a:xfrm>
              <a:off x="1905120" y="2362320"/>
              <a:ext cx="266688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572000" y="2285640"/>
              <a:ext cx="0" cy="1522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1905120" y="2285640"/>
              <a:ext cx="0" cy="1522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031920" y="1722600"/>
            <a:ext cx="408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13920" y="1189080"/>
            <a:ext cx="2155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Wavel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6280" y="4694400"/>
            <a:ext cx="7711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requency = number of cycles in one 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ed in hertz    1 hertz = 1 cycle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re is a limit to what we can kno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can’t know how the electron is moving or how  it gets from one energy level to anoth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Heisenberg Uncertainty Principl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is a limit to how well we can know both the position and the momentum of an objec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at does the wave Function mean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hing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is not possible to visually map i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quare of the function is the probability of finding an electron  near a particular spo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st way to visualize it is by mapping the places where the electron is likely to be foun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914400" y="533520"/>
            <a:ext cx="7696080" cy="52578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-4496040"/>
            <a:ext cx="15391800" cy="102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-323280" y="2713320"/>
            <a:ext cx="1995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405960" y="5761080"/>
            <a:ext cx="385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tance from 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fining the siz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nodal surfac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ize that  encloses 90% to the total electron probabilit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at a certain distance, but a most likely distanc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the first solution it is a sphere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Quantum Number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are many solutions to Schroedinger’s eq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ch solution can be described with quantum numbers that describe some aspect of the solutio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al quantum number (n) size and energy of an orbital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s integer values &gt;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Quantum number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gular momentum quantum number </a:t>
            </a:r>
            <a:r>
              <a:rPr b="1" lang="en-US" sz="2800" spc="-1" strike="noStrike">
                <a:solidFill>
                  <a:srgbClr val="ffffff"/>
                </a:solidFill>
                <a:latin typeface="Gigi"/>
              </a:rPr>
              <a:t>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pe of the orbita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ger values from 0 to n-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gi"/>
              </a:rPr>
              <a:t>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0  is called 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gi"/>
              </a:rPr>
              <a:t>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 is called 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gi"/>
              </a:rPr>
              <a:t>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2 is called 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gi"/>
              </a:rPr>
              <a:t>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3 is called 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gi"/>
              </a:rPr>
              <a:t>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4 is called 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5800" y="87552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 orbi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998640" y="2021040"/>
            <a:ext cx="6983280" cy="3652560"/>
          </a:xfrm>
          <a:custGeom>
            <a:avLst/>
            <a:gdLst/>
            <a:ahLst/>
            <a:rect l="l" t="t" r="r" b="b"/>
            <a:pathLst>
              <a:path w="4399" h="2301">
                <a:moveTo>
                  <a:pt x="0" y="0"/>
                </a:moveTo>
                <a:lnTo>
                  <a:pt x="4398" y="0"/>
                </a:lnTo>
                <a:lnTo>
                  <a:pt x="4398" y="2300"/>
                </a:lnTo>
                <a:lnTo>
                  <a:pt x="0" y="2300"/>
                </a:lnTo>
                <a:lnTo>
                  <a:pt x="0" y="0"/>
                </a:lnTo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424160" y="4135320"/>
            <a:ext cx="1120680" cy="1252800"/>
          </a:xfrm>
          <a:custGeom>
            <a:avLst/>
            <a:gdLst/>
            <a:ahLst/>
            <a:rect l="l" t="t" r="r" b="b"/>
            <a:pathLst>
              <a:path w="706" h="789">
                <a:moveTo>
                  <a:pt x="575" y="92"/>
                </a:moveTo>
                <a:lnTo>
                  <a:pt x="563" y="82"/>
                </a:lnTo>
                <a:lnTo>
                  <a:pt x="550" y="71"/>
                </a:lnTo>
                <a:lnTo>
                  <a:pt x="536" y="62"/>
                </a:lnTo>
                <a:lnTo>
                  <a:pt x="524" y="54"/>
                </a:lnTo>
                <a:lnTo>
                  <a:pt x="509" y="45"/>
                </a:lnTo>
                <a:lnTo>
                  <a:pt x="495" y="38"/>
                </a:lnTo>
                <a:lnTo>
                  <a:pt x="480" y="31"/>
                </a:lnTo>
                <a:lnTo>
                  <a:pt x="466" y="24"/>
                </a:lnTo>
                <a:lnTo>
                  <a:pt x="451" y="19"/>
                </a:lnTo>
                <a:lnTo>
                  <a:pt x="435" y="14"/>
                </a:lnTo>
                <a:lnTo>
                  <a:pt x="419" y="10"/>
                </a:lnTo>
                <a:lnTo>
                  <a:pt x="403" y="6"/>
                </a:lnTo>
                <a:lnTo>
                  <a:pt x="387" y="4"/>
                </a:lnTo>
                <a:lnTo>
                  <a:pt x="372" y="2"/>
                </a:lnTo>
                <a:lnTo>
                  <a:pt x="355" y="1"/>
                </a:lnTo>
                <a:lnTo>
                  <a:pt x="338" y="0"/>
                </a:lnTo>
                <a:lnTo>
                  <a:pt x="318" y="1"/>
                </a:lnTo>
                <a:lnTo>
                  <a:pt x="298" y="2"/>
                </a:lnTo>
                <a:lnTo>
                  <a:pt x="279" y="5"/>
                </a:lnTo>
                <a:lnTo>
                  <a:pt x="259" y="9"/>
                </a:lnTo>
                <a:lnTo>
                  <a:pt x="240" y="14"/>
                </a:lnTo>
                <a:lnTo>
                  <a:pt x="222" y="20"/>
                </a:lnTo>
                <a:lnTo>
                  <a:pt x="204" y="27"/>
                </a:lnTo>
                <a:lnTo>
                  <a:pt x="186" y="35"/>
                </a:lnTo>
                <a:lnTo>
                  <a:pt x="212" y="34"/>
                </a:lnTo>
                <a:lnTo>
                  <a:pt x="239" y="34"/>
                </a:lnTo>
                <a:lnTo>
                  <a:pt x="264" y="35"/>
                </a:lnTo>
                <a:lnTo>
                  <a:pt x="290" y="36"/>
                </a:lnTo>
                <a:lnTo>
                  <a:pt x="316" y="38"/>
                </a:lnTo>
                <a:lnTo>
                  <a:pt x="341" y="40"/>
                </a:lnTo>
                <a:lnTo>
                  <a:pt x="366" y="43"/>
                </a:lnTo>
                <a:lnTo>
                  <a:pt x="392" y="46"/>
                </a:lnTo>
                <a:lnTo>
                  <a:pt x="416" y="50"/>
                </a:lnTo>
                <a:lnTo>
                  <a:pt x="440" y="55"/>
                </a:lnTo>
                <a:lnTo>
                  <a:pt x="463" y="59"/>
                </a:lnTo>
                <a:lnTo>
                  <a:pt x="487" y="65"/>
                </a:lnTo>
                <a:lnTo>
                  <a:pt x="510" y="71"/>
                </a:lnTo>
                <a:lnTo>
                  <a:pt x="532" y="78"/>
                </a:lnTo>
                <a:lnTo>
                  <a:pt x="554" y="84"/>
                </a:lnTo>
                <a:lnTo>
                  <a:pt x="575" y="92"/>
                </a:lnTo>
                <a:lnTo>
                  <a:pt x="0" y="558"/>
                </a:lnTo>
                <a:lnTo>
                  <a:pt x="12" y="583"/>
                </a:lnTo>
                <a:lnTo>
                  <a:pt x="25" y="607"/>
                </a:lnTo>
                <a:lnTo>
                  <a:pt x="40" y="629"/>
                </a:lnTo>
                <a:lnTo>
                  <a:pt x="57" y="651"/>
                </a:lnTo>
                <a:lnTo>
                  <a:pt x="74" y="671"/>
                </a:lnTo>
                <a:lnTo>
                  <a:pt x="93" y="690"/>
                </a:lnTo>
                <a:lnTo>
                  <a:pt x="114" y="708"/>
                </a:lnTo>
                <a:lnTo>
                  <a:pt x="135" y="723"/>
                </a:lnTo>
                <a:lnTo>
                  <a:pt x="157" y="738"/>
                </a:lnTo>
                <a:lnTo>
                  <a:pt x="181" y="751"/>
                </a:lnTo>
                <a:lnTo>
                  <a:pt x="205" y="762"/>
                </a:lnTo>
                <a:lnTo>
                  <a:pt x="230" y="771"/>
                </a:lnTo>
                <a:lnTo>
                  <a:pt x="257" y="778"/>
                </a:lnTo>
                <a:lnTo>
                  <a:pt x="283" y="784"/>
                </a:lnTo>
                <a:lnTo>
                  <a:pt x="310" y="787"/>
                </a:lnTo>
                <a:lnTo>
                  <a:pt x="338" y="788"/>
                </a:lnTo>
                <a:lnTo>
                  <a:pt x="355" y="787"/>
                </a:lnTo>
                <a:lnTo>
                  <a:pt x="372" y="786"/>
                </a:lnTo>
                <a:lnTo>
                  <a:pt x="388" y="784"/>
                </a:lnTo>
                <a:lnTo>
                  <a:pt x="405" y="781"/>
                </a:lnTo>
                <a:lnTo>
                  <a:pt x="422" y="778"/>
                </a:lnTo>
                <a:lnTo>
                  <a:pt x="438" y="773"/>
                </a:lnTo>
                <a:lnTo>
                  <a:pt x="454" y="768"/>
                </a:lnTo>
                <a:lnTo>
                  <a:pt x="470" y="762"/>
                </a:lnTo>
                <a:lnTo>
                  <a:pt x="485" y="756"/>
                </a:lnTo>
                <a:lnTo>
                  <a:pt x="499" y="749"/>
                </a:lnTo>
                <a:lnTo>
                  <a:pt x="514" y="740"/>
                </a:lnTo>
                <a:lnTo>
                  <a:pt x="528" y="732"/>
                </a:lnTo>
                <a:lnTo>
                  <a:pt x="542" y="722"/>
                </a:lnTo>
                <a:lnTo>
                  <a:pt x="555" y="713"/>
                </a:lnTo>
                <a:lnTo>
                  <a:pt x="568" y="702"/>
                </a:lnTo>
                <a:lnTo>
                  <a:pt x="581" y="691"/>
                </a:lnTo>
                <a:lnTo>
                  <a:pt x="592" y="680"/>
                </a:lnTo>
                <a:lnTo>
                  <a:pt x="604" y="668"/>
                </a:lnTo>
                <a:lnTo>
                  <a:pt x="615" y="655"/>
                </a:lnTo>
                <a:lnTo>
                  <a:pt x="626" y="642"/>
                </a:lnTo>
                <a:lnTo>
                  <a:pt x="636" y="629"/>
                </a:lnTo>
                <a:lnTo>
                  <a:pt x="645" y="615"/>
                </a:lnTo>
                <a:lnTo>
                  <a:pt x="653" y="600"/>
                </a:lnTo>
                <a:lnTo>
                  <a:pt x="662" y="585"/>
                </a:lnTo>
                <a:lnTo>
                  <a:pt x="670" y="570"/>
                </a:lnTo>
                <a:lnTo>
                  <a:pt x="677" y="554"/>
                </a:lnTo>
                <a:lnTo>
                  <a:pt x="683" y="538"/>
                </a:lnTo>
                <a:lnTo>
                  <a:pt x="689" y="522"/>
                </a:lnTo>
                <a:lnTo>
                  <a:pt x="695" y="505"/>
                </a:lnTo>
                <a:lnTo>
                  <a:pt x="699" y="488"/>
                </a:lnTo>
                <a:lnTo>
                  <a:pt x="702" y="471"/>
                </a:lnTo>
                <a:lnTo>
                  <a:pt x="705" y="453"/>
                </a:lnTo>
                <a:lnTo>
                  <a:pt x="692" y="464"/>
                </a:lnTo>
                <a:lnTo>
                  <a:pt x="676" y="474"/>
                </a:lnTo>
                <a:lnTo>
                  <a:pt x="661" y="484"/>
                </a:lnTo>
                <a:lnTo>
                  <a:pt x="644" y="493"/>
                </a:lnTo>
                <a:lnTo>
                  <a:pt x="626" y="502"/>
                </a:lnTo>
                <a:lnTo>
                  <a:pt x="608" y="510"/>
                </a:lnTo>
                <a:lnTo>
                  <a:pt x="590" y="518"/>
                </a:lnTo>
                <a:lnTo>
                  <a:pt x="570" y="526"/>
                </a:lnTo>
                <a:lnTo>
                  <a:pt x="550" y="532"/>
                </a:lnTo>
                <a:lnTo>
                  <a:pt x="530" y="539"/>
                </a:lnTo>
                <a:lnTo>
                  <a:pt x="509" y="545"/>
                </a:lnTo>
                <a:lnTo>
                  <a:pt x="487" y="551"/>
                </a:lnTo>
                <a:lnTo>
                  <a:pt x="465" y="556"/>
                </a:lnTo>
                <a:lnTo>
                  <a:pt x="442" y="561"/>
                </a:lnTo>
                <a:lnTo>
                  <a:pt x="419" y="565"/>
                </a:lnTo>
                <a:lnTo>
                  <a:pt x="396" y="569"/>
                </a:lnTo>
                <a:lnTo>
                  <a:pt x="372" y="572"/>
                </a:lnTo>
                <a:lnTo>
                  <a:pt x="348" y="575"/>
                </a:lnTo>
                <a:lnTo>
                  <a:pt x="324" y="577"/>
                </a:lnTo>
                <a:lnTo>
                  <a:pt x="300" y="579"/>
                </a:lnTo>
                <a:lnTo>
                  <a:pt x="274" y="580"/>
                </a:lnTo>
                <a:lnTo>
                  <a:pt x="250" y="581"/>
                </a:lnTo>
                <a:lnTo>
                  <a:pt x="225" y="581"/>
                </a:lnTo>
                <a:lnTo>
                  <a:pt x="200" y="581"/>
                </a:lnTo>
                <a:lnTo>
                  <a:pt x="174" y="580"/>
                </a:lnTo>
                <a:lnTo>
                  <a:pt x="150" y="578"/>
                </a:lnTo>
                <a:lnTo>
                  <a:pt x="125" y="577"/>
                </a:lnTo>
                <a:lnTo>
                  <a:pt x="99" y="574"/>
                </a:lnTo>
                <a:lnTo>
                  <a:pt x="74" y="571"/>
                </a:lnTo>
                <a:lnTo>
                  <a:pt x="50" y="567"/>
                </a:lnTo>
                <a:lnTo>
                  <a:pt x="24" y="563"/>
                </a:lnTo>
                <a:lnTo>
                  <a:pt x="0" y="558"/>
                </a:lnTo>
                <a:lnTo>
                  <a:pt x="575" y="9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413000" y="4189320"/>
            <a:ext cx="1136520" cy="870120"/>
          </a:xfrm>
          <a:custGeom>
            <a:avLst/>
            <a:gdLst/>
            <a:ahLst/>
            <a:rect l="l" t="t" r="r" b="b"/>
            <a:pathLst>
              <a:path w="716" h="548">
                <a:moveTo>
                  <a:pt x="582" y="58"/>
                </a:moveTo>
                <a:lnTo>
                  <a:pt x="587" y="62"/>
                </a:lnTo>
                <a:lnTo>
                  <a:pt x="591" y="66"/>
                </a:lnTo>
                <a:lnTo>
                  <a:pt x="595" y="70"/>
                </a:lnTo>
                <a:lnTo>
                  <a:pt x="599" y="75"/>
                </a:lnTo>
                <a:lnTo>
                  <a:pt x="603" y="79"/>
                </a:lnTo>
                <a:lnTo>
                  <a:pt x="608" y="83"/>
                </a:lnTo>
                <a:lnTo>
                  <a:pt x="612" y="88"/>
                </a:lnTo>
                <a:lnTo>
                  <a:pt x="616" y="93"/>
                </a:lnTo>
                <a:lnTo>
                  <a:pt x="594" y="82"/>
                </a:lnTo>
                <a:lnTo>
                  <a:pt x="570" y="72"/>
                </a:lnTo>
                <a:lnTo>
                  <a:pt x="545" y="63"/>
                </a:lnTo>
                <a:lnTo>
                  <a:pt x="520" y="55"/>
                </a:lnTo>
                <a:lnTo>
                  <a:pt x="494" y="47"/>
                </a:lnTo>
                <a:lnTo>
                  <a:pt x="466" y="40"/>
                </a:lnTo>
                <a:lnTo>
                  <a:pt x="438" y="34"/>
                </a:lnTo>
                <a:lnTo>
                  <a:pt x="409" y="29"/>
                </a:lnTo>
                <a:lnTo>
                  <a:pt x="380" y="25"/>
                </a:lnTo>
                <a:lnTo>
                  <a:pt x="350" y="21"/>
                </a:lnTo>
                <a:lnTo>
                  <a:pt x="319" y="18"/>
                </a:lnTo>
                <a:lnTo>
                  <a:pt x="289" y="16"/>
                </a:lnTo>
                <a:lnTo>
                  <a:pt x="257" y="15"/>
                </a:lnTo>
                <a:lnTo>
                  <a:pt x="227" y="15"/>
                </a:lnTo>
                <a:lnTo>
                  <a:pt x="195" y="15"/>
                </a:lnTo>
                <a:lnTo>
                  <a:pt x="163" y="17"/>
                </a:lnTo>
                <a:lnTo>
                  <a:pt x="166" y="15"/>
                </a:lnTo>
                <a:lnTo>
                  <a:pt x="171" y="13"/>
                </a:lnTo>
                <a:lnTo>
                  <a:pt x="174" y="11"/>
                </a:lnTo>
                <a:lnTo>
                  <a:pt x="178" y="9"/>
                </a:lnTo>
                <a:lnTo>
                  <a:pt x="182" y="7"/>
                </a:lnTo>
                <a:lnTo>
                  <a:pt x="185" y="5"/>
                </a:lnTo>
                <a:lnTo>
                  <a:pt x="190" y="3"/>
                </a:lnTo>
                <a:lnTo>
                  <a:pt x="193" y="1"/>
                </a:lnTo>
                <a:lnTo>
                  <a:pt x="219" y="0"/>
                </a:lnTo>
                <a:lnTo>
                  <a:pt x="246" y="0"/>
                </a:lnTo>
                <a:lnTo>
                  <a:pt x="271" y="1"/>
                </a:lnTo>
                <a:lnTo>
                  <a:pt x="297" y="2"/>
                </a:lnTo>
                <a:lnTo>
                  <a:pt x="323" y="4"/>
                </a:lnTo>
                <a:lnTo>
                  <a:pt x="348" y="6"/>
                </a:lnTo>
                <a:lnTo>
                  <a:pt x="373" y="9"/>
                </a:lnTo>
                <a:lnTo>
                  <a:pt x="399" y="12"/>
                </a:lnTo>
                <a:lnTo>
                  <a:pt x="423" y="16"/>
                </a:lnTo>
                <a:lnTo>
                  <a:pt x="447" y="21"/>
                </a:lnTo>
                <a:lnTo>
                  <a:pt x="470" y="25"/>
                </a:lnTo>
                <a:lnTo>
                  <a:pt x="494" y="31"/>
                </a:lnTo>
                <a:lnTo>
                  <a:pt x="517" y="37"/>
                </a:lnTo>
                <a:lnTo>
                  <a:pt x="539" y="44"/>
                </a:lnTo>
                <a:lnTo>
                  <a:pt x="561" y="50"/>
                </a:lnTo>
                <a:lnTo>
                  <a:pt x="582" y="58"/>
                </a:lnTo>
                <a:lnTo>
                  <a:pt x="7" y="524"/>
                </a:lnTo>
                <a:lnTo>
                  <a:pt x="6" y="522"/>
                </a:lnTo>
                <a:lnTo>
                  <a:pt x="5" y="520"/>
                </a:lnTo>
                <a:lnTo>
                  <a:pt x="4" y="518"/>
                </a:lnTo>
                <a:lnTo>
                  <a:pt x="4" y="516"/>
                </a:lnTo>
                <a:lnTo>
                  <a:pt x="3" y="513"/>
                </a:lnTo>
                <a:lnTo>
                  <a:pt x="2" y="511"/>
                </a:lnTo>
                <a:lnTo>
                  <a:pt x="1" y="508"/>
                </a:lnTo>
                <a:lnTo>
                  <a:pt x="0" y="506"/>
                </a:lnTo>
                <a:lnTo>
                  <a:pt x="24" y="512"/>
                </a:lnTo>
                <a:lnTo>
                  <a:pt x="49" y="517"/>
                </a:lnTo>
                <a:lnTo>
                  <a:pt x="75" y="521"/>
                </a:lnTo>
                <a:lnTo>
                  <a:pt x="101" y="524"/>
                </a:lnTo>
                <a:lnTo>
                  <a:pt x="126" y="527"/>
                </a:lnTo>
                <a:lnTo>
                  <a:pt x="153" y="530"/>
                </a:lnTo>
                <a:lnTo>
                  <a:pt x="179" y="531"/>
                </a:lnTo>
                <a:lnTo>
                  <a:pt x="204" y="532"/>
                </a:lnTo>
                <a:lnTo>
                  <a:pt x="231" y="533"/>
                </a:lnTo>
                <a:lnTo>
                  <a:pt x="257" y="532"/>
                </a:lnTo>
                <a:lnTo>
                  <a:pt x="284" y="532"/>
                </a:lnTo>
                <a:lnTo>
                  <a:pt x="310" y="530"/>
                </a:lnTo>
                <a:lnTo>
                  <a:pt x="335" y="528"/>
                </a:lnTo>
                <a:lnTo>
                  <a:pt x="362" y="525"/>
                </a:lnTo>
                <a:lnTo>
                  <a:pt x="387" y="522"/>
                </a:lnTo>
                <a:lnTo>
                  <a:pt x="412" y="518"/>
                </a:lnTo>
                <a:lnTo>
                  <a:pt x="438" y="514"/>
                </a:lnTo>
                <a:lnTo>
                  <a:pt x="461" y="508"/>
                </a:lnTo>
                <a:lnTo>
                  <a:pt x="485" y="503"/>
                </a:lnTo>
                <a:lnTo>
                  <a:pt x="508" y="497"/>
                </a:lnTo>
                <a:lnTo>
                  <a:pt x="531" y="489"/>
                </a:lnTo>
                <a:lnTo>
                  <a:pt x="552" y="482"/>
                </a:lnTo>
                <a:lnTo>
                  <a:pt x="572" y="475"/>
                </a:lnTo>
                <a:lnTo>
                  <a:pt x="592" y="466"/>
                </a:lnTo>
                <a:lnTo>
                  <a:pt x="611" y="458"/>
                </a:lnTo>
                <a:lnTo>
                  <a:pt x="629" y="449"/>
                </a:lnTo>
                <a:lnTo>
                  <a:pt x="646" y="439"/>
                </a:lnTo>
                <a:lnTo>
                  <a:pt x="662" y="430"/>
                </a:lnTo>
                <a:lnTo>
                  <a:pt x="677" y="419"/>
                </a:lnTo>
                <a:lnTo>
                  <a:pt x="691" y="409"/>
                </a:lnTo>
                <a:lnTo>
                  <a:pt x="704" y="398"/>
                </a:lnTo>
                <a:lnTo>
                  <a:pt x="715" y="387"/>
                </a:lnTo>
                <a:lnTo>
                  <a:pt x="715" y="391"/>
                </a:lnTo>
                <a:lnTo>
                  <a:pt x="715" y="395"/>
                </a:lnTo>
                <a:lnTo>
                  <a:pt x="714" y="399"/>
                </a:lnTo>
                <a:lnTo>
                  <a:pt x="714" y="403"/>
                </a:lnTo>
                <a:lnTo>
                  <a:pt x="713" y="407"/>
                </a:lnTo>
                <a:lnTo>
                  <a:pt x="713" y="411"/>
                </a:lnTo>
                <a:lnTo>
                  <a:pt x="712" y="415"/>
                </a:lnTo>
                <a:lnTo>
                  <a:pt x="712" y="419"/>
                </a:lnTo>
                <a:lnTo>
                  <a:pt x="699" y="430"/>
                </a:lnTo>
                <a:lnTo>
                  <a:pt x="683" y="440"/>
                </a:lnTo>
                <a:lnTo>
                  <a:pt x="668" y="450"/>
                </a:lnTo>
                <a:lnTo>
                  <a:pt x="651" y="459"/>
                </a:lnTo>
                <a:lnTo>
                  <a:pt x="633" y="468"/>
                </a:lnTo>
                <a:lnTo>
                  <a:pt x="615" y="476"/>
                </a:lnTo>
                <a:lnTo>
                  <a:pt x="597" y="484"/>
                </a:lnTo>
                <a:lnTo>
                  <a:pt x="577" y="492"/>
                </a:lnTo>
                <a:lnTo>
                  <a:pt x="557" y="498"/>
                </a:lnTo>
                <a:lnTo>
                  <a:pt x="537" y="505"/>
                </a:lnTo>
                <a:lnTo>
                  <a:pt x="516" y="511"/>
                </a:lnTo>
                <a:lnTo>
                  <a:pt x="494" y="517"/>
                </a:lnTo>
                <a:lnTo>
                  <a:pt x="472" y="522"/>
                </a:lnTo>
                <a:lnTo>
                  <a:pt x="449" y="527"/>
                </a:lnTo>
                <a:lnTo>
                  <a:pt x="426" y="531"/>
                </a:lnTo>
                <a:lnTo>
                  <a:pt x="403" y="535"/>
                </a:lnTo>
                <a:lnTo>
                  <a:pt x="379" y="538"/>
                </a:lnTo>
                <a:lnTo>
                  <a:pt x="355" y="541"/>
                </a:lnTo>
                <a:lnTo>
                  <a:pt x="331" y="543"/>
                </a:lnTo>
                <a:lnTo>
                  <a:pt x="307" y="545"/>
                </a:lnTo>
                <a:lnTo>
                  <a:pt x="281" y="546"/>
                </a:lnTo>
                <a:lnTo>
                  <a:pt x="257" y="547"/>
                </a:lnTo>
                <a:lnTo>
                  <a:pt x="232" y="547"/>
                </a:lnTo>
                <a:lnTo>
                  <a:pt x="207" y="547"/>
                </a:lnTo>
                <a:lnTo>
                  <a:pt x="181" y="546"/>
                </a:lnTo>
                <a:lnTo>
                  <a:pt x="157" y="544"/>
                </a:lnTo>
                <a:lnTo>
                  <a:pt x="132" y="543"/>
                </a:lnTo>
                <a:lnTo>
                  <a:pt x="106" y="540"/>
                </a:lnTo>
                <a:lnTo>
                  <a:pt x="81" y="537"/>
                </a:lnTo>
                <a:lnTo>
                  <a:pt x="57" y="533"/>
                </a:lnTo>
                <a:lnTo>
                  <a:pt x="31" y="529"/>
                </a:lnTo>
                <a:lnTo>
                  <a:pt x="7" y="524"/>
                </a:lnTo>
                <a:lnTo>
                  <a:pt x="582" y="58"/>
                </a:lnTo>
              </a:path>
            </a:pathLst>
          </a:cu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01840" y="4213080"/>
            <a:ext cx="1149120" cy="824040"/>
          </a:xfrm>
          <a:custGeom>
            <a:avLst/>
            <a:gdLst/>
            <a:ahLst/>
            <a:rect l="l" t="t" r="r" b="b"/>
            <a:pathLst>
              <a:path w="724" h="519">
                <a:moveTo>
                  <a:pt x="623" y="78"/>
                </a:moveTo>
                <a:lnTo>
                  <a:pt x="627" y="82"/>
                </a:lnTo>
                <a:lnTo>
                  <a:pt x="632" y="87"/>
                </a:lnTo>
                <a:lnTo>
                  <a:pt x="636" y="92"/>
                </a:lnTo>
                <a:lnTo>
                  <a:pt x="640" y="97"/>
                </a:lnTo>
                <a:lnTo>
                  <a:pt x="643" y="102"/>
                </a:lnTo>
                <a:lnTo>
                  <a:pt x="647" y="107"/>
                </a:lnTo>
                <a:lnTo>
                  <a:pt x="652" y="113"/>
                </a:lnTo>
                <a:lnTo>
                  <a:pt x="655" y="118"/>
                </a:lnTo>
                <a:lnTo>
                  <a:pt x="633" y="104"/>
                </a:lnTo>
                <a:lnTo>
                  <a:pt x="609" y="90"/>
                </a:lnTo>
                <a:lnTo>
                  <a:pt x="583" y="78"/>
                </a:lnTo>
                <a:lnTo>
                  <a:pt x="556" y="67"/>
                </a:lnTo>
                <a:lnTo>
                  <a:pt x="527" y="57"/>
                </a:lnTo>
                <a:lnTo>
                  <a:pt x="496" y="47"/>
                </a:lnTo>
                <a:lnTo>
                  <a:pt x="465" y="39"/>
                </a:lnTo>
                <a:lnTo>
                  <a:pt x="432" y="32"/>
                </a:lnTo>
                <a:lnTo>
                  <a:pt x="398" y="26"/>
                </a:lnTo>
                <a:lnTo>
                  <a:pt x="363" y="21"/>
                </a:lnTo>
                <a:lnTo>
                  <a:pt x="329" y="17"/>
                </a:lnTo>
                <a:lnTo>
                  <a:pt x="293" y="15"/>
                </a:lnTo>
                <a:lnTo>
                  <a:pt x="256" y="14"/>
                </a:lnTo>
                <a:lnTo>
                  <a:pt x="219" y="14"/>
                </a:lnTo>
                <a:lnTo>
                  <a:pt x="182" y="16"/>
                </a:lnTo>
                <a:lnTo>
                  <a:pt x="145" y="18"/>
                </a:lnTo>
                <a:lnTo>
                  <a:pt x="148" y="16"/>
                </a:lnTo>
                <a:lnTo>
                  <a:pt x="151" y="14"/>
                </a:lnTo>
                <a:lnTo>
                  <a:pt x="154" y="12"/>
                </a:lnTo>
                <a:lnTo>
                  <a:pt x="158" y="10"/>
                </a:lnTo>
                <a:lnTo>
                  <a:pt x="161" y="8"/>
                </a:lnTo>
                <a:lnTo>
                  <a:pt x="164" y="6"/>
                </a:lnTo>
                <a:lnTo>
                  <a:pt x="167" y="4"/>
                </a:lnTo>
                <a:lnTo>
                  <a:pt x="170" y="2"/>
                </a:lnTo>
                <a:lnTo>
                  <a:pt x="202" y="0"/>
                </a:lnTo>
                <a:lnTo>
                  <a:pt x="234" y="0"/>
                </a:lnTo>
                <a:lnTo>
                  <a:pt x="264" y="0"/>
                </a:lnTo>
                <a:lnTo>
                  <a:pt x="296" y="1"/>
                </a:lnTo>
                <a:lnTo>
                  <a:pt x="326" y="3"/>
                </a:lnTo>
                <a:lnTo>
                  <a:pt x="357" y="6"/>
                </a:lnTo>
                <a:lnTo>
                  <a:pt x="387" y="10"/>
                </a:lnTo>
                <a:lnTo>
                  <a:pt x="416" y="14"/>
                </a:lnTo>
                <a:lnTo>
                  <a:pt x="445" y="19"/>
                </a:lnTo>
                <a:lnTo>
                  <a:pt x="473" y="25"/>
                </a:lnTo>
                <a:lnTo>
                  <a:pt x="501" y="32"/>
                </a:lnTo>
                <a:lnTo>
                  <a:pt x="527" y="40"/>
                </a:lnTo>
                <a:lnTo>
                  <a:pt x="552" y="48"/>
                </a:lnTo>
                <a:lnTo>
                  <a:pt x="577" y="57"/>
                </a:lnTo>
                <a:lnTo>
                  <a:pt x="601" y="67"/>
                </a:lnTo>
                <a:lnTo>
                  <a:pt x="623" y="78"/>
                </a:lnTo>
                <a:lnTo>
                  <a:pt x="7" y="491"/>
                </a:lnTo>
                <a:lnTo>
                  <a:pt x="6" y="489"/>
                </a:lnTo>
                <a:lnTo>
                  <a:pt x="6" y="487"/>
                </a:lnTo>
                <a:lnTo>
                  <a:pt x="4" y="485"/>
                </a:lnTo>
                <a:lnTo>
                  <a:pt x="3" y="483"/>
                </a:lnTo>
                <a:lnTo>
                  <a:pt x="2" y="481"/>
                </a:lnTo>
                <a:lnTo>
                  <a:pt x="2" y="479"/>
                </a:lnTo>
                <a:lnTo>
                  <a:pt x="1" y="477"/>
                </a:lnTo>
                <a:lnTo>
                  <a:pt x="0" y="474"/>
                </a:lnTo>
                <a:lnTo>
                  <a:pt x="26" y="481"/>
                </a:lnTo>
                <a:lnTo>
                  <a:pt x="52" y="486"/>
                </a:lnTo>
                <a:lnTo>
                  <a:pt x="79" y="491"/>
                </a:lnTo>
                <a:lnTo>
                  <a:pt x="106" y="495"/>
                </a:lnTo>
                <a:lnTo>
                  <a:pt x="133" y="498"/>
                </a:lnTo>
                <a:lnTo>
                  <a:pt x="161" y="501"/>
                </a:lnTo>
                <a:lnTo>
                  <a:pt x="188" y="502"/>
                </a:lnTo>
                <a:lnTo>
                  <a:pt x="216" y="503"/>
                </a:lnTo>
                <a:lnTo>
                  <a:pt x="244" y="504"/>
                </a:lnTo>
                <a:lnTo>
                  <a:pt x="272" y="503"/>
                </a:lnTo>
                <a:lnTo>
                  <a:pt x="299" y="502"/>
                </a:lnTo>
                <a:lnTo>
                  <a:pt x="326" y="500"/>
                </a:lnTo>
                <a:lnTo>
                  <a:pt x="354" y="498"/>
                </a:lnTo>
                <a:lnTo>
                  <a:pt x="381" y="494"/>
                </a:lnTo>
                <a:lnTo>
                  <a:pt x="408" y="490"/>
                </a:lnTo>
                <a:lnTo>
                  <a:pt x="434" y="485"/>
                </a:lnTo>
                <a:lnTo>
                  <a:pt x="460" y="480"/>
                </a:lnTo>
                <a:lnTo>
                  <a:pt x="485" y="473"/>
                </a:lnTo>
                <a:lnTo>
                  <a:pt x="509" y="466"/>
                </a:lnTo>
                <a:lnTo>
                  <a:pt x="532" y="459"/>
                </a:lnTo>
                <a:lnTo>
                  <a:pt x="555" y="451"/>
                </a:lnTo>
                <a:lnTo>
                  <a:pt x="576" y="442"/>
                </a:lnTo>
                <a:lnTo>
                  <a:pt x="596" y="434"/>
                </a:lnTo>
                <a:lnTo>
                  <a:pt x="615" y="424"/>
                </a:lnTo>
                <a:lnTo>
                  <a:pt x="633" y="414"/>
                </a:lnTo>
                <a:lnTo>
                  <a:pt x="650" y="403"/>
                </a:lnTo>
                <a:lnTo>
                  <a:pt x="665" y="392"/>
                </a:lnTo>
                <a:lnTo>
                  <a:pt x="679" y="381"/>
                </a:lnTo>
                <a:lnTo>
                  <a:pt x="693" y="369"/>
                </a:lnTo>
                <a:lnTo>
                  <a:pt x="704" y="357"/>
                </a:lnTo>
                <a:lnTo>
                  <a:pt x="715" y="345"/>
                </a:lnTo>
                <a:lnTo>
                  <a:pt x="723" y="332"/>
                </a:lnTo>
                <a:lnTo>
                  <a:pt x="723" y="335"/>
                </a:lnTo>
                <a:lnTo>
                  <a:pt x="723" y="339"/>
                </a:lnTo>
                <a:lnTo>
                  <a:pt x="723" y="342"/>
                </a:lnTo>
                <a:lnTo>
                  <a:pt x="723" y="346"/>
                </a:lnTo>
                <a:lnTo>
                  <a:pt x="723" y="349"/>
                </a:lnTo>
                <a:lnTo>
                  <a:pt x="723" y="352"/>
                </a:lnTo>
                <a:lnTo>
                  <a:pt x="723" y="355"/>
                </a:lnTo>
                <a:lnTo>
                  <a:pt x="723" y="358"/>
                </a:lnTo>
                <a:lnTo>
                  <a:pt x="723" y="362"/>
                </a:lnTo>
                <a:lnTo>
                  <a:pt x="723" y="365"/>
                </a:lnTo>
                <a:lnTo>
                  <a:pt x="722" y="369"/>
                </a:lnTo>
                <a:lnTo>
                  <a:pt x="722" y="372"/>
                </a:lnTo>
                <a:lnTo>
                  <a:pt x="711" y="383"/>
                </a:lnTo>
                <a:lnTo>
                  <a:pt x="698" y="394"/>
                </a:lnTo>
                <a:lnTo>
                  <a:pt x="684" y="404"/>
                </a:lnTo>
                <a:lnTo>
                  <a:pt x="669" y="415"/>
                </a:lnTo>
                <a:lnTo>
                  <a:pt x="653" y="424"/>
                </a:lnTo>
                <a:lnTo>
                  <a:pt x="636" y="434"/>
                </a:lnTo>
                <a:lnTo>
                  <a:pt x="618" y="443"/>
                </a:lnTo>
                <a:lnTo>
                  <a:pt x="599" y="451"/>
                </a:lnTo>
                <a:lnTo>
                  <a:pt x="579" y="460"/>
                </a:lnTo>
                <a:lnTo>
                  <a:pt x="559" y="467"/>
                </a:lnTo>
                <a:lnTo>
                  <a:pt x="538" y="474"/>
                </a:lnTo>
                <a:lnTo>
                  <a:pt x="515" y="482"/>
                </a:lnTo>
                <a:lnTo>
                  <a:pt x="492" y="488"/>
                </a:lnTo>
                <a:lnTo>
                  <a:pt x="468" y="493"/>
                </a:lnTo>
                <a:lnTo>
                  <a:pt x="445" y="499"/>
                </a:lnTo>
                <a:lnTo>
                  <a:pt x="419" y="503"/>
                </a:lnTo>
                <a:lnTo>
                  <a:pt x="394" y="507"/>
                </a:lnTo>
                <a:lnTo>
                  <a:pt x="369" y="510"/>
                </a:lnTo>
                <a:lnTo>
                  <a:pt x="342" y="513"/>
                </a:lnTo>
                <a:lnTo>
                  <a:pt x="317" y="515"/>
                </a:lnTo>
                <a:lnTo>
                  <a:pt x="291" y="517"/>
                </a:lnTo>
                <a:lnTo>
                  <a:pt x="264" y="517"/>
                </a:lnTo>
                <a:lnTo>
                  <a:pt x="238" y="518"/>
                </a:lnTo>
                <a:lnTo>
                  <a:pt x="211" y="517"/>
                </a:lnTo>
                <a:lnTo>
                  <a:pt x="186" y="516"/>
                </a:lnTo>
                <a:lnTo>
                  <a:pt x="160" y="515"/>
                </a:lnTo>
                <a:lnTo>
                  <a:pt x="133" y="512"/>
                </a:lnTo>
                <a:lnTo>
                  <a:pt x="108" y="509"/>
                </a:lnTo>
                <a:lnTo>
                  <a:pt x="82" y="506"/>
                </a:lnTo>
                <a:lnTo>
                  <a:pt x="56" y="502"/>
                </a:lnTo>
                <a:lnTo>
                  <a:pt x="31" y="497"/>
                </a:lnTo>
                <a:lnTo>
                  <a:pt x="7" y="491"/>
                </a:lnTo>
                <a:lnTo>
                  <a:pt x="623" y="78"/>
                </a:lnTo>
              </a:path>
            </a:pathLst>
          </a:cu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393920" y="4235400"/>
            <a:ext cx="1157040" cy="779400"/>
          </a:xfrm>
          <a:custGeom>
            <a:avLst/>
            <a:gdLst/>
            <a:ahLst/>
            <a:rect l="l" t="t" r="r" b="b"/>
            <a:pathLst>
              <a:path w="729" h="491">
                <a:moveTo>
                  <a:pt x="660" y="104"/>
                </a:moveTo>
                <a:lnTo>
                  <a:pt x="664" y="111"/>
                </a:lnTo>
                <a:lnTo>
                  <a:pt x="669" y="118"/>
                </a:lnTo>
                <a:lnTo>
                  <a:pt x="674" y="126"/>
                </a:lnTo>
                <a:lnTo>
                  <a:pt x="678" y="133"/>
                </a:lnTo>
                <a:lnTo>
                  <a:pt x="681" y="141"/>
                </a:lnTo>
                <a:lnTo>
                  <a:pt x="685" y="149"/>
                </a:lnTo>
                <a:lnTo>
                  <a:pt x="689" y="156"/>
                </a:lnTo>
                <a:lnTo>
                  <a:pt x="693" y="164"/>
                </a:lnTo>
                <a:lnTo>
                  <a:pt x="676" y="144"/>
                </a:lnTo>
                <a:lnTo>
                  <a:pt x="655" y="126"/>
                </a:lnTo>
                <a:lnTo>
                  <a:pt x="630" y="108"/>
                </a:lnTo>
                <a:lnTo>
                  <a:pt x="604" y="92"/>
                </a:lnTo>
                <a:lnTo>
                  <a:pt x="573" y="77"/>
                </a:lnTo>
                <a:lnTo>
                  <a:pt x="542" y="64"/>
                </a:lnTo>
                <a:lnTo>
                  <a:pt x="507" y="51"/>
                </a:lnTo>
                <a:lnTo>
                  <a:pt x="470" y="41"/>
                </a:lnTo>
                <a:lnTo>
                  <a:pt x="431" y="32"/>
                </a:lnTo>
                <a:lnTo>
                  <a:pt x="391" y="25"/>
                </a:lnTo>
                <a:lnTo>
                  <a:pt x="349" y="20"/>
                </a:lnTo>
                <a:lnTo>
                  <a:pt x="306" y="16"/>
                </a:lnTo>
                <a:lnTo>
                  <a:pt x="263" y="14"/>
                </a:lnTo>
                <a:lnTo>
                  <a:pt x="219" y="15"/>
                </a:lnTo>
                <a:lnTo>
                  <a:pt x="174" y="17"/>
                </a:lnTo>
                <a:lnTo>
                  <a:pt x="129" y="21"/>
                </a:lnTo>
                <a:lnTo>
                  <a:pt x="131" y="19"/>
                </a:lnTo>
                <a:lnTo>
                  <a:pt x="134" y="17"/>
                </a:lnTo>
                <a:lnTo>
                  <a:pt x="136" y="15"/>
                </a:lnTo>
                <a:lnTo>
                  <a:pt x="139" y="12"/>
                </a:lnTo>
                <a:lnTo>
                  <a:pt x="141" y="10"/>
                </a:lnTo>
                <a:lnTo>
                  <a:pt x="145" y="8"/>
                </a:lnTo>
                <a:lnTo>
                  <a:pt x="147" y="6"/>
                </a:lnTo>
                <a:lnTo>
                  <a:pt x="150" y="4"/>
                </a:lnTo>
                <a:lnTo>
                  <a:pt x="187" y="2"/>
                </a:lnTo>
                <a:lnTo>
                  <a:pt x="224" y="0"/>
                </a:lnTo>
                <a:lnTo>
                  <a:pt x="261" y="0"/>
                </a:lnTo>
                <a:lnTo>
                  <a:pt x="298" y="1"/>
                </a:lnTo>
                <a:lnTo>
                  <a:pt x="334" y="3"/>
                </a:lnTo>
                <a:lnTo>
                  <a:pt x="368" y="7"/>
                </a:lnTo>
                <a:lnTo>
                  <a:pt x="403" y="12"/>
                </a:lnTo>
                <a:lnTo>
                  <a:pt x="437" y="18"/>
                </a:lnTo>
                <a:lnTo>
                  <a:pt x="470" y="25"/>
                </a:lnTo>
                <a:lnTo>
                  <a:pt x="501" y="33"/>
                </a:lnTo>
                <a:lnTo>
                  <a:pt x="532" y="43"/>
                </a:lnTo>
                <a:lnTo>
                  <a:pt x="561" y="53"/>
                </a:lnTo>
                <a:lnTo>
                  <a:pt x="588" y="64"/>
                </a:lnTo>
                <a:lnTo>
                  <a:pt x="614" y="76"/>
                </a:lnTo>
                <a:lnTo>
                  <a:pt x="638" y="90"/>
                </a:lnTo>
                <a:lnTo>
                  <a:pt x="660" y="104"/>
                </a:lnTo>
                <a:lnTo>
                  <a:pt x="5" y="460"/>
                </a:lnTo>
                <a:lnTo>
                  <a:pt x="5" y="458"/>
                </a:lnTo>
                <a:lnTo>
                  <a:pt x="4" y="456"/>
                </a:lnTo>
                <a:lnTo>
                  <a:pt x="4" y="453"/>
                </a:lnTo>
                <a:lnTo>
                  <a:pt x="3" y="451"/>
                </a:lnTo>
                <a:lnTo>
                  <a:pt x="2" y="449"/>
                </a:lnTo>
                <a:lnTo>
                  <a:pt x="1" y="447"/>
                </a:lnTo>
                <a:lnTo>
                  <a:pt x="1" y="444"/>
                </a:lnTo>
                <a:lnTo>
                  <a:pt x="0" y="442"/>
                </a:lnTo>
                <a:lnTo>
                  <a:pt x="27" y="450"/>
                </a:lnTo>
                <a:lnTo>
                  <a:pt x="56" y="456"/>
                </a:lnTo>
                <a:lnTo>
                  <a:pt x="85" y="462"/>
                </a:lnTo>
                <a:lnTo>
                  <a:pt x="115" y="466"/>
                </a:lnTo>
                <a:lnTo>
                  <a:pt x="145" y="470"/>
                </a:lnTo>
                <a:lnTo>
                  <a:pt x="175" y="473"/>
                </a:lnTo>
                <a:lnTo>
                  <a:pt x="206" y="474"/>
                </a:lnTo>
                <a:lnTo>
                  <a:pt x="236" y="475"/>
                </a:lnTo>
                <a:lnTo>
                  <a:pt x="267" y="475"/>
                </a:lnTo>
                <a:lnTo>
                  <a:pt x="297" y="474"/>
                </a:lnTo>
                <a:lnTo>
                  <a:pt x="327" y="472"/>
                </a:lnTo>
                <a:lnTo>
                  <a:pt x="357" y="469"/>
                </a:lnTo>
                <a:lnTo>
                  <a:pt x="387" y="465"/>
                </a:lnTo>
                <a:lnTo>
                  <a:pt x="416" y="460"/>
                </a:lnTo>
                <a:lnTo>
                  <a:pt x="444" y="454"/>
                </a:lnTo>
                <a:lnTo>
                  <a:pt x="473" y="447"/>
                </a:lnTo>
                <a:lnTo>
                  <a:pt x="500" y="440"/>
                </a:lnTo>
                <a:lnTo>
                  <a:pt x="526" y="431"/>
                </a:lnTo>
                <a:lnTo>
                  <a:pt x="550" y="422"/>
                </a:lnTo>
                <a:lnTo>
                  <a:pt x="573" y="412"/>
                </a:lnTo>
                <a:lnTo>
                  <a:pt x="594" y="401"/>
                </a:lnTo>
                <a:lnTo>
                  <a:pt x="614" y="390"/>
                </a:lnTo>
                <a:lnTo>
                  <a:pt x="633" y="379"/>
                </a:lnTo>
                <a:lnTo>
                  <a:pt x="650" y="366"/>
                </a:lnTo>
                <a:lnTo>
                  <a:pt x="665" y="354"/>
                </a:lnTo>
                <a:lnTo>
                  <a:pt x="679" y="340"/>
                </a:lnTo>
                <a:lnTo>
                  <a:pt x="690" y="327"/>
                </a:lnTo>
                <a:lnTo>
                  <a:pt x="700" y="313"/>
                </a:lnTo>
                <a:lnTo>
                  <a:pt x="708" y="298"/>
                </a:lnTo>
                <a:lnTo>
                  <a:pt x="715" y="284"/>
                </a:lnTo>
                <a:lnTo>
                  <a:pt x="719" y="269"/>
                </a:lnTo>
                <a:lnTo>
                  <a:pt x="721" y="254"/>
                </a:lnTo>
                <a:lnTo>
                  <a:pt x="722" y="262"/>
                </a:lnTo>
                <a:lnTo>
                  <a:pt x="724" y="270"/>
                </a:lnTo>
                <a:lnTo>
                  <a:pt x="725" y="278"/>
                </a:lnTo>
                <a:lnTo>
                  <a:pt x="726" y="286"/>
                </a:lnTo>
                <a:lnTo>
                  <a:pt x="726" y="294"/>
                </a:lnTo>
                <a:lnTo>
                  <a:pt x="727" y="302"/>
                </a:lnTo>
                <a:lnTo>
                  <a:pt x="728" y="310"/>
                </a:lnTo>
                <a:lnTo>
                  <a:pt x="728" y="318"/>
                </a:lnTo>
                <a:lnTo>
                  <a:pt x="720" y="331"/>
                </a:lnTo>
                <a:lnTo>
                  <a:pt x="709" y="343"/>
                </a:lnTo>
                <a:lnTo>
                  <a:pt x="698" y="355"/>
                </a:lnTo>
                <a:lnTo>
                  <a:pt x="684" y="367"/>
                </a:lnTo>
                <a:lnTo>
                  <a:pt x="670" y="378"/>
                </a:lnTo>
                <a:lnTo>
                  <a:pt x="655" y="389"/>
                </a:lnTo>
                <a:lnTo>
                  <a:pt x="638" y="400"/>
                </a:lnTo>
                <a:lnTo>
                  <a:pt x="620" y="410"/>
                </a:lnTo>
                <a:lnTo>
                  <a:pt x="601" y="420"/>
                </a:lnTo>
                <a:lnTo>
                  <a:pt x="581" y="428"/>
                </a:lnTo>
                <a:lnTo>
                  <a:pt x="560" y="437"/>
                </a:lnTo>
                <a:lnTo>
                  <a:pt x="537" y="445"/>
                </a:lnTo>
                <a:lnTo>
                  <a:pt x="514" y="452"/>
                </a:lnTo>
                <a:lnTo>
                  <a:pt x="490" y="459"/>
                </a:lnTo>
                <a:lnTo>
                  <a:pt x="465" y="466"/>
                </a:lnTo>
                <a:lnTo>
                  <a:pt x="439" y="471"/>
                </a:lnTo>
                <a:lnTo>
                  <a:pt x="413" y="476"/>
                </a:lnTo>
                <a:lnTo>
                  <a:pt x="386" y="480"/>
                </a:lnTo>
                <a:lnTo>
                  <a:pt x="359" y="484"/>
                </a:lnTo>
                <a:lnTo>
                  <a:pt x="331" y="486"/>
                </a:lnTo>
                <a:lnTo>
                  <a:pt x="304" y="488"/>
                </a:lnTo>
                <a:lnTo>
                  <a:pt x="277" y="489"/>
                </a:lnTo>
                <a:lnTo>
                  <a:pt x="249" y="490"/>
                </a:lnTo>
                <a:lnTo>
                  <a:pt x="221" y="489"/>
                </a:lnTo>
                <a:lnTo>
                  <a:pt x="193" y="488"/>
                </a:lnTo>
                <a:lnTo>
                  <a:pt x="166" y="487"/>
                </a:lnTo>
                <a:lnTo>
                  <a:pt x="138" y="484"/>
                </a:lnTo>
                <a:lnTo>
                  <a:pt x="111" y="481"/>
                </a:lnTo>
                <a:lnTo>
                  <a:pt x="84" y="477"/>
                </a:lnTo>
                <a:lnTo>
                  <a:pt x="57" y="472"/>
                </a:lnTo>
                <a:lnTo>
                  <a:pt x="31" y="467"/>
                </a:lnTo>
                <a:lnTo>
                  <a:pt x="5" y="460"/>
                </a:lnTo>
                <a:lnTo>
                  <a:pt x="660" y="104"/>
                </a:lnTo>
              </a:path>
            </a:pathLst>
          </a:cu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387440" y="4257720"/>
            <a:ext cx="1152720" cy="733320"/>
          </a:xfrm>
          <a:custGeom>
            <a:avLst/>
            <a:gdLst/>
            <a:ahLst/>
            <a:rect l="l" t="t" r="r" b="b"/>
            <a:pathLst>
              <a:path w="726" h="462">
                <a:moveTo>
                  <a:pt x="697" y="150"/>
                </a:moveTo>
                <a:lnTo>
                  <a:pt x="699" y="156"/>
                </a:lnTo>
                <a:lnTo>
                  <a:pt x="701" y="161"/>
                </a:lnTo>
                <a:lnTo>
                  <a:pt x="703" y="166"/>
                </a:lnTo>
                <a:lnTo>
                  <a:pt x="705" y="172"/>
                </a:lnTo>
                <a:lnTo>
                  <a:pt x="707" y="177"/>
                </a:lnTo>
                <a:lnTo>
                  <a:pt x="709" y="183"/>
                </a:lnTo>
                <a:lnTo>
                  <a:pt x="711" y="188"/>
                </a:lnTo>
                <a:lnTo>
                  <a:pt x="713" y="194"/>
                </a:lnTo>
                <a:lnTo>
                  <a:pt x="715" y="199"/>
                </a:lnTo>
                <a:lnTo>
                  <a:pt x="717" y="205"/>
                </a:lnTo>
                <a:lnTo>
                  <a:pt x="718" y="211"/>
                </a:lnTo>
                <a:lnTo>
                  <a:pt x="720" y="217"/>
                </a:lnTo>
                <a:lnTo>
                  <a:pt x="721" y="222"/>
                </a:lnTo>
                <a:lnTo>
                  <a:pt x="723" y="228"/>
                </a:lnTo>
                <a:lnTo>
                  <a:pt x="724" y="234"/>
                </a:lnTo>
                <a:lnTo>
                  <a:pt x="725" y="240"/>
                </a:lnTo>
                <a:lnTo>
                  <a:pt x="723" y="255"/>
                </a:lnTo>
                <a:lnTo>
                  <a:pt x="719" y="270"/>
                </a:lnTo>
                <a:lnTo>
                  <a:pt x="712" y="284"/>
                </a:lnTo>
                <a:lnTo>
                  <a:pt x="704" y="299"/>
                </a:lnTo>
                <a:lnTo>
                  <a:pt x="694" y="313"/>
                </a:lnTo>
                <a:lnTo>
                  <a:pt x="683" y="326"/>
                </a:lnTo>
                <a:lnTo>
                  <a:pt x="669" y="340"/>
                </a:lnTo>
                <a:lnTo>
                  <a:pt x="654" y="352"/>
                </a:lnTo>
                <a:lnTo>
                  <a:pt x="637" y="365"/>
                </a:lnTo>
                <a:lnTo>
                  <a:pt x="618" y="376"/>
                </a:lnTo>
                <a:lnTo>
                  <a:pt x="598" y="387"/>
                </a:lnTo>
                <a:lnTo>
                  <a:pt x="577" y="398"/>
                </a:lnTo>
                <a:lnTo>
                  <a:pt x="554" y="408"/>
                </a:lnTo>
                <a:lnTo>
                  <a:pt x="530" y="417"/>
                </a:lnTo>
                <a:lnTo>
                  <a:pt x="504" y="426"/>
                </a:lnTo>
                <a:lnTo>
                  <a:pt x="477" y="433"/>
                </a:lnTo>
                <a:lnTo>
                  <a:pt x="448" y="440"/>
                </a:lnTo>
                <a:lnTo>
                  <a:pt x="420" y="446"/>
                </a:lnTo>
                <a:lnTo>
                  <a:pt x="391" y="451"/>
                </a:lnTo>
                <a:lnTo>
                  <a:pt x="361" y="455"/>
                </a:lnTo>
                <a:lnTo>
                  <a:pt x="331" y="458"/>
                </a:lnTo>
                <a:lnTo>
                  <a:pt x="301" y="460"/>
                </a:lnTo>
                <a:lnTo>
                  <a:pt x="271" y="461"/>
                </a:lnTo>
                <a:lnTo>
                  <a:pt x="240" y="461"/>
                </a:lnTo>
                <a:lnTo>
                  <a:pt x="210" y="460"/>
                </a:lnTo>
                <a:lnTo>
                  <a:pt x="179" y="459"/>
                </a:lnTo>
                <a:lnTo>
                  <a:pt x="149" y="456"/>
                </a:lnTo>
                <a:lnTo>
                  <a:pt x="119" y="452"/>
                </a:lnTo>
                <a:lnTo>
                  <a:pt x="89" y="448"/>
                </a:lnTo>
                <a:lnTo>
                  <a:pt x="60" y="442"/>
                </a:lnTo>
                <a:lnTo>
                  <a:pt x="31" y="436"/>
                </a:lnTo>
                <a:lnTo>
                  <a:pt x="4" y="428"/>
                </a:lnTo>
                <a:lnTo>
                  <a:pt x="4" y="426"/>
                </a:lnTo>
                <a:lnTo>
                  <a:pt x="3" y="424"/>
                </a:lnTo>
                <a:lnTo>
                  <a:pt x="3" y="421"/>
                </a:lnTo>
                <a:lnTo>
                  <a:pt x="2" y="419"/>
                </a:lnTo>
                <a:lnTo>
                  <a:pt x="1" y="417"/>
                </a:lnTo>
                <a:lnTo>
                  <a:pt x="1" y="415"/>
                </a:lnTo>
                <a:lnTo>
                  <a:pt x="0" y="412"/>
                </a:lnTo>
                <a:lnTo>
                  <a:pt x="0" y="410"/>
                </a:lnTo>
                <a:lnTo>
                  <a:pt x="34" y="420"/>
                </a:lnTo>
                <a:lnTo>
                  <a:pt x="67" y="428"/>
                </a:lnTo>
                <a:lnTo>
                  <a:pt x="103" y="435"/>
                </a:lnTo>
                <a:lnTo>
                  <a:pt x="139" y="440"/>
                </a:lnTo>
                <a:lnTo>
                  <a:pt x="175" y="444"/>
                </a:lnTo>
                <a:lnTo>
                  <a:pt x="212" y="446"/>
                </a:lnTo>
                <a:lnTo>
                  <a:pt x="249" y="447"/>
                </a:lnTo>
                <a:lnTo>
                  <a:pt x="286" y="446"/>
                </a:lnTo>
                <a:lnTo>
                  <a:pt x="323" y="444"/>
                </a:lnTo>
                <a:lnTo>
                  <a:pt x="359" y="440"/>
                </a:lnTo>
                <a:lnTo>
                  <a:pt x="395" y="435"/>
                </a:lnTo>
                <a:lnTo>
                  <a:pt x="429" y="429"/>
                </a:lnTo>
                <a:lnTo>
                  <a:pt x="463" y="421"/>
                </a:lnTo>
                <a:lnTo>
                  <a:pt x="496" y="411"/>
                </a:lnTo>
                <a:lnTo>
                  <a:pt x="527" y="400"/>
                </a:lnTo>
                <a:lnTo>
                  <a:pt x="556" y="388"/>
                </a:lnTo>
                <a:lnTo>
                  <a:pt x="584" y="375"/>
                </a:lnTo>
                <a:lnTo>
                  <a:pt x="607" y="361"/>
                </a:lnTo>
                <a:lnTo>
                  <a:pt x="629" y="345"/>
                </a:lnTo>
                <a:lnTo>
                  <a:pt x="647" y="330"/>
                </a:lnTo>
                <a:lnTo>
                  <a:pt x="663" y="314"/>
                </a:lnTo>
                <a:lnTo>
                  <a:pt x="675" y="297"/>
                </a:lnTo>
                <a:lnTo>
                  <a:pt x="685" y="279"/>
                </a:lnTo>
                <a:lnTo>
                  <a:pt x="692" y="261"/>
                </a:lnTo>
                <a:lnTo>
                  <a:pt x="695" y="244"/>
                </a:lnTo>
                <a:lnTo>
                  <a:pt x="697" y="226"/>
                </a:lnTo>
                <a:lnTo>
                  <a:pt x="694" y="208"/>
                </a:lnTo>
                <a:lnTo>
                  <a:pt x="689" y="190"/>
                </a:lnTo>
                <a:lnTo>
                  <a:pt x="680" y="172"/>
                </a:lnTo>
                <a:lnTo>
                  <a:pt x="668" y="155"/>
                </a:lnTo>
                <a:lnTo>
                  <a:pt x="653" y="138"/>
                </a:lnTo>
                <a:lnTo>
                  <a:pt x="635" y="121"/>
                </a:lnTo>
                <a:lnTo>
                  <a:pt x="614" y="105"/>
                </a:lnTo>
                <a:lnTo>
                  <a:pt x="591" y="91"/>
                </a:lnTo>
                <a:lnTo>
                  <a:pt x="566" y="77"/>
                </a:lnTo>
                <a:lnTo>
                  <a:pt x="537" y="65"/>
                </a:lnTo>
                <a:lnTo>
                  <a:pt x="508" y="54"/>
                </a:lnTo>
                <a:lnTo>
                  <a:pt x="477" y="45"/>
                </a:lnTo>
                <a:lnTo>
                  <a:pt x="444" y="36"/>
                </a:lnTo>
                <a:lnTo>
                  <a:pt x="410" y="29"/>
                </a:lnTo>
                <a:lnTo>
                  <a:pt x="375" y="23"/>
                </a:lnTo>
                <a:lnTo>
                  <a:pt x="339" y="19"/>
                </a:lnTo>
                <a:lnTo>
                  <a:pt x="302" y="16"/>
                </a:lnTo>
                <a:lnTo>
                  <a:pt x="265" y="14"/>
                </a:lnTo>
                <a:lnTo>
                  <a:pt x="227" y="15"/>
                </a:lnTo>
                <a:lnTo>
                  <a:pt x="189" y="16"/>
                </a:lnTo>
                <a:lnTo>
                  <a:pt x="151" y="19"/>
                </a:lnTo>
                <a:lnTo>
                  <a:pt x="113" y="25"/>
                </a:lnTo>
                <a:lnTo>
                  <a:pt x="115" y="23"/>
                </a:lnTo>
                <a:lnTo>
                  <a:pt x="118" y="20"/>
                </a:lnTo>
                <a:lnTo>
                  <a:pt x="120" y="18"/>
                </a:lnTo>
                <a:lnTo>
                  <a:pt x="122" y="15"/>
                </a:lnTo>
                <a:lnTo>
                  <a:pt x="124" y="13"/>
                </a:lnTo>
                <a:lnTo>
                  <a:pt x="127" y="11"/>
                </a:lnTo>
                <a:lnTo>
                  <a:pt x="130" y="9"/>
                </a:lnTo>
                <a:lnTo>
                  <a:pt x="133" y="7"/>
                </a:lnTo>
                <a:lnTo>
                  <a:pt x="178" y="3"/>
                </a:lnTo>
                <a:lnTo>
                  <a:pt x="223" y="1"/>
                </a:lnTo>
                <a:lnTo>
                  <a:pt x="267" y="0"/>
                </a:lnTo>
                <a:lnTo>
                  <a:pt x="310" y="2"/>
                </a:lnTo>
                <a:lnTo>
                  <a:pt x="353" y="6"/>
                </a:lnTo>
                <a:lnTo>
                  <a:pt x="395" y="11"/>
                </a:lnTo>
                <a:lnTo>
                  <a:pt x="435" y="18"/>
                </a:lnTo>
                <a:lnTo>
                  <a:pt x="474" y="27"/>
                </a:lnTo>
                <a:lnTo>
                  <a:pt x="511" y="37"/>
                </a:lnTo>
                <a:lnTo>
                  <a:pt x="546" y="50"/>
                </a:lnTo>
                <a:lnTo>
                  <a:pt x="577" y="63"/>
                </a:lnTo>
                <a:lnTo>
                  <a:pt x="608" y="78"/>
                </a:lnTo>
                <a:lnTo>
                  <a:pt x="634" y="94"/>
                </a:lnTo>
                <a:lnTo>
                  <a:pt x="659" y="112"/>
                </a:lnTo>
                <a:lnTo>
                  <a:pt x="680" y="130"/>
                </a:lnTo>
                <a:lnTo>
                  <a:pt x="697" y="150"/>
                </a:lnTo>
              </a:path>
            </a:pathLst>
          </a:cu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380960" y="4280040"/>
            <a:ext cx="1114560" cy="688680"/>
          </a:xfrm>
          <a:custGeom>
            <a:avLst/>
            <a:gdLst/>
            <a:ahLst/>
            <a:rect l="l" t="t" r="r" b="b"/>
            <a:pathLst>
              <a:path w="702" h="434">
                <a:moveTo>
                  <a:pt x="117" y="11"/>
                </a:moveTo>
                <a:lnTo>
                  <a:pt x="115" y="13"/>
                </a:lnTo>
                <a:lnTo>
                  <a:pt x="112" y="15"/>
                </a:lnTo>
                <a:lnTo>
                  <a:pt x="109" y="18"/>
                </a:lnTo>
                <a:lnTo>
                  <a:pt x="107" y="20"/>
                </a:lnTo>
                <a:lnTo>
                  <a:pt x="105" y="22"/>
                </a:lnTo>
                <a:lnTo>
                  <a:pt x="103" y="25"/>
                </a:lnTo>
                <a:lnTo>
                  <a:pt x="100" y="27"/>
                </a:lnTo>
                <a:lnTo>
                  <a:pt x="98" y="30"/>
                </a:lnTo>
                <a:lnTo>
                  <a:pt x="134" y="24"/>
                </a:lnTo>
                <a:lnTo>
                  <a:pt x="169" y="19"/>
                </a:lnTo>
                <a:lnTo>
                  <a:pt x="205" y="17"/>
                </a:lnTo>
                <a:lnTo>
                  <a:pt x="242" y="15"/>
                </a:lnTo>
                <a:lnTo>
                  <a:pt x="278" y="16"/>
                </a:lnTo>
                <a:lnTo>
                  <a:pt x="314" y="17"/>
                </a:lnTo>
                <a:lnTo>
                  <a:pt x="349" y="21"/>
                </a:lnTo>
                <a:lnTo>
                  <a:pt x="384" y="25"/>
                </a:lnTo>
                <a:lnTo>
                  <a:pt x="417" y="32"/>
                </a:lnTo>
                <a:lnTo>
                  <a:pt x="449" y="39"/>
                </a:lnTo>
                <a:lnTo>
                  <a:pt x="480" y="47"/>
                </a:lnTo>
                <a:lnTo>
                  <a:pt x="509" y="58"/>
                </a:lnTo>
                <a:lnTo>
                  <a:pt x="537" y="69"/>
                </a:lnTo>
                <a:lnTo>
                  <a:pt x="562" y="82"/>
                </a:lnTo>
                <a:lnTo>
                  <a:pt x="585" y="95"/>
                </a:lnTo>
                <a:lnTo>
                  <a:pt x="607" y="110"/>
                </a:lnTo>
                <a:lnTo>
                  <a:pt x="625" y="126"/>
                </a:lnTo>
                <a:lnTo>
                  <a:pt x="640" y="142"/>
                </a:lnTo>
                <a:lnTo>
                  <a:pt x="652" y="159"/>
                </a:lnTo>
                <a:lnTo>
                  <a:pt x="661" y="176"/>
                </a:lnTo>
                <a:lnTo>
                  <a:pt x="667" y="193"/>
                </a:lnTo>
                <a:lnTo>
                  <a:pt x="670" y="210"/>
                </a:lnTo>
                <a:lnTo>
                  <a:pt x="669" y="227"/>
                </a:lnTo>
                <a:lnTo>
                  <a:pt x="666" y="244"/>
                </a:lnTo>
                <a:lnTo>
                  <a:pt x="659" y="261"/>
                </a:lnTo>
                <a:lnTo>
                  <a:pt x="650" y="278"/>
                </a:lnTo>
                <a:lnTo>
                  <a:pt x="638" y="294"/>
                </a:lnTo>
                <a:lnTo>
                  <a:pt x="622" y="310"/>
                </a:lnTo>
                <a:lnTo>
                  <a:pt x="604" y="325"/>
                </a:lnTo>
                <a:lnTo>
                  <a:pt x="583" y="339"/>
                </a:lnTo>
                <a:lnTo>
                  <a:pt x="559" y="353"/>
                </a:lnTo>
                <a:lnTo>
                  <a:pt x="533" y="366"/>
                </a:lnTo>
                <a:lnTo>
                  <a:pt x="504" y="378"/>
                </a:lnTo>
                <a:lnTo>
                  <a:pt x="474" y="387"/>
                </a:lnTo>
                <a:lnTo>
                  <a:pt x="442" y="396"/>
                </a:lnTo>
                <a:lnTo>
                  <a:pt x="409" y="403"/>
                </a:lnTo>
                <a:lnTo>
                  <a:pt x="375" y="409"/>
                </a:lnTo>
                <a:lnTo>
                  <a:pt x="341" y="414"/>
                </a:lnTo>
                <a:lnTo>
                  <a:pt x="306" y="417"/>
                </a:lnTo>
                <a:lnTo>
                  <a:pt x="270" y="418"/>
                </a:lnTo>
                <a:lnTo>
                  <a:pt x="235" y="418"/>
                </a:lnTo>
                <a:lnTo>
                  <a:pt x="199" y="416"/>
                </a:lnTo>
                <a:lnTo>
                  <a:pt x="164" y="414"/>
                </a:lnTo>
                <a:lnTo>
                  <a:pt x="129" y="409"/>
                </a:lnTo>
                <a:lnTo>
                  <a:pt x="96" y="403"/>
                </a:lnTo>
                <a:lnTo>
                  <a:pt x="62" y="396"/>
                </a:lnTo>
                <a:lnTo>
                  <a:pt x="30" y="386"/>
                </a:lnTo>
                <a:lnTo>
                  <a:pt x="0" y="376"/>
                </a:lnTo>
                <a:lnTo>
                  <a:pt x="0" y="379"/>
                </a:lnTo>
                <a:lnTo>
                  <a:pt x="1" y="381"/>
                </a:lnTo>
                <a:lnTo>
                  <a:pt x="1" y="384"/>
                </a:lnTo>
                <a:lnTo>
                  <a:pt x="2" y="386"/>
                </a:lnTo>
                <a:lnTo>
                  <a:pt x="2" y="389"/>
                </a:lnTo>
                <a:lnTo>
                  <a:pt x="3" y="391"/>
                </a:lnTo>
                <a:lnTo>
                  <a:pt x="3" y="394"/>
                </a:lnTo>
                <a:lnTo>
                  <a:pt x="4" y="396"/>
                </a:lnTo>
                <a:lnTo>
                  <a:pt x="38" y="406"/>
                </a:lnTo>
                <a:lnTo>
                  <a:pt x="71" y="414"/>
                </a:lnTo>
                <a:lnTo>
                  <a:pt x="107" y="421"/>
                </a:lnTo>
                <a:lnTo>
                  <a:pt x="143" y="426"/>
                </a:lnTo>
                <a:lnTo>
                  <a:pt x="179" y="430"/>
                </a:lnTo>
                <a:lnTo>
                  <a:pt x="216" y="432"/>
                </a:lnTo>
                <a:lnTo>
                  <a:pt x="253" y="433"/>
                </a:lnTo>
                <a:lnTo>
                  <a:pt x="290" y="432"/>
                </a:lnTo>
                <a:lnTo>
                  <a:pt x="327" y="430"/>
                </a:lnTo>
                <a:lnTo>
                  <a:pt x="363" y="426"/>
                </a:lnTo>
                <a:lnTo>
                  <a:pt x="399" y="421"/>
                </a:lnTo>
                <a:lnTo>
                  <a:pt x="433" y="415"/>
                </a:lnTo>
                <a:lnTo>
                  <a:pt x="467" y="407"/>
                </a:lnTo>
                <a:lnTo>
                  <a:pt x="500" y="397"/>
                </a:lnTo>
                <a:lnTo>
                  <a:pt x="531" y="386"/>
                </a:lnTo>
                <a:lnTo>
                  <a:pt x="560" y="374"/>
                </a:lnTo>
                <a:lnTo>
                  <a:pt x="588" y="361"/>
                </a:lnTo>
                <a:lnTo>
                  <a:pt x="611" y="347"/>
                </a:lnTo>
                <a:lnTo>
                  <a:pt x="633" y="331"/>
                </a:lnTo>
                <a:lnTo>
                  <a:pt x="651" y="316"/>
                </a:lnTo>
                <a:lnTo>
                  <a:pt x="667" y="300"/>
                </a:lnTo>
                <a:lnTo>
                  <a:pt x="679" y="283"/>
                </a:lnTo>
                <a:lnTo>
                  <a:pt x="689" y="265"/>
                </a:lnTo>
                <a:lnTo>
                  <a:pt x="696" y="247"/>
                </a:lnTo>
                <a:lnTo>
                  <a:pt x="699" y="230"/>
                </a:lnTo>
                <a:lnTo>
                  <a:pt x="701" y="212"/>
                </a:lnTo>
                <a:lnTo>
                  <a:pt x="698" y="194"/>
                </a:lnTo>
                <a:lnTo>
                  <a:pt x="693" y="176"/>
                </a:lnTo>
                <a:lnTo>
                  <a:pt x="684" y="158"/>
                </a:lnTo>
                <a:lnTo>
                  <a:pt x="672" y="141"/>
                </a:lnTo>
                <a:lnTo>
                  <a:pt x="657" y="124"/>
                </a:lnTo>
                <a:lnTo>
                  <a:pt x="639" y="107"/>
                </a:lnTo>
                <a:lnTo>
                  <a:pt x="618" y="91"/>
                </a:lnTo>
                <a:lnTo>
                  <a:pt x="595" y="77"/>
                </a:lnTo>
                <a:lnTo>
                  <a:pt x="570" y="63"/>
                </a:lnTo>
                <a:lnTo>
                  <a:pt x="541" y="51"/>
                </a:lnTo>
                <a:lnTo>
                  <a:pt x="512" y="40"/>
                </a:lnTo>
                <a:lnTo>
                  <a:pt x="481" y="31"/>
                </a:lnTo>
                <a:lnTo>
                  <a:pt x="448" y="22"/>
                </a:lnTo>
                <a:lnTo>
                  <a:pt x="414" y="15"/>
                </a:lnTo>
                <a:lnTo>
                  <a:pt x="379" y="9"/>
                </a:lnTo>
                <a:lnTo>
                  <a:pt x="343" y="5"/>
                </a:lnTo>
                <a:lnTo>
                  <a:pt x="306" y="2"/>
                </a:lnTo>
                <a:lnTo>
                  <a:pt x="269" y="0"/>
                </a:lnTo>
                <a:lnTo>
                  <a:pt x="231" y="1"/>
                </a:lnTo>
                <a:lnTo>
                  <a:pt x="193" y="2"/>
                </a:lnTo>
                <a:lnTo>
                  <a:pt x="155" y="5"/>
                </a:lnTo>
                <a:lnTo>
                  <a:pt x="117" y="11"/>
                </a:lnTo>
              </a:path>
            </a:pathLst>
          </a:cu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374840" y="4303800"/>
            <a:ext cx="1071360" cy="641160"/>
          </a:xfrm>
          <a:custGeom>
            <a:avLst/>
            <a:gdLst/>
            <a:ahLst/>
            <a:rect l="l" t="t" r="r" b="b"/>
            <a:pathLst>
              <a:path w="675" h="404">
                <a:moveTo>
                  <a:pt x="102" y="15"/>
                </a:moveTo>
                <a:lnTo>
                  <a:pt x="100" y="18"/>
                </a:lnTo>
                <a:lnTo>
                  <a:pt x="97" y="20"/>
                </a:lnTo>
                <a:lnTo>
                  <a:pt x="95" y="22"/>
                </a:lnTo>
                <a:lnTo>
                  <a:pt x="93" y="25"/>
                </a:lnTo>
                <a:lnTo>
                  <a:pt x="91" y="27"/>
                </a:lnTo>
                <a:lnTo>
                  <a:pt x="89" y="29"/>
                </a:lnTo>
                <a:lnTo>
                  <a:pt x="87" y="32"/>
                </a:lnTo>
                <a:lnTo>
                  <a:pt x="85" y="34"/>
                </a:lnTo>
                <a:lnTo>
                  <a:pt x="119" y="27"/>
                </a:lnTo>
                <a:lnTo>
                  <a:pt x="152" y="22"/>
                </a:lnTo>
                <a:lnTo>
                  <a:pt x="187" y="18"/>
                </a:lnTo>
                <a:lnTo>
                  <a:pt x="221" y="16"/>
                </a:lnTo>
                <a:lnTo>
                  <a:pt x="256" y="15"/>
                </a:lnTo>
                <a:lnTo>
                  <a:pt x="291" y="15"/>
                </a:lnTo>
                <a:lnTo>
                  <a:pt x="324" y="18"/>
                </a:lnTo>
                <a:lnTo>
                  <a:pt x="358" y="21"/>
                </a:lnTo>
                <a:lnTo>
                  <a:pt x="391" y="26"/>
                </a:lnTo>
                <a:lnTo>
                  <a:pt x="423" y="32"/>
                </a:lnTo>
                <a:lnTo>
                  <a:pt x="453" y="40"/>
                </a:lnTo>
                <a:lnTo>
                  <a:pt x="482" y="49"/>
                </a:lnTo>
                <a:lnTo>
                  <a:pt x="509" y="60"/>
                </a:lnTo>
                <a:lnTo>
                  <a:pt x="535" y="71"/>
                </a:lnTo>
                <a:lnTo>
                  <a:pt x="559" y="84"/>
                </a:lnTo>
                <a:lnTo>
                  <a:pt x="580" y="98"/>
                </a:lnTo>
                <a:lnTo>
                  <a:pt x="599" y="113"/>
                </a:lnTo>
                <a:lnTo>
                  <a:pt x="614" y="129"/>
                </a:lnTo>
                <a:lnTo>
                  <a:pt x="626" y="144"/>
                </a:lnTo>
                <a:lnTo>
                  <a:pt x="635" y="161"/>
                </a:lnTo>
                <a:lnTo>
                  <a:pt x="641" y="177"/>
                </a:lnTo>
                <a:lnTo>
                  <a:pt x="644" y="194"/>
                </a:lnTo>
                <a:lnTo>
                  <a:pt x="644" y="210"/>
                </a:lnTo>
                <a:lnTo>
                  <a:pt x="641" y="227"/>
                </a:lnTo>
                <a:lnTo>
                  <a:pt x="635" y="243"/>
                </a:lnTo>
                <a:lnTo>
                  <a:pt x="626" y="259"/>
                </a:lnTo>
                <a:lnTo>
                  <a:pt x="614" y="275"/>
                </a:lnTo>
                <a:lnTo>
                  <a:pt x="599" y="290"/>
                </a:lnTo>
                <a:lnTo>
                  <a:pt x="581" y="304"/>
                </a:lnTo>
                <a:lnTo>
                  <a:pt x="561" y="318"/>
                </a:lnTo>
                <a:lnTo>
                  <a:pt x="538" y="331"/>
                </a:lnTo>
                <a:lnTo>
                  <a:pt x="511" y="343"/>
                </a:lnTo>
                <a:lnTo>
                  <a:pt x="483" y="354"/>
                </a:lnTo>
                <a:lnTo>
                  <a:pt x="453" y="363"/>
                </a:lnTo>
                <a:lnTo>
                  <a:pt x="423" y="371"/>
                </a:lnTo>
                <a:lnTo>
                  <a:pt x="390" y="378"/>
                </a:lnTo>
                <a:lnTo>
                  <a:pt x="357" y="383"/>
                </a:lnTo>
                <a:lnTo>
                  <a:pt x="323" y="386"/>
                </a:lnTo>
                <a:lnTo>
                  <a:pt x="290" y="388"/>
                </a:lnTo>
                <a:lnTo>
                  <a:pt x="256" y="389"/>
                </a:lnTo>
                <a:lnTo>
                  <a:pt x="221" y="388"/>
                </a:lnTo>
                <a:lnTo>
                  <a:pt x="187" y="386"/>
                </a:lnTo>
                <a:lnTo>
                  <a:pt x="153" y="382"/>
                </a:lnTo>
                <a:lnTo>
                  <a:pt x="121" y="377"/>
                </a:lnTo>
                <a:lnTo>
                  <a:pt x="89" y="370"/>
                </a:lnTo>
                <a:lnTo>
                  <a:pt x="58" y="362"/>
                </a:lnTo>
                <a:lnTo>
                  <a:pt x="29" y="353"/>
                </a:lnTo>
                <a:lnTo>
                  <a:pt x="0" y="341"/>
                </a:lnTo>
                <a:lnTo>
                  <a:pt x="0" y="344"/>
                </a:lnTo>
                <a:lnTo>
                  <a:pt x="1" y="346"/>
                </a:lnTo>
                <a:lnTo>
                  <a:pt x="1" y="349"/>
                </a:lnTo>
                <a:lnTo>
                  <a:pt x="2" y="351"/>
                </a:lnTo>
                <a:lnTo>
                  <a:pt x="2" y="354"/>
                </a:lnTo>
                <a:lnTo>
                  <a:pt x="2" y="356"/>
                </a:lnTo>
                <a:lnTo>
                  <a:pt x="4" y="359"/>
                </a:lnTo>
                <a:lnTo>
                  <a:pt x="4" y="361"/>
                </a:lnTo>
                <a:lnTo>
                  <a:pt x="34" y="371"/>
                </a:lnTo>
                <a:lnTo>
                  <a:pt x="66" y="381"/>
                </a:lnTo>
                <a:lnTo>
                  <a:pt x="100" y="388"/>
                </a:lnTo>
                <a:lnTo>
                  <a:pt x="133" y="394"/>
                </a:lnTo>
                <a:lnTo>
                  <a:pt x="168" y="399"/>
                </a:lnTo>
                <a:lnTo>
                  <a:pt x="203" y="401"/>
                </a:lnTo>
                <a:lnTo>
                  <a:pt x="239" y="403"/>
                </a:lnTo>
                <a:lnTo>
                  <a:pt x="274" y="403"/>
                </a:lnTo>
                <a:lnTo>
                  <a:pt x="310" y="402"/>
                </a:lnTo>
                <a:lnTo>
                  <a:pt x="345" y="399"/>
                </a:lnTo>
                <a:lnTo>
                  <a:pt x="379" y="394"/>
                </a:lnTo>
                <a:lnTo>
                  <a:pt x="413" y="388"/>
                </a:lnTo>
                <a:lnTo>
                  <a:pt x="446" y="381"/>
                </a:lnTo>
                <a:lnTo>
                  <a:pt x="478" y="372"/>
                </a:lnTo>
                <a:lnTo>
                  <a:pt x="508" y="363"/>
                </a:lnTo>
                <a:lnTo>
                  <a:pt x="537" y="351"/>
                </a:lnTo>
                <a:lnTo>
                  <a:pt x="563" y="338"/>
                </a:lnTo>
                <a:lnTo>
                  <a:pt x="587" y="324"/>
                </a:lnTo>
                <a:lnTo>
                  <a:pt x="608" y="310"/>
                </a:lnTo>
                <a:lnTo>
                  <a:pt x="626" y="295"/>
                </a:lnTo>
                <a:lnTo>
                  <a:pt x="642" y="279"/>
                </a:lnTo>
                <a:lnTo>
                  <a:pt x="654" y="263"/>
                </a:lnTo>
                <a:lnTo>
                  <a:pt x="663" y="246"/>
                </a:lnTo>
                <a:lnTo>
                  <a:pt x="670" y="229"/>
                </a:lnTo>
                <a:lnTo>
                  <a:pt x="673" y="212"/>
                </a:lnTo>
                <a:lnTo>
                  <a:pt x="674" y="195"/>
                </a:lnTo>
                <a:lnTo>
                  <a:pt x="671" y="178"/>
                </a:lnTo>
                <a:lnTo>
                  <a:pt x="665" y="161"/>
                </a:lnTo>
                <a:lnTo>
                  <a:pt x="656" y="144"/>
                </a:lnTo>
                <a:lnTo>
                  <a:pt x="644" y="127"/>
                </a:lnTo>
                <a:lnTo>
                  <a:pt x="629" y="111"/>
                </a:lnTo>
                <a:lnTo>
                  <a:pt x="611" y="95"/>
                </a:lnTo>
                <a:lnTo>
                  <a:pt x="589" y="80"/>
                </a:lnTo>
                <a:lnTo>
                  <a:pt x="566" y="67"/>
                </a:lnTo>
                <a:lnTo>
                  <a:pt x="541" y="54"/>
                </a:lnTo>
                <a:lnTo>
                  <a:pt x="513" y="43"/>
                </a:lnTo>
                <a:lnTo>
                  <a:pt x="484" y="32"/>
                </a:lnTo>
                <a:lnTo>
                  <a:pt x="453" y="24"/>
                </a:lnTo>
                <a:lnTo>
                  <a:pt x="421" y="17"/>
                </a:lnTo>
                <a:lnTo>
                  <a:pt x="388" y="10"/>
                </a:lnTo>
                <a:lnTo>
                  <a:pt x="353" y="6"/>
                </a:lnTo>
                <a:lnTo>
                  <a:pt x="318" y="2"/>
                </a:lnTo>
                <a:lnTo>
                  <a:pt x="282" y="1"/>
                </a:lnTo>
                <a:lnTo>
                  <a:pt x="246" y="0"/>
                </a:lnTo>
                <a:lnTo>
                  <a:pt x="209" y="2"/>
                </a:lnTo>
                <a:lnTo>
                  <a:pt x="173" y="4"/>
                </a:lnTo>
                <a:lnTo>
                  <a:pt x="138" y="9"/>
                </a:lnTo>
                <a:lnTo>
                  <a:pt x="102" y="15"/>
                </a:lnTo>
              </a:path>
            </a:pathLst>
          </a:cu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371600" y="4327560"/>
            <a:ext cx="1027080" cy="595440"/>
          </a:xfrm>
          <a:custGeom>
            <a:avLst/>
            <a:gdLst/>
            <a:ahLst/>
            <a:rect l="l" t="t" r="r" b="b"/>
            <a:pathLst>
              <a:path w="647" h="375">
                <a:moveTo>
                  <a:pt x="87" y="19"/>
                </a:moveTo>
                <a:lnTo>
                  <a:pt x="85" y="22"/>
                </a:lnTo>
                <a:lnTo>
                  <a:pt x="83" y="25"/>
                </a:lnTo>
                <a:lnTo>
                  <a:pt x="82" y="27"/>
                </a:lnTo>
                <a:lnTo>
                  <a:pt x="79" y="30"/>
                </a:lnTo>
                <a:lnTo>
                  <a:pt x="77" y="32"/>
                </a:lnTo>
                <a:lnTo>
                  <a:pt x="76" y="35"/>
                </a:lnTo>
                <a:lnTo>
                  <a:pt x="74" y="37"/>
                </a:lnTo>
                <a:lnTo>
                  <a:pt x="72" y="40"/>
                </a:lnTo>
                <a:lnTo>
                  <a:pt x="103" y="32"/>
                </a:lnTo>
                <a:lnTo>
                  <a:pt x="134" y="25"/>
                </a:lnTo>
                <a:lnTo>
                  <a:pt x="167" y="20"/>
                </a:lnTo>
                <a:lnTo>
                  <a:pt x="200" y="16"/>
                </a:lnTo>
                <a:lnTo>
                  <a:pt x="233" y="14"/>
                </a:lnTo>
                <a:lnTo>
                  <a:pt x="265" y="14"/>
                </a:lnTo>
                <a:lnTo>
                  <a:pt x="299" y="15"/>
                </a:lnTo>
                <a:lnTo>
                  <a:pt x="331" y="17"/>
                </a:lnTo>
                <a:lnTo>
                  <a:pt x="362" y="21"/>
                </a:lnTo>
                <a:lnTo>
                  <a:pt x="394" y="27"/>
                </a:lnTo>
                <a:lnTo>
                  <a:pt x="424" y="33"/>
                </a:lnTo>
                <a:lnTo>
                  <a:pt x="452" y="41"/>
                </a:lnTo>
                <a:lnTo>
                  <a:pt x="480" y="51"/>
                </a:lnTo>
                <a:lnTo>
                  <a:pt x="505" y="61"/>
                </a:lnTo>
                <a:lnTo>
                  <a:pt x="529" y="73"/>
                </a:lnTo>
                <a:lnTo>
                  <a:pt x="550" y="86"/>
                </a:lnTo>
                <a:lnTo>
                  <a:pt x="569" y="101"/>
                </a:lnTo>
                <a:lnTo>
                  <a:pt x="585" y="116"/>
                </a:lnTo>
                <a:lnTo>
                  <a:pt x="597" y="130"/>
                </a:lnTo>
                <a:lnTo>
                  <a:pt x="606" y="146"/>
                </a:lnTo>
                <a:lnTo>
                  <a:pt x="613" y="162"/>
                </a:lnTo>
                <a:lnTo>
                  <a:pt x="616" y="178"/>
                </a:lnTo>
                <a:lnTo>
                  <a:pt x="617" y="194"/>
                </a:lnTo>
                <a:lnTo>
                  <a:pt x="614" y="210"/>
                </a:lnTo>
                <a:lnTo>
                  <a:pt x="608" y="225"/>
                </a:lnTo>
                <a:lnTo>
                  <a:pt x="599" y="240"/>
                </a:lnTo>
                <a:lnTo>
                  <a:pt x="587" y="256"/>
                </a:lnTo>
                <a:lnTo>
                  <a:pt x="574" y="270"/>
                </a:lnTo>
                <a:lnTo>
                  <a:pt x="556" y="284"/>
                </a:lnTo>
                <a:lnTo>
                  <a:pt x="536" y="297"/>
                </a:lnTo>
                <a:lnTo>
                  <a:pt x="512" y="309"/>
                </a:lnTo>
                <a:lnTo>
                  <a:pt x="487" y="320"/>
                </a:lnTo>
                <a:lnTo>
                  <a:pt x="458" y="330"/>
                </a:lnTo>
                <a:lnTo>
                  <a:pt x="430" y="339"/>
                </a:lnTo>
                <a:lnTo>
                  <a:pt x="399" y="346"/>
                </a:lnTo>
                <a:lnTo>
                  <a:pt x="368" y="351"/>
                </a:lnTo>
                <a:lnTo>
                  <a:pt x="336" y="355"/>
                </a:lnTo>
                <a:lnTo>
                  <a:pt x="303" y="358"/>
                </a:lnTo>
                <a:lnTo>
                  <a:pt x="271" y="360"/>
                </a:lnTo>
                <a:lnTo>
                  <a:pt x="238" y="359"/>
                </a:lnTo>
                <a:lnTo>
                  <a:pt x="205" y="357"/>
                </a:lnTo>
                <a:lnTo>
                  <a:pt x="172" y="354"/>
                </a:lnTo>
                <a:lnTo>
                  <a:pt x="141" y="350"/>
                </a:lnTo>
                <a:lnTo>
                  <a:pt x="110" y="344"/>
                </a:lnTo>
                <a:lnTo>
                  <a:pt x="80" y="336"/>
                </a:lnTo>
                <a:lnTo>
                  <a:pt x="52" y="327"/>
                </a:lnTo>
                <a:lnTo>
                  <a:pt x="26" y="317"/>
                </a:lnTo>
                <a:lnTo>
                  <a:pt x="0" y="305"/>
                </a:lnTo>
                <a:lnTo>
                  <a:pt x="0" y="308"/>
                </a:lnTo>
                <a:lnTo>
                  <a:pt x="1" y="310"/>
                </a:lnTo>
                <a:lnTo>
                  <a:pt x="1" y="314"/>
                </a:lnTo>
                <a:lnTo>
                  <a:pt x="1" y="316"/>
                </a:lnTo>
                <a:lnTo>
                  <a:pt x="1" y="319"/>
                </a:lnTo>
                <a:lnTo>
                  <a:pt x="1" y="321"/>
                </a:lnTo>
                <a:lnTo>
                  <a:pt x="2" y="324"/>
                </a:lnTo>
                <a:lnTo>
                  <a:pt x="2" y="326"/>
                </a:lnTo>
                <a:lnTo>
                  <a:pt x="31" y="338"/>
                </a:lnTo>
                <a:lnTo>
                  <a:pt x="60" y="347"/>
                </a:lnTo>
                <a:lnTo>
                  <a:pt x="91" y="355"/>
                </a:lnTo>
                <a:lnTo>
                  <a:pt x="123" y="362"/>
                </a:lnTo>
                <a:lnTo>
                  <a:pt x="155" y="367"/>
                </a:lnTo>
                <a:lnTo>
                  <a:pt x="189" y="371"/>
                </a:lnTo>
                <a:lnTo>
                  <a:pt x="223" y="373"/>
                </a:lnTo>
                <a:lnTo>
                  <a:pt x="258" y="374"/>
                </a:lnTo>
                <a:lnTo>
                  <a:pt x="292" y="373"/>
                </a:lnTo>
                <a:lnTo>
                  <a:pt x="325" y="371"/>
                </a:lnTo>
                <a:lnTo>
                  <a:pt x="359" y="368"/>
                </a:lnTo>
                <a:lnTo>
                  <a:pt x="392" y="363"/>
                </a:lnTo>
                <a:lnTo>
                  <a:pt x="425" y="356"/>
                </a:lnTo>
                <a:lnTo>
                  <a:pt x="455" y="348"/>
                </a:lnTo>
                <a:lnTo>
                  <a:pt x="485" y="339"/>
                </a:lnTo>
                <a:lnTo>
                  <a:pt x="513" y="328"/>
                </a:lnTo>
                <a:lnTo>
                  <a:pt x="540" y="316"/>
                </a:lnTo>
                <a:lnTo>
                  <a:pt x="563" y="303"/>
                </a:lnTo>
                <a:lnTo>
                  <a:pt x="583" y="289"/>
                </a:lnTo>
                <a:lnTo>
                  <a:pt x="601" y="275"/>
                </a:lnTo>
                <a:lnTo>
                  <a:pt x="616" y="260"/>
                </a:lnTo>
                <a:lnTo>
                  <a:pt x="628" y="244"/>
                </a:lnTo>
                <a:lnTo>
                  <a:pt x="637" y="228"/>
                </a:lnTo>
                <a:lnTo>
                  <a:pt x="643" y="212"/>
                </a:lnTo>
                <a:lnTo>
                  <a:pt x="646" y="195"/>
                </a:lnTo>
                <a:lnTo>
                  <a:pt x="646" y="179"/>
                </a:lnTo>
                <a:lnTo>
                  <a:pt x="643" y="162"/>
                </a:lnTo>
                <a:lnTo>
                  <a:pt x="637" y="146"/>
                </a:lnTo>
                <a:lnTo>
                  <a:pt x="628" y="129"/>
                </a:lnTo>
                <a:lnTo>
                  <a:pt x="616" y="114"/>
                </a:lnTo>
                <a:lnTo>
                  <a:pt x="601" y="98"/>
                </a:lnTo>
                <a:lnTo>
                  <a:pt x="582" y="83"/>
                </a:lnTo>
                <a:lnTo>
                  <a:pt x="561" y="69"/>
                </a:lnTo>
                <a:lnTo>
                  <a:pt x="537" y="56"/>
                </a:lnTo>
                <a:lnTo>
                  <a:pt x="511" y="45"/>
                </a:lnTo>
                <a:lnTo>
                  <a:pt x="484" y="34"/>
                </a:lnTo>
                <a:lnTo>
                  <a:pt x="455" y="25"/>
                </a:lnTo>
                <a:lnTo>
                  <a:pt x="425" y="17"/>
                </a:lnTo>
                <a:lnTo>
                  <a:pt x="393" y="11"/>
                </a:lnTo>
                <a:lnTo>
                  <a:pt x="360" y="6"/>
                </a:lnTo>
                <a:lnTo>
                  <a:pt x="326" y="3"/>
                </a:lnTo>
                <a:lnTo>
                  <a:pt x="293" y="0"/>
                </a:lnTo>
                <a:lnTo>
                  <a:pt x="258" y="0"/>
                </a:lnTo>
                <a:lnTo>
                  <a:pt x="223" y="1"/>
                </a:lnTo>
                <a:lnTo>
                  <a:pt x="189" y="3"/>
                </a:lnTo>
                <a:lnTo>
                  <a:pt x="154" y="7"/>
                </a:lnTo>
                <a:lnTo>
                  <a:pt x="121" y="12"/>
                </a:lnTo>
                <a:lnTo>
                  <a:pt x="87" y="19"/>
                </a:lnTo>
              </a:path>
            </a:pathLst>
          </a:cu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370160" y="4349880"/>
            <a:ext cx="982440" cy="550800"/>
          </a:xfrm>
          <a:custGeom>
            <a:avLst/>
            <a:gdLst/>
            <a:ahLst/>
            <a:rect l="l" t="t" r="r" b="b"/>
            <a:pathLst>
              <a:path w="619" h="347">
                <a:moveTo>
                  <a:pt x="73" y="26"/>
                </a:moveTo>
                <a:lnTo>
                  <a:pt x="71" y="28"/>
                </a:lnTo>
                <a:lnTo>
                  <a:pt x="69" y="32"/>
                </a:lnTo>
                <a:lnTo>
                  <a:pt x="68" y="34"/>
                </a:lnTo>
                <a:lnTo>
                  <a:pt x="66" y="37"/>
                </a:lnTo>
                <a:lnTo>
                  <a:pt x="64" y="39"/>
                </a:lnTo>
                <a:lnTo>
                  <a:pt x="62" y="42"/>
                </a:lnTo>
                <a:lnTo>
                  <a:pt x="60" y="45"/>
                </a:lnTo>
                <a:lnTo>
                  <a:pt x="58" y="48"/>
                </a:lnTo>
                <a:lnTo>
                  <a:pt x="78" y="41"/>
                </a:lnTo>
                <a:lnTo>
                  <a:pt x="99" y="35"/>
                </a:lnTo>
                <a:lnTo>
                  <a:pt x="122" y="29"/>
                </a:lnTo>
                <a:lnTo>
                  <a:pt x="144" y="24"/>
                </a:lnTo>
                <a:lnTo>
                  <a:pt x="166" y="21"/>
                </a:lnTo>
                <a:lnTo>
                  <a:pt x="189" y="18"/>
                </a:lnTo>
                <a:lnTo>
                  <a:pt x="213" y="16"/>
                </a:lnTo>
                <a:lnTo>
                  <a:pt x="237" y="15"/>
                </a:lnTo>
                <a:lnTo>
                  <a:pt x="261" y="14"/>
                </a:lnTo>
                <a:lnTo>
                  <a:pt x="284" y="15"/>
                </a:lnTo>
                <a:lnTo>
                  <a:pt x="308" y="16"/>
                </a:lnTo>
                <a:lnTo>
                  <a:pt x="332" y="18"/>
                </a:lnTo>
                <a:lnTo>
                  <a:pt x="355" y="21"/>
                </a:lnTo>
                <a:lnTo>
                  <a:pt x="378" y="25"/>
                </a:lnTo>
                <a:lnTo>
                  <a:pt x="400" y="29"/>
                </a:lnTo>
                <a:lnTo>
                  <a:pt x="422" y="35"/>
                </a:lnTo>
                <a:lnTo>
                  <a:pt x="444" y="41"/>
                </a:lnTo>
                <a:lnTo>
                  <a:pt x="464" y="48"/>
                </a:lnTo>
                <a:lnTo>
                  <a:pt x="483" y="56"/>
                </a:lnTo>
                <a:lnTo>
                  <a:pt x="500" y="64"/>
                </a:lnTo>
                <a:lnTo>
                  <a:pt x="515" y="73"/>
                </a:lnTo>
                <a:lnTo>
                  <a:pt x="530" y="82"/>
                </a:lnTo>
                <a:lnTo>
                  <a:pt x="543" y="92"/>
                </a:lnTo>
                <a:lnTo>
                  <a:pt x="554" y="102"/>
                </a:lnTo>
                <a:lnTo>
                  <a:pt x="564" y="112"/>
                </a:lnTo>
                <a:lnTo>
                  <a:pt x="572" y="124"/>
                </a:lnTo>
                <a:lnTo>
                  <a:pt x="579" y="134"/>
                </a:lnTo>
                <a:lnTo>
                  <a:pt x="584" y="146"/>
                </a:lnTo>
                <a:lnTo>
                  <a:pt x="587" y="157"/>
                </a:lnTo>
                <a:lnTo>
                  <a:pt x="588" y="169"/>
                </a:lnTo>
                <a:lnTo>
                  <a:pt x="587" y="181"/>
                </a:lnTo>
                <a:lnTo>
                  <a:pt x="585" y="193"/>
                </a:lnTo>
                <a:lnTo>
                  <a:pt x="581" y="205"/>
                </a:lnTo>
                <a:lnTo>
                  <a:pt x="576" y="217"/>
                </a:lnTo>
                <a:lnTo>
                  <a:pt x="567" y="228"/>
                </a:lnTo>
                <a:lnTo>
                  <a:pt x="559" y="239"/>
                </a:lnTo>
                <a:lnTo>
                  <a:pt x="548" y="249"/>
                </a:lnTo>
                <a:lnTo>
                  <a:pt x="535" y="259"/>
                </a:lnTo>
                <a:lnTo>
                  <a:pt x="522" y="268"/>
                </a:lnTo>
                <a:lnTo>
                  <a:pt x="507" y="278"/>
                </a:lnTo>
                <a:lnTo>
                  <a:pt x="490" y="286"/>
                </a:lnTo>
                <a:lnTo>
                  <a:pt x="473" y="294"/>
                </a:lnTo>
                <a:lnTo>
                  <a:pt x="454" y="301"/>
                </a:lnTo>
                <a:lnTo>
                  <a:pt x="434" y="307"/>
                </a:lnTo>
                <a:lnTo>
                  <a:pt x="413" y="313"/>
                </a:lnTo>
                <a:lnTo>
                  <a:pt x="391" y="318"/>
                </a:lnTo>
                <a:lnTo>
                  <a:pt x="368" y="323"/>
                </a:lnTo>
                <a:lnTo>
                  <a:pt x="344" y="326"/>
                </a:lnTo>
                <a:lnTo>
                  <a:pt x="320" y="329"/>
                </a:lnTo>
                <a:lnTo>
                  <a:pt x="296" y="330"/>
                </a:lnTo>
                <a:lnTo>
                  <a:pt x="272" y="331"/>
                </a:lnTo>
                <a:lnTo>
                  <a:pt x="247" y="331"/>
                </a:lnTo>
                <a:lnTo>
                  <a:pt x="223" y="330"/>
                </a:lnTo>
                <a:lnTo>
                  <a:pt x="200" y="329"/>
                </a:lnTo>
                <a:lnTo>
                  <a:pt x="176" y="326"/>
                </a:lnTo>
                <a:lnTo>
                  <a:pt x="153" y="323"/>
                </a:lnTo>
                <a:lnTo>
                  <a:pt x="131" y="318"/>
                </a:lnTo>
                <a:lnTo>
                  <a:pt x="110" y="313"/>
                </a:lnTo>
                <a:lnTo>
                  <a:pt x="89" y="308"/>
                </a:lnTo>
                <a:lnTo>
                  <a:pt x="69" y="301"/>
                </a:lnTo>
                <a:lnTo>
                  <a:pt x="50" y="294"/>
                </a:lnTo>
                <a:lnTo>
                  <a:pt x="33" y="286"/>
                </a:lnTo>
                <a:lnTo>
                  <a:pt x="16" y="278"/>
                </a:lnTo>
                <a:lnTo>
                  <a:pt x="0" y="268"/>
                </a:lnTo>
                <a:lnTo>
                  <a:pt x="0" y="271"/>
                </a:lnTo>
                <a:lnTo>
                  <a:pt x="0" y="274"/>
                </a:lnTo>
                <a:lnTo>
                  <a:pt x="0" y="277"/>
                </a:lnTo>
                <a:lnTo>
                  <a:pt x="1" y="280"/>
                </a:lnTo>
                <a:lnTo>
                  <a:pt x="1" y="283"/>
                </a:lnTo>
                <a:lnTo>
                  <a:pt x="1" y="286"/>
                </a:lnTo>
                <a:lnTo>
                  <a:pt x="1" y="288"/>
                </a:lnTo>
                <a:lnTo>
                  <a:pt x="1" y="291"/>
                </a:lnTo>
                <a:lnTo>
                  <a:pt x="27" y="303"/>
                </a:lnTo>
                <a:lnTo>
                  <a:pt x="53" y="313"/>
                </a:lnTo>
                <a:lnTo>
                  <a:pt x="81" y="322"/>
                </a:lnTo>
                <a:lnTo>
                  <a:pt x="111" y="330"/>
                </a:lnTo>
                <a:lnTo>
                  <a:pt x="142" y="336"/>
                </a:lnTo>
                <a:lnTo>
                  <a:pt x="173" y="340"/>
                </a:lnTo>
                <a:lnTo>
                  <a:pt x="206" y="343"/>
                </a:lnTo>
                <a:lnTo>
                  <a:pt x="239" y="345"/>
                </a:lnTo>
                <a:lnTo>
                  <a:pt x="272" y="346"/>
                </a:lnTo>
                <a:lnTo>
                  <a:pt x="304" y="344"/>
                </a:lnTo>
                <a:lnTo>
                  <a:pt x="337" y="341"/>
                </a:lnTo>
                <a:lnTo>
                  <a:pt x="369" y="337"/>
                </a:lnTo>
                <a:lnTo>
                  <a:pt x="400" y="332"/>
                </a:lnTo>
                <a:lnTo>
                  <a:pt x="431" y="325"/>
                </a:lnTo>
                <a:lnTo>
                  <a:pt x="459" y="316"/>
                </a:lnTo>
                <a:lnTo>
                  <a:pt x="488" y="306"/>
                </a:lnTo>
                <a:lnTo>
                  <a:pt x="513" y="295"/>
                </a:lnTo>
                <a:lnTo>
                  <a:pt x="537" y="283"/>
                </a:lnTo>
                <a:lnTo>
                  <a:pt x="557" y="270"/>
                </a:lnTo>
                <a:lnTo>
                  <a:pt x="575" y="256"/>
                </a:lnTo>
                <a:lnTo>
                  <a:pt x="588" y="242"/>
                </a:lnTo>
                <a:lnTo>
                  <a:pt x="600" y="226"/>
                </a:lnTo>
                <a:lnTo>
                  <a:pt x="609" y="211"/>
                </a:lnTo>
                <a:lnTo>
                  <a:pt x="615" y="196"/>
                </a:lnTo>
                <a:lnTo>
                  <a:pt x="618" y="180"/>
                </a:lnTo>
                <a:lnTo>
                  <a:pt x="617" y="164"/>
                </a:lnTo>
                <a:lnTo>
                  <a:pt x="614" y="148"/>
                </a:lnTo>
                <a:lnTo>
                  <a:pt x="607" y="132"/>
                </a:lnTo>
                <a:lnTo>
                  <a:pt x="598" y="116"/>
                </a:lnTo>
                <a:lnTo>
                  <a:pt x="586" y="102"/>
                </a:lnTo>
                <a:lnTo>
                  <a:pt x="570" y="87"/>
                </a:lnTo>
                <a:lnTo>
                  <a:pt x="551" y="72"/>
                </a:lnTo>
                <a:lnTo>
                  <a:pt x="530" y="59"/>
                </a:lnTo>
                <a:lnTo>
                  <a:pt x="506" y="47"/>
                </a:lnTo>
                <a:lnTo>
                  <a:pt x="481" y="37"/>
                </a:lnTo>
                <a:lnTo>
                  <a:pt x="453" y="27"/>
                </a:lnTo>
                <a:lnTo>
                  <a:pt x="425" y="19"/>
                </a:lnTo>
                <a:lnTo>
                  <a:pt x="395" y="13"/>
                </a:lnTo>
                <a:lnTo>
                  <a:pt x="363" y="7"/>
                </a:lnTo>
                <a:lnTo>
                  <a:pt x="332" y="3"/>
                </a:lnTo>
                <a:lnTo>
                  <a:pt x="300" y="1"/>
                </a:lnTo>
                <a:lnTo>
                  <a:pt x="266" y="0"/>
                </a:lnTo>
                <a:lnTo>
                  <a:pt x="234" y="0"/>
                </a:lnTo>
                <a:lnTo>
                  <a:pt x="201" y="2"/>
                </a:lnTo>
                <a:lnTo>
                  <a:pt x="168" y="6"/>
                </a:lnTo>
                <a:lnTo>
                  <a:pt x="135" y="11"/>
                </a:lnTo>
                <a:lnTo>
                  <a:pt x="104" y="18"/>
                </a:lnTo>
                <a:lnTo>
                  <a:pt x="73" y="26"/>
                </a:lnTo>
              </a:path>
            </a:pathLst>
          </a:cu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370160" y="4371840"/>
            <a:ext cx="934920" cy="505080"/>
          </a:xfrm>
          <a:custGeom>
            <a:avLst/>
            <a:gdLst/>
            <a:ahLst/>
            <a:rect l="l" t="t" r="r" b="b"/>
            <a:pathLst>
              <a:path w="589" h="318">
                <a:moveTo>
                  <a:pt x="58" y="34"/>
                </a:moveTo>
                <a:lnTo>
                  <a:pt x="56" y="37"/>
                </a:lnTo>
                <a:lnTo>
                  <a:pt x="54" y="41"/>
                </a:lnTo>
                <a:lnTo>
                  <a:pt x="53" y="44"/>
                </a:lnTo>
                <a:lnTo>
                  <a:pt x="51" y="47"/>
                </a:lnTo>
                <a:lnTo>
                  <a:pt x="49" y="50"/>
                </a:lnTo>
                <a:lnTo>
                  <a:pt x="48" y="54"/>
                </a:lnTo>
                <a:lnTo>
                  <a:pt x="46" y="57"/>
                </a:lnTo>
                <a:lnTo>
                  <a:pt x="43" y="60"/>
                </a:lnTo>
                <a:lnTo>
                  <a:pt x="60" y="52"/>
                </a:lnTo>
                <a:lnTo>
                  <a:pt x="79" y="45"/>
                </a:lnTo>
                <a:lnTo>
                  <a:pt x="98" y="38"/>
                </a:lnTo>
                <a:lnTo>
                  <a:pt x="118" y="32"/>
                </a:lnTo>
                <a:lnTo>
                  <a:pt x="138" y="27"/>
                </a:lnTo>
                <a:lnTo>
                  <a:pt x="161" y="23"/>
                </a:lnTo>
                <a:lnTo>
                  <a:pt x="183" y="20"/>
                </a:lnTo>
                <a:lnTo>
                  <a:pt x="205" y="17"/>
                </a:lnTo>
                <a:lnTo>
                  <a:pt x="227" y="15"/>
                </a:lnTo>
                <a:lnTo>
                  <a:pt x="250" y="14"/>
                </a:lnTo>
                <a:lnTo>
                  <a:pt x="274" y="14"/>
                </a:lnTo>
                <a:lnTo>
                  <a:pt x="297" y="15"/>
                </a:lnTo>
                <a:lnTo>
                  <a:pt x="320" y="18"/>
                </a:lnTo>
                <a:lnTo>
                  <a:pt x="343" y="20"/>
                </a:lnTo>
                <a:lnTo>
                  <a:pt x="365" y="24"/>
                </a:lnTo>
                <a:lnTo>
                  <a:pt x="388" y="28"/>
                </a:lnTo>
                <a:lnTo>
                  <a:pt x="409" y="33"/>
                </a:lnTo>
                <a:lnTo>
                  <a:pt x="429" y="40"/>
                </a:lnTo>
                <a:lnTo>
                  <a:pt x="448" y="47"/>
                </a:lnTo>
                <a:lnTo>
                  <a:pt x="466" y="54"/>
                </a:lnTo>
                <a:lnTo>
                  <a:pt x="482" y="62"/>
                </a:lnTo>
                <a:lnTo>
                  <a:pt x="496" y="71"/>
                </a:lnTo>
                <a:lnTo>
                  <a:pt x="510" y="79"/>
                </a:lnTo>
                <a:lnTo>
                  <a:pt x="522" y="89"/>
                </a:lnTo>
                <a:lnTo>
                  <a:pt x="532" y="99"/>
                </a:lnTo>
                <a:lnTo>
                  <a:pt x="541" y="110"/>
                </a:lnTo>
                <a:lnTo>
                  <a:pt x="548" y="120"/>
                </a:lnTo>
                <a:lnTo>
                  <a:pt x="553" y="131"/>
                </a:lnTo>
                <a:lnTo>
                  <a:pt x="557" y="142"/>
                </a:lnTo>
                <a:lnTo>
                  <a:pt x="559" y="154"/>
                </a:lnTo>
                <a:lnTo>
                  <a:pt x="559" y="165"/>
                </a:lnTo>
                <a:lnTo>
                  <a:pt x="557" y="177"/>
                </a:lnTo>
                <a:lnTo>
                  <a:pt x="552" y="188"/>
                </a:lnTo>
                <a:lnTo>
                  <a:pt x="547" y="199"/>
                </a:lnTo>
                <a:lnTo>
                  <a:pt x="540" y="210"/>
                </a:lnTo>
                <a:lnTo>
                  <a:pt x="530" y="221"/>
                </a:lnTo>
                <a:lnTo>
                  <a:pt x="520" y="230"/>
                </a:lnTo>
                <a:lnTo>
                  <a:pt x="507" y="240"/>
                </a:lnTo>
                <a:lnTo>
                  <a:pt x="493" y="249"/>
                </a:lnTo>
                <a:lnTo>
                  <a:pt x="478" y="257"/>
                </a:lnTo>
                <a:lnTo>
                  <a:pt x="462" y="265"/>
                </a:lnTo>
                <a:lnTo>
                  <a:pt x="445" y="272"/>
                </a:lnTo>
                <a:lnTo>
                  <a:pt x="426" y="279"/>
                </a:lnTo>
                <a:lnTo>
                  <a:pt x="406" y="284"/>
                </a:lnTo>
                <a:lnTo>
                  <a:pt x="384" y="290"/>
                </a:lnTo>
                <a:lnTo>
                  <a:pt x="363" y="294"/>
                </a:lnTo>
                <a:lnTo>
                  <a:pt x="340" y="298"/>
                </a:lnTo>
                <a:lnTo>
                  <a:pt x="317" y="300"/>
                </a:lnTo>
                <a:lnTo>
                  <a:pt x="294" y="302"/>
                </a:lnTo>
                <a:lnTo>
                  <a:pt x="269" y="303"/>
                </a:lnTo>
                <a:lnTo>
                  <a:pt x="246" y="303"/>
                </a:lnTo>
                <a:lnTo>
                  <a:pt x="223" y="302"/>
                </a:lnTo>
                <a:lnTo>
                  <a:pt x="200" y="300"/>
                </a:lnTo>
                <a:lnTo>
                  <a:pt x="178" y="297"/>
                </a:lnTo>
                <a:lnTo>
                  <a:pt x="155" y="294"/>
                </a:lnTo>
                <a:lnTo>
                  <a:pt x="134" y="289"/>
                </a:lnTo>
                <a:lnTo>
                  <a:pt x="114" y="284"/>
                </a:lnTo>
                <a:lnTo>
                  <a:pt x="94" y="278"/>
                </a:lnTo>
                <a:lnTo>
                  <a:pt x="76" y="272"/>
                </a:lnTo>
                <a:lnTo>
                  <a:pt x="58" y="265"/>
                </a:lnTo>
                <a:lnTo>
                  <a:pt x="41" y="256"/>
                </a:lnTo>
                <a:lnTo>
                  <a:pt x="27" y="248"/>
                </a:lnTo>
                <a:lnTo>
                  <a:pt x="13" y="238"/>
                </a:lnTo>
                <a:lnTo>
                  <a:pt x="0" y="229"/>
                </a:lnTo>
                <a:lnTo>
                  <a:pt x="0" y="231"/>
                </a:lnTo>
                <a:lnTo>
                  <a:pt x="0" y="233"/>
                </a:lnTo>
                <a:lnTo>
                  <a:pt x="0" y="235"/>
                </a:lnTo>
                <a:lnTo>
                  <a:pt x="0" y="237"/>
                </a:lnTo>
                <a:lnTo>
                  <a:pt x="0" y="239"/>
                </a:lnTo>
                <a:lnTo>
                  <a:pt x="0" y="242"/>
                </a:lnTo>
                <a:lnTo>
                  <a:pt x="0" y="244"/>
                </a:lnTo>
                <a:lnTo>
                  <a:pt x="0" y="246"/>
                </a:lnTo>
                <a:lnTo>
                  <a:pt x="0" y="248"/>
                </a:lnTo>
                <a:lnTo>
                  <a:pt x="0" y="250"/>
                </a:lnTo>
                <a:lnTo>
                  <a:pt x="0" y="252"/>
                </a:lnTo>
                <a:lnTo>
                  <a:pt x="0" y="254"/>
                </a:lnTo>
                <a:lnTo>
                  <a:pt x="16" y="264"/>
                </a:lnTo>
                <a:lnTo>
                  <a:pt x="33" y="272"/>
                </a:lnTo>
                <a:lnTo>
                  <a:pt x="50" y="280"/>
                </a:lnTo>
                <a:lnTo>
                  <a:pt x="69" y="287"/>
                </a:lnTo>
                <a:lnTo>
                  <a:pt x="89" y="294"/>
                </a:lnTo>
                <a:lnTo>
                  <a:pt x="110" y="299"/>
                </a:lnTo>
                <a:lnTo>
                  <a:pt x="131" y="304"/>
                </a:lnTo>
                <a:lnTo>
                  <a:pt x="153" y="309"/>
                </a:lnTo>
                <a:lnTo>
                  <a:pt x="176" y="312"/>
                </a:lnTo>
                <a:lnTo>
                  <a:pt x="200" y="315"/>
                </a:lnTo>
                <a:lnTo>
                  <a:pt x="223" y="316"/>
                </a:lnTo>
                <a:lnTo>
                  <a:pt x="247" y="317"/>
                </a:lnTo>
                <a:lnTo>
                  <a:pt x="272" y="317"/>
                </a:lnTo>
                <a:lnTo>
                  <a:pt x="296" y="316"/>
                </a:lnTo>
                <a:lnTo>
                  <a:pt x="320" y="315"/>
                </a:lnTo>
                <a:lnTo>
                  <a:pt x="344" y="312"/>
                </a:lnTo>
                <a:lnTo>
                  <a:pt x="368" y="309"/>
                </a:lnTo>
                <a:lnTo>
                  <a:pt x="391" y="304"/>
                </a:lnTo>
                <a:lnTo>
                  <a:pt x="413" y="299"/>
                </a:lnTo>
                <a:lnTo>
                  <a:pt x="434" y="293"/>
                </a:lnTo>
                <a:lnTo>
                  <a:pt x="454" y="287"/>
                </a:lnTo>
                <a:lnTo>
                  <a:pt x="473" y="280"/>
                </a:lnTo>
                <a:lnTo>
                  <a:pt x="490" y="272"/>
                </a:lnTo>
                <a:lnTo>
                  <a:pt x="507" y="264"/>
                </a:lnTo>
                <a:lnTo>
                  <a:pt x="522" y="254"/>
                </a:lnTo>
                <a:lnTo>
                  <a:pt x="535" y="245"/>
                </a:lnTo>
                <a:lnTo>
                  <a:pt x="548" y="235"/>
                </a:lnTo>
                <a:lnTo>
                  <a:pt x="559" y="225"/>
                </a:lnTo>
                <a:lnTo>
                  <a:pt x="567" y="214"/>
                </a:lnTo>
                <a:lnTo>
                  <a:pt x="576" y="203"/>
                </a:lnTo>
                <a:lnTo>
                  <a:pt x="581" y="191"/>
                </a:lnTo>
                <a:lnTo>
                  <a:pt x="585" y="179"/>
                </a:lnTo>
                <a:lnTo>
                  <a:pt x="587" y="167"/>
                </a:lnTo>
                <a:lnTo>
                  <a:pt x="588" y="155"/>
                </a:lnTo>
                <a:lnTo>
                  <a:pt x="587" y="143"/>
                </a:lnTo>
                <a:lnTo>
                  <a:pt x="584" y="132"/>
                </a:lnTo>
                <a:lnTo>
                  <a:pt x="579" y="120"/>
                </a:lnTo>
                <a:lnTo>
                  <a:pt x="572" y="110"/>
                </a:lnTo>
                <a:lnTo>
                  <a:pt x="564" y="98"/>
                </a:lnTo>
                <a:lnTo>
                  <a:pt x="554" y="88"/>
                </a:lnTo>
                <a:lnTo>
                  <a:pt x="543" y="78"/>
                </a:lnTo>
                <a:lnTo>
                  <a:pt x="530" y="68"/>
                </a:lnTo>
                <a:lnTo>
                  <a:pt x="515" y="59"/>
                </a:lnTo>
                <a:lnTo>
                  <a:pt x="500" y="50"/>
                </a:lnTo>
                <a:lnTo>
                  <a:pt x="483" y="42"/>
                </a:lnTo>
                <a:lnTo>
                  <a:pt x="464" y="34"/>
                </a:lnTo>
                <a:lnTo>
                  <a:pt x="444" y="27"/>
                </a:lnTo>
                <a:lnTo>
                  <a:pt x="422" y="21"/>
                </a:lnTo>
                <a:lnTo>
                  <a:pt x="400" y="15"/>
                </a:lnTo>
                <a:lnTo>
                  <a:pt x="378" y="11"/>
                </a:lnTo>
                <a:lnTo>
                  <a:pt x="355" y="7"/>
                </a:lnTo>
                <a:lnTo>
                  <a:pt x="332" y="4"/>
                </a:lnTo>
                <a:lnTo>
                  <a:pt x="308" y="2"/>
                </a:lnTo>
                <a:lnTo>
                  <a:pt x="284" y="1"/>
                </a:lnTo>
                <a:lnTo>
                  <a:pt x="261" y="0"/>
                </a:lnTo>
                <a:lnTo>
                  <a:pt x="237" y="1"/>
                </a:lnTo>
                <a:lnTo>
                  <a:pt x="213" y="2"/>
                </a:lnTo>
                <a:lnTo>
                  <a:pt x="189" y="4"/>
                </a:lnTo>
                <a:lnTo>
                  <a:pt x="166" y="7"/>
                </a:lnTo>
                <a:lnTo>
                  <a:pt x="144" y="10"/>
                </a:lnTo>
                <a:lnTo>
                  <a:pt x="122" y="15"/>
                </a:lnTo>
                <a:lnTo>
                  <a:pt x="99" y="21"/>
                </a:lnTo>
                <a:lnTo>
                  <a:pt x="78" y="27"/>
                </a:lnTo>
                <a:lnTo>
                  <a:pt x="58" y="34"/>
                </a:lnTo>
              </a:path>
            </a:pathLst>
          </a:cu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370160" y="4394160"/>
            <a:ext cx="888840" cy="460440"/>
          </a:xfrm>
          <a:custGeom>
            <a:avLst/>
            <a:gdLst/>
            <a:ahLst/>
            <a:rect l="l" t="t" r="r" b="b"/>
            <a:pathLst>
              <a:path w="560" h="290">
                <a:moveTo>
                  <a:pt x="43" y="46"/>
                </a:moveTo>
                <a:lnTo>
                  <a:pt x="41" y="51"/>
                </a:lnTo>
                <a:lnTo>
                  <a:pt x="39" y="55"/>
                </a:lnTo>
                <a:lnTo>
                  <a:pt x="37" y="59"/>
                </a:lnTo>
                <a:lnTo>
                  <a:pt x="36" y="64"/>
                </a:lnTo>
                <a:lnTo>
                  <a:pt x="34" y="68"/>
                </a:lnTo>
                <a:lnTo>
                  <a:pt x="32" y="73"/>
                </a:lnTo>
                <a:lnTo>
                  <a:pt x="30" y="78"/>
                </a:lnTo>
                <a:lnTo>
                  <a:pt x="28" y="82"/>
                </a:lnTo>
                <a:lnTo>
                  <a:pt x="40" y="73"/>
                </a:lnTo>
                <a:lnTo>
                  <a:pt x="54" y="63"/>
                </a:lnTo>
                <a:lnTo>
                  <a:pt x="69" y="55"/>
                </a:lnTo>
                <a:lnTo>
                  <a:pt x="86" y="47"/>
                </a:lnTo>
                <a:lnTo>
                  <a:pt x="104" y="40"/>
                </a:lnTo>
                <a:lnTo>
                  <a:pt x="123" y="34"/>
                </a:lnTo>
                <a:lnTo>
                  <a:pt x="142" y="29"/>
                </a:lnTo>
                <a:lnTo>
                  <a:pt x="163" y="24"/>
                </a:lnTo>
                <a:lnTo>
                  <a:pt x="184" y="21"/>
                </a:lnTo>
                <a:lnTo>
                  <a:pt x="206" y="18"/>
                </a:lnTo>
                <a:lnTo>
                  <a:pt x="228" y="16"/>
                </a:lnTo>
                <a:lnTo>
                  <a:pt x="251" y="15"/>
                </a:lnTo>
                <a:lnTo>
                  <a:pt x="274" y="15"/>
                </a:lnTo>
                <a:lnTo>
                  <a:pt x="297" y="16"/>
                </a:lnTo>
                <a:lnTo>
                  <a:pt x="320" y="18"/>
                </a:lnTo>
                <a:lnTo>
                  <a:pt x="343" y="21"/>
                </a:lnTo>
                <a:lnTo>
                  <a:pt x="365" y="26"/>
                </a:lnTo>
                <a:lnTo>
                  <a:pt x="387" y="30"/>
                </a:lnTo>
                <a:lnTo>
                  <a:pt x="407" y="36"/>
                </a:lnTo>
                <a:lnTo>
                  <a:pt x="426" y="42"/>
                </a:lnTo>
                <a:lnTo>
                  <a:pt x="443" y="50"/>
                </a:lnTo>
                <a:lnTo>
                  <a:pt x="458" y="57"/>
                </a:lnTo>
                <a:lnTo>
                  <a:pt x="473" y="66"/>
                </a:lnTo>
                <a:lnTo>
                  <a:pt x="486" y="75"/>
                </a:lnTo>
                <a:lnTo>
                  <a:pt x="497" y="84"/>
                </a:lnTo>
                <a:lnTo>
                  <a:pt x="507" y="95"/>
                </a:lnTo>
                <a:lnTo>
                  <a:pt x="515" y="105"/>
                </a:lnTo>
                <a:lnTo>
                  <a:pt x="521" y="116"/>
                </a:lnTo>
                <a:lnTo>
                  <a:pt x="525" y="126"/>
                </a:lnTo>
                <a:lnTo>
                  <a:pt x="528" y="138"/>
                </a:lnTo>
                <a:lnTo>
                  <a:pt x="528" y="149"/>
                </a:lnTo>
                <a:lnTo>
                  <a:pt x="526" y="161"/>
                </a:lnTo>
                <a:lnTo>
                  <a:pt x="522" y="172"/>
                </a:lnTo>
                <a:lnTo>
                  <a:pt x="516" y="183"/>
                </a:lnTo>
                <a:lnTo>
                  <a:pt x="508" y="193"/>
                </a:lnTo>
                <a:lnTo>
                  <a:pt x="499" y="203"/>
                </a:lnTo>
                <a:lnTo>
                  <a:pt x="487" y="213"/>
                </a:lnTo>
                <a:lnTo>
                  <a:pt x="474" y="222"/>
                </a:lnTo>
                <a:lnTo>
                  <a:pt x="460" y="231"/>
                </a:lnTo>
                <a:lnTo>
                  <a:pt x="445" y="238"/>
                </a:lnTo>
                <a:lnTo>
                  <a:pt x="428" y="246"/>
                </a:lnTo>
                <a:lnTo>
                  <a:pt x="409" y="252"/>
                </a:lnTo>
                <a:lnTo>
                  <a:pt x="390" y="258"/>
                </a:lnTo>
                <a:lnTo>
                  <a:pt x="370" y="263"/>
                </a:lnTo>
                <a:lnTo>
                  <a:pt x="348" y="267"/>
                </a:lnTo>
                <a:lnTo>
                  <a:pt x="325" y="270"/>
                </a:lnTo>
                <a:lnTo>
                  <a:pt x="302" y="273"/>
                </a:lnTo>
                <a:lnTo>
                  <a:pt x="279" y="274"/>
                </a:lnTo>
                <a:lnTo>
                  <a:pt x="255" y="274"/>
                </a:lnTo>
                <a:lnTo>
                  <a:pt x="231" y="273"/>
                </a:lnTo>
                <a:lnTo>
                  <a:pt x="209" y="272"/>
                </a:lnTo>
                <a:lnTo>
                  <a:pt x="186" y="269"/>
                </a:lnTo>
                <a:lnTo>
                  <a:pt x="165" y="265"/>
                </a:lnTo>
                <a:lnTo>
                  <a:pt x="144" y="261"/>
                </a:lnTo>
                <a:lnTo>
                  <a:pt x="124" y="256"/>
                </a:lnTo>
                <a:lnTo>
                  <a:pt x="105" y="250"/>
                </a:lnTo>
                <a:lnTo>
                  <a:pt x="88" y="243"/>
                </a:lnTo>
                <a:lnTo>
                  <a:pt x="71" y="236"/>
                </a:lnTo>
                <a:lnTo>
                  <a:pt x="55" y="228"/>
                </a:lnTo>
                <a:lnTo>
                  <a:pt x="41" y="219"/>
                </a:lnTo>
                <a:lnTo>
                  <a:pt x="30" y="210"/>
                </a:lnTo>
                <a:lnTo>
                  <a:pt x="19" y="200"/>
                </a:lnTo>
                <a:lnTo>
                  <a:pt x="11" y="189"/>
                </a:lnTo>
                <a:lnTo>
                  <a:pt x="3" y="178"/>
                </a:lnTo>
                <a:lnTo>
                  <a:pt x="3" y="183"/>
                </a:lnTo>
                <a:lnTo>
                  <a:pt x="2" y="187"/>
                </a:lnTo>
                <a:lnTo>
                  <a:pt x="2" y="192"/>
                </a:lnTo>
                <a:lnTo>
                  <a:pt x="2" y="196"/>
                </a:lnTo>
                <a:lnTo>
                  <a:pt x="1" y="201"/>
                </a:lnTo>
                <a:lnTo>
                  <a:pt x="1" y="206"/>
                </a:lnTo>
                <a:lnTo>
                  <a:pt x="0" y="210"/>
                </a:lnTo>
                <a:lnTo>
                  <a:pt x="0" y="215"/>
                </a:lnTo>
                <a:lnTo>
                  <a:pt x="13" y="224"/>
                </a:lnTo>
                <a:lnTo>
                  <a:pt x="27" y="234"/>
                </a:lnTo>
                <a:lnTo>
                  <a:pt x="41" y="242"/>
                </a:lnTo>
                <a:lnTo>
                  <a:pt x="58" y="251"/>
                </a:lnTo>
                <a:lnTo>
                  <a:pt x="76" y="258"/>
                </a:lnTo>
                <a:lnTo>
                  <a:pt x="94" y="264"/>
                </a:lnTo>
                <a:lnTo>
                  <a:pt x="114" y="270"/>
                </a:lnTo>
                <a:lnTo>
                  <a:pt x="134" y="275"/>
                </a:lnTo>
                <a:lnTo>
                  <a:pt x="155" y="280"/>
                </a:lnTo>
                <a:lnTo>
                  <a:pt x="178" y="283"/>
                </a:lnTo>
                <a:lnTo>
                  <a:pt x="200" y="286"/>
                </a:lnTo>
                <a:lnTo>
                  <a:pt x="223" y="288"/>
                </a:lnTo>
                <a:lnTo>
                  <a:pt x="246" y="289"/>
                </a:lnTo>
                <a:lnTo>
                  <a:pt x="269" y="289"/>
                </a:lnTo>
                <a:lnTo>
                  <a:pt x="294" y="288"/>
                </a:lnTo>
                <a:lnTo>
                  <a:pt x="317" y="286"/>
                </a:lnTo>
                <a:lnTo>
                  <a:pt x="340" y="284"/>
                </a:lnTo>
                <a:lnTo>
                  <a:pt x="363" y="280"/>
                </a:lnTo>
                <a:lnTo>
                  <a:pt x="384" y="276"/>
                </a:lnTo>
                <a:lnTo>
                  <a:pt x="406" y="270"/>
                </a:lnTo>
                <a:lnTo>
                  <a:pt x="426" y="265"/>
                </a:lnTo>
                <a:lnTo>
                  <a:pt x="445" y="258"/>
                </a:lnTo>
                <a:lnTo>
                  <a:pt x="462" y="251"/>
                </a:lnTo>
                <a:lnTo>
                  <a:pt x="478" y="243"/>
                </a:lnTo>
                <a:lnTo>
                  <a:pt x="493" y="235"/>
                </a:lnTo>
                <a:lnTo>
                  <a:pt x="507" y="226"/>
                </a:lnTo>
                <a:lnTo>
                  <a:pt x="520" y="216"/>
                </a:lnTo>
                <a:lnTo>
                  <a:pt x="530" y="207"/>
                </a:lnTo>
                <a:lnTo>
                  <a:pt x="540" y="196"/>
                </a:lnTo>
                <a:lnTo>
                  <a:pt x="547" y="185"/>
                </a:lnTo>
                <a:lnTo>
                  <a:pt x="552" y="174"/>
                </a:lnTo>
                <a:lnTo>
                  <a:pt x="557" y="163"/>
                </a:lnTo>
                <a:lnTo>
                  <a:pt x="559" y="151"/>
                </a:lnTo>
                <a:lnTo>
                  <a:pt x="559" y="140"/>
                </a:lnTo>
                <a:lnTo>
                  <a:pt x="557" y="128"/>
                </a:lnTo>
                <a:lnTo>
                  <a:pt x="553" y="117"/>
                </a:lnTo>
                <a:lnTo>
                  <a:pt x="548" y="106"/>
                </a:lnTo>
                <a:lnTo>
                  <a:pt x="541" y="96"/>
                </a:lnTo>
                <a:lnTo>
                  <a:pt x="532" y="85"/>
                </a:lnTo>
                <a:lnTo>
                  <a:pt x="522" y="75"/>
                </a:lnTo>
                <a:lnTo>
                  <a:pt x="510" y="65"/>
                </a:lnTo>
                <a:lnTo>
                  <a:pt x="496" y="57"/>
                </a:lnTo>
                <a:lnTo>
                  <a:pt x="482" y="48"/>
                </a:lnTo>
                <a:lnTo>
                  <a:pt x="466" y="40"/>
                </a:lnTo>
                <a:lnTo>
                  <a:pt x="448" y="33"/>
                </a:lnTo>
                <a:lnTo>
                  <a:pt x="429" y="26"/>
                </a:lnTo>
                <a:lnTo>
                  <a:pt x="409" y="19"/>
                </a:lnTo>
                <a:lnTo>
                  <a:pt x="388" y="14"/>
                </a:lnTo>
                <a:lnTo>
                  <a:pt x="365" y="10"/>
                </a:lnTo>
                <a:lnTo>
                  <a:pt x="343" y="6"/>
                </a:lnTo>
                <a:lnTo>
                  <a:pt x="320" y="4"/>
                </a:lnTo>
                <a:lnTo>
                  <a:pt x="297" y="1"/>
                </a:lnTo>
                <a:lnTo>
                  <a:pt x="274" y="0"/>
                </a:lnTo>
                <a:lnTo>
                  <a:pt x="250" y="0"/>
                </a:lnTo>
                <a:lnTo>
                  <a:pt x="227" y="1"/>
                </a:lnTo>
                <a:lnTo>
                  <a:pt x="205" y="3"/>
                </a:lnTo>
                <a:lnTo>
                  <a:pt x="183" y="6"/>
                </a:lnTo>
                <a:lnTo>
                  <a:pt x="161" y="9"/>
                </a:lnTo>
                <a:lnTo>
                  <a:pt x="138" y="13"/>
                </a:lnTo>
                <a:lnTo>
                  <a:pt x="118" y="18"/>
                </a:lnTo>
                <a:lnTo>
                  <a:pt x="98" y="24"/>
                </a:lnTo>
                <a:lnTo>
                  <a:pt x="79" y="31"/>
                </a:lnTo>
                <a:lnTo>
                  <a:pt x="60" y="38"/>
                </a:lnTo>
                <a:lnTo>
                  <a:pt x="43" y="46"/>
                </a:lnTo>
              </a:path>
            </a:pathLst>
          </a:cu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374840" y="4417920"/>
            <a:ext cx="834840" cy="412920"/>
          </a:xfrm>
          <a:custGeom>
            <a:avLst/>
            <a:gdLst/>
            <a:ahLst/>
            <a:rect l="l" t="t" r="r" b="b"/>
            <a:pathLst>
              <a:path w="526" h="260">
                <a:moveTo>
                  <a:pt x="496" y="130"/>
                </a:moveTo>
                <a:lnTo>
                  <a:pt x="494" y="118"/>
                </a:lnTo>
                <a:lnTo>
                  <a:pt x="490" y="107"/>
                </a:lnTo>
                <a:lnTo>
                  <a:pt x="485" y="95"/>
                </a:lnTo>
                <a:lnTo>
                  <a:pt x="477" y="85"/>
                </a:lnTo>
                <a:lnTo>
                  <a:pt x="467" y="75"/>
                </a:lnTo>
                <a:lnTo>
                  <a:pt x="455" y="65"/>
                </a:lnTo>
                <a:lnTo>
                  <a:pt x="442" y="57"/>
                </a:lnTo>
                <a:lnTo>
                  <a:pt x="426" y="48"/>
                </a:lnTo>
                <a:lnTo>
                  <a:pt x="409" y="41"/>
                </a:lnTo>
                <a:lnTo>
                  <a:pt x="391" y="34"/>
                </a:lnTo>
                <a:lnTo>
                  <a:pt x="371" y="28"/>
                </a:lnTo>
                <a:lnTo>
                  <a:pt x="350" y="24"/>
                </a:lnTo>
                <a:lnTo>
                  <a:pt x="329" y="20"/>
                </a:lnTo>
                <a:lnTo>
                  <a:pt x="305" y="17"/>
                </a:lnTo>
                <a:lnTo>
                  <a:pt x="282" y="15"/>
                </a:lnTo>
                <a:lnTo>
                  <a:pt x="258" y="15"/>
                </a:lnTo>
                <a:lnTo>
                  <a:pt x="234" y="15"/>
                </a:lnTo>
                <a:lnTo>
                  <a:pt x="210" y="17"/>
                </a:lnTo>
                <a:lnTo>
                  <a:pt x="187" y="20"/>
                </a:lnTo>
                <a:lnTo>
                  <a:pt x="166" y="24"/>
                </a:lnTo>
                <a:lnTo>
                  <a:pt x="145" y="28"/>
                </a:lnTo>
                <a:lnTo>
                  <a:pt x="125" y="34"/>
                </a:lnTo>
                <a:lnTo>
                  <a:pt x="107" y="41"/>
                </a:lnTo>
                <a:lnTo>
                  <a:pt x="90" y="48"/>
                </a:lnTo>
                <a:lnTo>
                  <a:pt x="74" y="57"/>
                </a:lnTo>
                <a:lnTo>
                  <a:pt x="61" y="65"/>
                </a:lnTo>
                <a:lnTo>
                  <a:pt x="49" y="75"/>
                </a:lnTo>
                <a:lnTo>
                  <a:pt x="39" y="85"/>
                </a:lnTo>
                <a:lnTo>
                  <a:pt x="31" y="95"/>
                </a:lnTo>
                <a:lnTo>
                  <a:pt x="26" y="107"/>
                </a:lnTo>
                <a:lnTo>
                  <a:pt x="21" y="118"/>
                </a:lnTo>
                <a:lnTo>
                  <a:pt x="20" y="130"/>
                </a:lnTo>
                <a:lnTo>
                  <a:pt x="21" y="141"/>
                </a:lnTo>
                <a:lnTo>
                  <a:pt x="26" y="153"/>
                </a:lnTo>
                <a:lnTo>
                  <a:pt x="31" y="164"/>
                </a:lnTo>
                <a:lnTo>
                  <a:pt x="39" y="174"/>
                </a:lnTo>
                <a:lnTo>
                  <a:pt x="49" y="184"/>
                </a:lnTo>
                <a:lnTo>
                  <a:pt x="61" y="194"/>
                </a:lnTo>
                <a:lnTo>
                  <a:pt x="74" y="203"/>
                </a:lnTo>
                <a:lnTo>
                  <a:pt x="90" y="211"/>
                </a:lnTo>
                <a:lnTo>
                  <a:pt x="107" y="219"/>
                </a:lnTo>
                <a:lnTo>
                  <a:pt x="125" y="225"/>
                </a:lnTo>
                <a:lnTo>
                  <a:pt x="145" y="231"/>
                </a:lnTo>
                <a:lnTo>
                  <a:pt x="166" y="236"/>
                </a:lnTo>
                <a:lnTo>
                  <a:pt x="187" y="240"/>
                </a:lnTo>
                <a:lnTo>
                  <a:pt x="210" y="242"/>
                </a:lnTo>
                <a:lnTo>
                  <a:pt x="234" y="244"/>
                </a:lnTo>
                <a:lnTo>
                  <a:pt x="258" y="245"/>
                </a:lnTo>
                <a:lnTo>
                  <a:pt x="282" y="244"/>
                </a:lnTo>
                <a:lnTo>
                  <a:pt x="305" y="242"/>
                </a:lnTo>
                <a:lnTo>
                  <a:pt x="329" y="240"/>
                </a:lnTo>
                <a:lnTo>
                  <a:pt x="350" y="236"/>
                </a:lnTo>
                <a:lnTo>
                  <a:pt x="371" y="231"/>
                </a:lnTo>
                <a:lnTo>
                  <a:pt x="391" y="225"/>
                </a:lnTo>
                <a:lnTo>
                  <a:pt x="409" y="219"/>
                </a:lnTo>
                <a:lnTo>
                  <a:pt x="426" y="211"/>
                </a:lnTo>
                <a:lnTo>
                  <a:pt x="442" y="203"/>
                </a:lnTo>
                <a:lnTo>
                  <a:pt x="455" y="194"/>
                </a:lnTo>
                <a:lnTo>
                  <a:pt x="467" y="184"/>
                </a:lnTo>
                <a:lnTo>
                  <a:pt x="477" y="174"/>
                </a:lnTo>
                <a:lnTo>
                  <a:pt x="485" y="164"/>
                </a:lnTo>
                <a:lnTo>
                  <a:pt x="490" y="153"/>
                </a:lnTo>
                <a:lnTo>
                  <a:pt x="494" y="141"/>
                </a:lnTo>
                <a:lnTo>
                  <a:pt x="496" y="130"/>
                </a:lnTo>
                <a:lnTo>
                  <a:pt x="25" y="67"/>
                </a:lnTo>
                <a:lnTo>
                  <a:pt x="23" y="73"/>
                </a:lnTo>
                <a:lnTo>
                  <a:pt x="20" y="79"/>
                </a:lnTo>
                <a:lnTo>
                  <a:pt x="18" y="85"/>
                </a:lnTo>
                <a:lnTo>
                  <a:pt x="16" y="90"/>
                </a:lnTo>
                <a:lnTo>
                  <a:pt x="15" y="96"/>
                </a:lnTo>
                <a:lnTo>
                  <a:pt x="13" y="102"/>
                </a:lnTo>
                <a:lnTo>
                  <a:pt x="11" y="108"/>
                </a:lnTo>
                <a:lnTo>
                  <a:pt x="10" y="114"/>
                </a:lnTo>
                <a:lnTo>
                  <a:pt x="8" y="120"/>
                </a:lnTo>
                <a:lnTo>
                  <a:pt x="7" y="126"/>
                </a:lnTo>
                <a:lnTo>
                  <a:pt x="6" y="132"/>
                </a:lnTo>
                <a:lnTo>
                  <a:pt x="5" y="138"/>
                </a:lnTo>
                <a:lnTo>
                  <a:pt x="4" y="145"/>
                </a:lnTo>
                <a:lnTo>
                  <a:pt x="2" y="151"/>
                </a:lnTo>
                <a:lnTo>
                  <a:pt x="1" y="157"/>
                </a:lnTo>
                <a:lnTo>
                  <a:pt x="0" y="163"/>
                </a:lnTo>
                <a:lnTo>
                  <a:pt x="8" y="174"/>
                </a:lnTo>
                <a:lnTo>
                  <a:pt x="16" y="185"/>
                </a:lnTo>
                <a:lnTo>
                  <a:pt x="27" y="195"/>
                </a:lnTo>
                <a:lnTo>
                  <a:pt x="38" y="204"/>
                </a:lnTo>
                <a:lnTo>
                  <a:pt x="52" y="213"/>
                </a:lnTo>
                <a:lnTo>
                  <a:pt x="68" y="221"/>
                </a:lnTo>
                <a:lnTo>
                  <a:pt x="85" y="228"/>
                </a:lnTo>
                <a:lnTo>
                  <a:pt x="102" y="235"/>
                </a:lnTo>
                <a:lnTo>
                  <a:pt x="121" y="241"/>
                </a:lnTo>
                <a:lnTo>
                  <a:pt x="141" y="246"/>
                </a:lnTo>
                <a:lnTo>
                  <a:pt x="162" y="250"/>
                </a:lnTo>
                <a:lnTo>
                  <a:pt x="183" y="254"/>
                </a:lnTo>
                <a:lnTo>
                  <a:pt x="206" y="257"/>
                </a:lnTo>
                <a:lnTo>
                  <a:pt x="228" y="258"/>
                </a:lnTo>
                <a:lnTo>
                  <a:pt x="252" y="259"/>
                </a:lnTo>
                <a:lnTo>
                  <a:pt x="276" y="259"/>
                </a:lnTo>
                <a:lnTo>
                  <a:pt x="299" y="258"/>
                </a:lnTo>
                <a:lnTo>
                  <a:pt x="322" y="255"/>
                </a:lnTo>
                <a:lnTo>
                  <a:pt x="345" y="252"/>
                </a:lnTo>
                <a:lnTo>
                  <a:pt x="367" y="248"/>
                </a:lnTo>
                <a:lnTo>
                  <a:pt x="387" y="243"/>
                </a:lnTo>
                <a:lnTo>
                  <a:pt x="406" y="237"/>
                </a:lnTo>
                <a:lnTo>
                  <a:pt x="425" y="231"/>
                </a:lnTo>
                <a:lnTo>
                  <a:pt x="442" y="223"/>
                </a:lnTo>
                <a:lnTo>
                  <a:pt x="457" y="216"/>
                </a:lnTo>
                <a:lnTo>
                  <a:pt x="471" y="207"/>
                </a:lnTo>
                <a:lnTo>
                  <a:pt x="484" y="198"/>
                </a:lnTo>
                <a:lnTo>
                  <a:pt x="496" y="188"/>
                </a:lnTo>
                <a:lnTo>
                  <a:pt x="505" y="178"/>
                </a:lnTo>
                <a:lnTo>
                  <a:pt x="513" y="168"/>
                </a:lnTo>
                <a:lnTo>
                  <a:pt x="519" y="157"/>
                </a:lnTo>
                <a:lnTo>
                  <a:pt x="523" y="146"/>
                </a:lnTo>
                <a:lnTo>
                  <a:pt x="525" y="134"/>
                </a:lnTo>
                <a:lnTo>
                  <a:pt x="525" y="123"/>
                </a:lnTo>
                <a:lnTo>
                  <a:pt x="522" y="111"/>
                </a:lnTo>
                <a:lnTo>
                  <a:pt x="518" y="101"/>
                </a:lnTo>
                <a:lnTo>
                  <a:pt x="512" y="90"/>
                </a:lnTo>
                <a:lnTo>
                  <a:pt x="504" y="80"/>
                </a:lnTo>
                <a:lnTo>
                  <a:pt x="494" y="69"/>
                </a:lnTo>
                <a:lnTo>
                  <a:pt x="483" y="60"/>
                </a:lnTo>
                <a:lnTo>
                  <a:pt x="470" y="51"/>
                </a:lnTo>
                <a:lnTo>
                  <a:pt x="455" y="42"/>
                </a:lnTo>
                <a:lnTo>
                  <a:pt x="440" y="35"/>
                </a:lnTo>
                <a:lnTo>
                  <a:pt x="423" y="27"/>
                </a:lnTo>
                <a:lnTo>
                  <a:pt x="404" y="21"/>
                </a:lnTo>
                <a:lnTo>
                  <a:pt x="384" y="15"/>
                </a:lnTo>
                <a:lnTo>
                  <a:pt x="362" y="11"/>
                </a:lnTo>
                <a:lnTo>
                  <a:pt x="340" y="6"/>
                </a:lnTo>
                <a:lnTo>
                  <a:pt x="317" y="3"/>
                </a:lnTo>
                <a:lnTo>
                  <a:pt x="294" y="1"/>
                </a:lnTo>
                <a:lnTo>
                  <a:pt x="271" y="0"/>
                </a:lnTo>
                <a:lnTo>
                  <a:pt x="248" y="0"/>
                </a:lnTo>
                <a:lnTo>
                  <a:pt x="225" y="1"/>
                </a:lnTo>
                <a:lnTo>
                  <a:pt x="203" y="3"/>
                </a:lnTo>
                <a:lnTo>
                  <a:pt x="181" y="6"/>
                </a:lnTo>
                <a:lnTo>
                  <a:pt x="160" y="9"/>
                </a:lnTo>
                <a:lnTo>
                  <a:pt x="139" y="14"/>
                </a:lnTo>
                <a:lnTo>
                  <a:pt x="120" y="19"/>
                </a:lnTo>
                <a:lnTo>
                  <a:pt x="101" y="25"/>
                </a:lnTo>
                <a:lnTo>
                  <a:pt x="83" y="32"/>
                </a:lnTo>
                <a:lnTo>
                  <a:pt x="66" y="40"/>
                </a:lnTo>
                <a:lnTo>
                  <a:pt x="51" y="48"/>
                </a:lnTo>
                <a:lnTo>
                  <a:pt x="37" y="58"/>
                </a:lnTo>
                <a:lnTo>
                  <a:pt x="25" y="67"/>
                </a:lnTo>
                <a:lnTo>
                  <a:pt x="496" y="130"/>
                </a:lnTo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406520" y="4441680"/>
            <a:ext cx="757080" cy="366840"/>
          </a:xfrm>
          <a:custGeom>
            <a:avLst/>
            <a:gdLst/>
            <a:ahLst/>
            <a:rect l="l" t="t" r="r" b="b"/>
            <a:pathLst>
              <a:path w="477" h="231">
                <a:moveTo>
                  <a:pt x="476" y="115"/>
                </a:moveTo>
                <a:lnTo>
                  <a:pt x="474" y="103"/>
                </a:lnTo>
                <a:lnTo>
                  <a:pt x="470" y="92"/>
                </a:lnTo>
                <a:lnTo>
                  <a:pt x="465" y="80"/>
                </a:lnTo>
                <a:lnTo>
                  <a:pt x="457" y="70"/>
                </a:lnTo>
                <a:lnTo>
                  <a:pt x="447" y="60"/>
                </a:lnTo>
                <a:lnTo>
                  <a:pt x="435" y="50"/>
                </a:lnTo>
                <a:lnTo>
                  <a:pt x="422" y="42"/>
                </a:lnTo>
                <a:lnTo>
                  <a:pt x="406" y="33"/>
                </a:lnTo>
                <a:lnTo>
                  <a:pt x="389" y="26"/>
                </a:lnTo>
                <a:lnTo>
                  <a:pt x="371" y="19"/>
                </a:lnTo>
                <a:lnTo>
                  <a:pt x="351" y="13"/>
                </a:lnTo>
                <a:lnTo>
                  <a:pt x="330" y="9"/>
                </a:lnTo>
                <a:lnTo>
                  <a:pt x="309" y="5"/>
                </a:lnTo>
                <a:lnTo>
                  <a:pt x="285" y="2"/>
                </a:lnTo>
                <a:lnTo>
                  <a:pt x="262" y="0"/>
                </a:lnTo>
                <a:lnTo>
                  <a:pt x="238" y="0"/>
                </a:lnTo>
                <a:lnTo>
                  <a:pt x="214" y="0"/>
                </a:lnTo>
                <a:lnTo>
                  <a:pt x="190" y="2"/>
                </a:lnTo>
                <a:lnTo>
                  <a:pt x="167" y="5"/>
                </a:lnTo>
                <a:lnTo>
                  <a:pt x="146" y="9"/>
                </a:lnTo>
                <a:lnTo>
                  <a:pt x="125" y="13"/>
                </a:lnTo>
                <a:lnTo>
                  <a:pt x="105" y="19"/>
                </a:lnTo>
                <a:lnTo>
                  <a:pt x="87" y="26"/>
                </a:lnTo>
                <a:lnTo>
                  <a:pt x="70" y="33"/>
                </a:lnTo>
                <a:lnTo>
                  <a:pt x="54" y="42"/>
                </a:lnTo>
                <a:lnTo>
                  <a:pt x="41" y="50"/>
                </a:lnTo>
                <a:lnTo>
                  <a:pt x="29" y="60"/>
                </a:lnTo>
                <a:lnTo>
                  <a:pt x="19" y="70"/>
                </a:lnTo>
                <a:lnTo>
                  <a:pt x="11" y="80"/>
                </a:lnTo>
                <a:lnTo>
                  <a:pt x="6" y="92"/>
                </a:lnTo>
                <a:lnTo>
                  <a:pt x="1" y="103"/>
                </a:lnTo>
                <a:lnTo>
                  <a:pt x="0" y="115"/>
                </a:lnTo>
                <a:lnTo>
                  <a:pt x="1" y="126"/>
                </a:lnTo>
                <a:lnTo>
                  <a:pt x="6" y="138"/>
                </a:lnTo>
                <a:lnTo>
                  <a:pt x="11" y="149"/>
                </a:lnTo>
                <a:lnTo>
                  <a:pt x="19" y="159"/>
                </a:lnTo>
                <a:lnTo>
                  <a:pt x="29" y="169"/>
                </a:lnTo>
                <a:lnTo>
                  <a:pt x="41" y="179"/>
                </a:lnTo>
                <a:lnTo>
                  <a:pt x="54" y="188"/>
                </a:lnTo>
                <a:lnTo>
                  <a:pt x="70" y="196"/>
                </a:lnTo>
                <a:lnTo>
                  <a:pt x="87" y="204"/>
                </a:lnTo>
                <a:lnTo>
                  <a:pt x="105" y="210"/>
                </a:lnTo>
                <a:lnTo>
                  <a:pt x="125" y="216"/>
                </a:lnTo>
                <a:lnTo>
                  <a:pt x="146" y="221"/>
                </a:lnTo>
                <a:lnTo>
                  <a:pt x="167" y="225"/>
                </a:lnTo>
                <a:lnTo>
                  <a:pt x="190" y="227"/>
                </a:lnTo>
                <a:lnTo>
                  <a:pt x="214" y="229"/>
                </a:lnTo>
                <a:lnTo>
                  <a:pt x="238" y="230"/>
                </a:lnTo>
                <a:lnTo>
                  <a:pt x="262" y="229"/>
                </a:lnTo>
                <a:lnTo>
                  <a:pt x="285" y="227"/>
                </a:lnTo>
                <a:lnTo>
                  <a:pt x="309" y="225"/>
                </a:lnTo>
                <a:lnTo>
                  <a:pt x="330" y="221"/>
                </a:lnTo>
                <a:lnTo>
                  <a:pt x="351" y="216"/>
                </a:lnTo>
                <a:lnTo>
                  <a:pt x="371" y="210"/>
                </a:lnTo>
                <a:lnTo>
                  <a:pt x="389" y="204"/>
                </a:lnTo>
                <a:lnTo>
                  <a:pt x="406" y="196"/>
                </a:lnTo>
                <a:lnTo>
                  <a:pt x="422" y="188"/>
                </a:lnTo>
                <a:lnTo>
                  <a:pt x="435" y="179"/>
                </a:lnTo>
                <a:lnTo>
                  <a:pt x="447" y="169"/>
                </a:lnTo>
                <a:lnTo>
                  <a:pt x="457" y="159"/>
                </a:lnTo>
                <a:lnTo>
                  <a:pt x="465" y="149"/>
                </a:lnTo>
                <a:lnTo>
                  <a:pt x="470" y="138"/>
                </a:lnTo>
                <a:lnTo>
                  <a:pt x="474" y="126"/>
                </a:lnTo>
                <a:lnTo>
                  <a:pt x="476" y="115"/>
                </a:lnTo>
                <a:lnTo>
                  <a:pt x="446" y="115"/>
                </a:lnTo>
                <a:lnTo>
                  <a:pt x="445" y="104"/>
                </a:lnTo>
                <a:lnTo>
                  <a:pt x="442" y="95"/>
                </a:lnTo>
                <a:lnTo>
                  <a:pt x="436" y="85"/>
                </a:lnTo>
                <a:lnTo>
                  <a:pt x="429" y="76"/>
                </a:lnTo>
                <a:lnTo>
                  <a:pt x="421" y="67"/>
                </a:lnTo>
                <a:lnTo>
                  <a:pt x="410" y="58"/>
                </a:lnTo>
                <a:lnTo>
                  <a:pt x="398" y="51"/>
                </a:lnTo>
                <a:lnTo>
                  <a:pt x="385" y="44"/>
                </a:lnTo>
                <a:lnTo>
                  <a:pt x="370" y="37"/>
                </a:lnTo>
                <a:lnTo>
                  <a:pt x="354" y="31"/>
                </a:lnTo>
                <a:lnTo>
                  <a:pt x="337" y="26"/>
                </a:lnTo>
                <a:lnTo>
                  <a:pt x="318" y="22"/>
                </a:lnTo>
                <a:lnTo>
                  <a:pt x="299" y="19"/>
                </a:lnTo>
                <a:lnTo>
                  <a:pt x="279" y="16"/>
                </a:lnTo>
                <a:lnTo>
                  <a:pt x="259" y="14"/>
                </a:lnTo>
                <a:lnTo>
                  <a:pt x="238" y="14"/>
                </a:lnTo>
                <a:lnTo>
                  <a:pt x="217" y="14"/>
                </a:lnTo>
                <a:lnTo>
                  <a:pt x="197" y="16"/>
                </a:lnTo>
                <a:lnTo>
                  <a:pt x="177" y="19"/>
                </a:lnTo>
                <a:lnTo>
                  <a:pt x="158" y="22"/>
                </a:lnTo>
                <a:lnTo>
                  <a:pt x="139" y="26"/>
                </a:lnTo>
                <a:lnTo>
                  <a:pt x="122" y="31"/>
                </a:lnTo>
                <a:lnTo>
                  <a:pt x="106" y="37"/>
                </a:lnTo>
                <a:lnTo>
                  <a:pt x="91" y="44"/>
                </a:lnTo>
                <a:lnTo>
                  <a:pt x="77" y="51"/>
                </a:lnTo>
                <a:lnTo>
                  <a:pt x="66" y="58"/>
                </a:lnTo>
                <a:lnTo>
                  <a:pt x="55" y="67"/>
                </a:lnTo>
                <a:lnTo>
                  <a:pt x="47" y="76"/>
                </a:lnTo>
                <a:lnTo>
                  <a:pt x="39" y="85"/>
                </a:lnTo>
                <a:lnTo>
                  <a:pt x="34" y="95"/>
                </a:lnTo>
                <a:lnTo>
                  <a:pt x="31" y="104"/>
                </a:lnTo>
                <a:lnTo>
                  <a:pt x="30" y="115"/>
                </a:lnTo>
                <a:lnTo>
                  <a:pt x="31" y="125"/>
                </a:lnTo>
                <a:lnTo>
                  <a:pt x="34" y="135"/>
                </a:lnTo>
                <a:lnTo>
                  <a:pt x="39" y="144"/>
                </a:lnTo>
                <a:lnTo>
                  <a:pt x="47" y="154"/>
                </a:lnTo>
                <a:lnTo>
                  <a:pt x="55" y="163"/>
                </a:lnTo>
                <a:lnTo>
                  <a:pt x="66" y="171"/>
                </a:lnTo>
                <a:lnTo>
                  <a:pt x="77" y="179"/>
                </a:lnTo>
                <a:lnTo>
                  <a:pt x="91" y="186"/>
                </a:lnTo>
                <a:lnTo>
                  <a:pt x="106" y="192"/>
                </a:lnTo>
                <a:lnTo>
                  <a:pt x="122" y="198"/>
                </a:lnTo>
                <a:lnTo>
                  <a:pt x="139" y="203"/>
                </a:lnTo>
                <a:lnTo>
                  <a:pt x="158" y="207"/>
                </a:lnTo>
                <a:lnTo>
                  <a:pt x="177" y="211"/>
                </a:lnTo>
                <a:lnTo>
                  <a:pt x="197" y="213"/>
                </a:lnTo>
                <a:lnTo>
                  <a:pt x="217" y="215"/>
                </a:lnTo>
                <a:lnTo>
                  <a:pt x="238" y="215"/>
                </a:lnTo>
                <a:lnTo>
                  <a:pt x="259" y="215"/>
                </a:lnTo>
                <a:lnTo>
                  <a:pt x="279" y="213"/>
                </a:lnTo>
                <a:lnTo>
                  <a:pt x="299" y="211"/>
                </a:lnTo>
                <a:lnTo>
                  <a:pt x="318" y="207"/>
                </a:lnTo>
                <a:lnTo>
                  <a:pt x="337" y="203"/>
                </a:lnTo>
                <a:lnTo>
                  <a:pt x="354" y="198"/>
                </a:lnTo>
                <a:lnTo>
                  <a:pt x="370" y="192"/>
                </a:lnTo>
                <a:lnTo>
                  <a:pt x="385" y="186"/>
                </a:lnTo>
                <a:lnTo>
                  <a:pt x="398" y="179"/>
                </a:lnTo>
                <a:lnTo>
                  <a:pt x="410" y="171"/>
                </a:lnTo>
                <a:lnTo>
                  <a:pt x="421" y="163"/>
                </a:lnTo>
                <a:lnTo>
                  <a:pt x="429" y="154"/>
                </a:lnTo>
                <a:lnTo>
                  <a:pt x="436" y="144"/>
                </a:lnTo>
                <a:lnTo>
                  <a:pt x="442" y="135"/>
                </a:lnTo>
                <a:lnTo>
                  <a:pt x="445" y="125"/>
                </a:lnTo>
                <a:lnTo>
                  <a:pt x="446" y="115"/>
                </a:lnTo>
                <a:lnTo>
                  <a:pt x="476" y="115"/>
                </a:lnTo>
              </a:path>
            </a:pathLst>
          </a:cu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454040" y="4464000"/>
            <a:ext cx="662040" cy="320760"/>
          </a:xfrm>
          <a:custGeom>
            <a:avLst/>
            <a:gdLst/>
            <a:ahLst/>
            <a:rect l="l" t="t" r="r" b="b"/>
            <a:pathLst>
              <a:path w="417" h="202">
                <a:moveTo>
                  <a:pt x="416" y="101"/>
                </a:moveTo>
                <a:lnTo>
                  <a:pt x="415" y="90"/>
                </a:lnTo>
                <a:lnTo>
                  <a:pt x="412" y="81"/>
                </a:lnTo>
                <a:lnTo>
                  <a:pt x="406" y="71"/>
                </a:lnTo>
                <a:lnTo>
                  <a:pt x="399" y="62"/>
                </a:lnTo>
                <a:lnTo>
                  <a:pt x="391" y="53"/>
                </a:lnTo>
                <a:lnTo>
                  <a:pt x="380" y="44"/>
                </a:lnTo>
                <a:lnTo>
                  <a:pt x="368" y="37"/>
                </a:lnTo>
                <a:lnTo>
                  <a:pt x="355" y="30"/>
                </a:lnTo>
                <a:lnTo>
                  <a:pt x="340" y="23"/>
                </a:lnTo>
                <a:lnTo>
                  <a:pt x="324" y="17"/>
                </a:lnTo>
                <a:lnTo>
                  <a:pt x="307" y="12"/>
                </a:lnTo>
                <a:lnTo>
                  <a:pt x="288" y="8"/>
                </a:lnTo>
                <a:lnTo>
                  <a:pt x="269" y="5"/>
                </a:lnTo>
                <a:lnTo>
                  <a:pt x="249" y="2"/>
                </a:lnTo>
                <a:lnTo>
                  <a:pt x="229" y="0"/>
                </a:lnTo>
                <a:lnTo>
                  <a:pt x="208" y="0"/>
                </a:lnTo>
                <a:lnTo>
                  <a:pt x="187" y="0"/>
                </a:lnTo>
                <a:lnTo>
                  <a:pt x="167" y="2"/>
                </a:lnTo>
                <a:lnTo>
                  <a:pt x="147" y="5"/>
                </a:lnTo>
                <a:lnTo>
                  <a:pt x="128" y="8"/>
                </a:lnTo>
                <a:lnTo>
                  <a:pt x="109" y="12"/>
                </a:lnTo>
                <a:lnTo>
                  <a:pt x="92" y="17"/>
                </a:lnTo>
                <a:lnTo>
                  <a:pt x="76" y="23"/>
                </a:lnTo>
                <a:lnTo>
                  <a:pt x="61" y="30"/>
                </a:lnTo>
                <a:lnTo>
                  <a:pt x="47" y="37"/>
                </a:lnTo>
                <a:lnTo>
                  <a:pt x="36" y="44"/>
                </a:lnTo>
                <a:lnTo>
                  <a:pt x="25" y="53"/>
                </a:lnTo>
                <a:lnTo>
                  <a:pt x="17" y="62"/>
                </a:lnTo>
                <a:lnTo>
                  <a:pt x="9" y="71"/>
                </a:lnTo>
                <a:lnTo>
                  <a:pt x="4" y="81"/>
                </a:lnTo>
                <a:lnTo>
                  <a:pt x="1" y="90"/>
                </a:lnTo>
                <a:lnTo>
                  <a:pt x="0" y="101"/>
                </a:lnTo>
                <a:lnTo>
                  <a:pt x="1" y="111"/>
                </a:lnTo>
                <a:lnTo>
                  <a:pt x="4" y="121"/>
                </a:lnTo>
                <a:lnTo>
                  <a:pt x="9" y="130"/>
                </a:lnTo>
                <a:lnTo>
                  <a:pt x="17" y="140"/>
                </a:lnTo>
                <a:lnTo>
                  <a:pt x="25" y="149"/>
                </a:lnTo>
                <a:lnTo>
                  <a:pt x="36" y="157"/>
                </a:lnTo>
                <a:lnTo>
                  <a:pt x="47" y="165"/>
                </a:lnTo>
                <a:lnTo>
                  <a:pt x="61" y="172"/>
                </a:lnTo>
                <a:lnTo>
                  <a:pt x="76" y="178"/>
                </a:lnTo>
                <a:lnTo>
                  <a:pt x="92" y="184"/>
                </a:lnTo>
                <a:lnTo>
                  <a:pt x="109" y="189"/>
                </a:lnTo>
                <a:lnTo>
                  <a:pt x="128" y="193"/>
                </a:lnTo>
                <a:lnTo>
                  <a:pt x="147" y="197"/>
                </a:lnTo>
                <a:lnTo>
                  <a:pt x="167" y="199"/>
                </a:lnTo>
                <a:lnTo>
                  <a:pt x="187" y="201"/>
                </a:lnTo>
                <a:lnTo>
                  <a:pt x="208" y="201"/>
                </a:lnTo>
                <a:lnTo>
                  <a:pt x="229" y="201"/>
                </a:lnTo>
                <a:lnTo>
                  <a:pt x="249" y="199"/>
                </a:lnTo>
                <a:lnTo>
                  <a:pt x="269" y="197"/>
                </a:lnTo>
                <a:lnTo>
                  <a:pt x="288" y="193"/>
                </a:lnTo>
                <a:lnTo>
                  <a:pt x="307" y="189"/>
                </a:lnTo>
                <a:lnTo>
                  <a:pt x="324" y="184"/>
                </a:lnTo>
                <a:lnTo>
                  <a:pt x="340" y="178"/>
                </a:lnTo>
                <a:lnTo>
                  <a:pt x="355" y="172"/>
                </a:lnTo>
                <a:lnTo>
                  <a:pt x="368" y="165"/>
                </a:lnTo>
                <a:lnTo>
                  <a:pt x="380" y="157"/>
                </a:lnTo>
                <a:lnTo>
                  <a:pt x="391" y="149"/>
                </a:lnTo>
                <a:lnTo>
                  <a:pt x="399" y="140"/>
                </a:lnTo>
                <a:lnTo>
                  <a:pt x="406" y="130"/>
                </a:lnTo>
                <a:lnTo>
                  <a:pt x="412" y="121"/>
                </a:lnTo>
                <a:lnTo>
                  <a:pt x="415" y="111"/>
                </a:lnTo>
                <a:lnTo>
                  <a:pt x="416" y="101"/>
                </a:lnTo>
                <a:lnTo>
                  <a:pt x="386" y="101"/>
                </a:lnTo>
                <a:lnTo>
                  <a:pt x="385" y="92"/>
                </a:lnTo>
                <a:lnTo>
                  <a:pt x="383" y="83"/>
                </a:lnTo>
                <a:lnTo>
                  <a:pt x="378" y="75"/>
                </a:lnTo>
                <a:lnTo>
                  <a:pt x="373" y="67"/>
                </a:lnTo>
                <a:lnTo>
                  <a:pt x="365" y="60"/>
                </a:lnTo>
                <a:lnTo>
                  <a:pt x="356" y="53"/>
                </a:lnTo>
                <a:lnTo>
                  <a:pt x="345" y="46"/>
                </a:lnTo>
                <a:lnTo>
                  <a:pt x="334" y="40"/>
                </a:lnTo>
                <a:lnTo>
                  <a:pt x="321" y="34"/>
                </a:lnTo>
                <a:lnTo>
                  <a:pt x="307" y="29"/>
                </a:lnTo>
                <a:lnTo>
                  <a:pt x="292" y="24"/>
                </a:lnTo>
                <a:lnTo>
                  <a:pt x="278" y="21"/>
                </a:lnTo>
                <a:lnTo>
                  <a:pt x="261" y="18"/>
                </a:lnTo>
                <a:lnTo>
                  <a:pt x="244" y="16"/>
                </a:lnTo>
                <a:lnTo>
                  <a:pt x="226" y="15"/>
                </a:lnTo>
                <a:lnTo>
                  <a:pt x="208" y="14"/>
                </a:lnTo>
                <a:lnTo>
                  <a:pt x="190" y="15"/>
                </a:lnTo>
                <a:lnTo>
                  <a:pt x="172" y="16"/>
                </a:lnTo>
                <a:lnTo>
                  <a:pt x="155" y="18"/>
                </a:lnTo>
                <a:lnTo>
                  <a:pt x="138" y="21"/>
                </a:lnTo>
                <a:lnTo>
                  <a:pt x="123" y="24"/>
                </a:lnTo>
                <a:lnTo>
                  <a:pt x="109" y="29"/>
                </a:lnTo>
                <a:lnTo>
                  <a:pt x="95" y="34"/>
                </a:lnTo>
                <a:lnTo>
                  <a:pt x="82" y="40"/>
                </a:lnTo>
                <a:lnTo>
                  <a:pt x="71" y="46"/>
                </a:lnTo>
                <a:lnTo>
                  <a:pt x="60" y="53"/>
                </a:lnTo>
                <a:lnTo>
                  <a:pt x="51" y="60"/>
                </a:lnTo>
                <a:lnTo>
                  <a:pt x="43" y="67"/>
                </a:lnTo>
                <a:lnTo>
                  <a:pt x="38" y="75"/>
                </a:lnTo>
                <a:lnTo>
                  <a:pt x="33" y="83"/>
                </a:lnTo>
                <a:lnTo>
                  <a:pt x="31" y="92"/>
                </a:lnTo>
                <a:lnTo>
                  <a:pt x="30" y="101"/>
                </a:lnTo>
                <a:lnTo>
                  <a:pt x="31" y="109"/>
                </a:lnTo>
                <a:lnTo>
                  <a:pt x="33" y="118"/>
                </a:lnTo>
                <a:lnTo>
                  <a:pt x="38" y="126"/>
                </a:lnTo>
                <a:lnTo>
                  <a:pt x="43" y="134"/>
                </a:lnTo>
                <a:lnTo>
                  <a:pt x="51" y="142"/>
                </a:lnTo>
                <a:lnTo>
                  <a:pt x="60" y="149"/>
                </a:lnTo>
                <a:lnTo>
                  <a:pt x="71" y="155"/>
                </a:lnTo>
                <a:lnTo>
                  <a:pt x="82" y="162"/>
                </a:lnTo>
                <a:lnTo>
                  <a:pt x="95" y="167"/>
                </a:lnTo>
                <a:lnTo>
                  <a:pt x="109" y="172"/>
                </a:lnTo>
                <a:lnTo>
                  <a:pt x="123" y="177"/>
                </a:lnTo>
                <a:lnTo>
                  <a:pt x="138" y="180"/>
                </a:lnTo>
                <a:lnTo>
                  <a:pt x="155" y="183"/>
                </a:lnTo>
                <a:lnTo>
                  <a:pt x="172" y="186"/>
                </a:lnTo>
                <a:lnTo>
                  <a:pt x="190" y="187"/>
                </a:lnTo>
                <a:lnTo>
                  <a:pt x="208" y="187"/>
                </a:lnTo>
                <a:lnTo>
                  <a:pt x="226" y="187"/>
                </a:lnTo>
                <a:lnTo>
                  <a:pt x="244" y="186"/>
                </a:lnTo>
                <a:lnTo>
                  <a:pt x="261" y="183"/>
                </a:lnTo>
                <a:lnTo>
                  <a:pt x="278" y="180"/>
                </a:lnTo>
                <a:lnTo>
                  <a:pt x="292" y="177"/>
                </a:lnTo>
                <a:lnTo>
                  <a:pt x="307" y="172"/>
                </a:lnTo>
                <a:lnTo>
                  <a:pt x="321" y="167"/>
                </a:lnTo>
                <a:lnTo>
                  <a:pt x="334" y="162"/>
                </a:lnTo>
                <a:lnTo>
                  <a:pt x="345" y="155"/>
                </a:lnTo>
                <a:lnTo>
                  <a:pt x="356" y="149"/>
                </a:lnTo>
                <a:lnTo>
                  <a:pt x="365" y="142"/>
                </a:lnTo>
                <a:lnTo>
                  <a:pt x="373" y="134"/>
                </a:lnTo>
                <a:lnTo>
                  <a:pt x="378" y="126"/>
                </a:lnTo>
                <a:lnTo>
                  <a:pt x="383" y="118"/>
                </a:lnTo>
                <a:lnTo>
                  <a:pt x="385" y="109"/>
                </a:lnTo>
                <a:lnTo>
                  <a:pt x="386" y="101"/>
                </a:lnTo>
                <a:lnTo>
                  <a:pt x="416" y="101"/>
                </a:lnTo>
              </a:path>
            </a:pathLst>
          </a:cu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501920" y="4486320"/>
            <a:ext cx="566640" cy="276120"/>
          </a:xfrm>
          <a:custGeom>
            <a:avLst/>
            <a:gdLst/>
            <a:ahLst/>
            <a:rect l="l" t="t" r="r" b="b"/>
            <a:pathLst>
              <a:path w="357" h="174">
                <a:moveTo>
                  <a:pt x="356" y="87"/>
                </a:moveTo>
                <a:lnTo>
                  <a:pt x="355" y="78"/>
                </a:lnTo>
                <a:lnTo>
                  <a:pt x="353" y="69"/>
                </a:lnTo>
                <a:lnTo>
                  <a:pt x="348" y="61"/>
                </a:lnTo>
                <a:lnTo>
                  <a:pt x="343" y="53"/>
                </a:lnTo>
                <a:lnTo>
                  <a:pt x="335" y="46"/>
                </a:lnTo>
                <a:lnTo>
                  <a:pt x="326" y="39"/>
                </a:lnTo>
                <a:lnTo>
                  <a:pt x="315" y="32"/>
                </a:lnTo>
                <a:lnTo>
                  <a:pt x="304" y="26"/>
                </a:lnTo>
                <a:lnTo>
                  <a:pt x="291" y="20"/>
                </a:lnTo>
                <a:lnTo>
                  <a:pt x="277" y="15"/>
                </a:lnTo>
                <a:lnTo>
                  <a:pt x="262" y="10"/>
                </a:lnTo>
                <a:lnTo>
                  <a:pt x="248" y="7"/>
                </a:lnTo>
                <a:lnTo>
                  <a:pt x="231" y="4"/>
                </a:lnTo>
                <a:lnTo>
                  <a:pt x="214" y="2"/>
                </a:lnTo>
                <a:lnTo>
                  <a:pt x="196" y="1"/>
                </a:lnTo>
                <a:lnTo>
                  <a:pt x="178" y="0"/>
                </a:lnTo>
                <a:lnTo>
                  <a:pt x="160" y="1"/>
                </a:lnTo>
                <a:lnTo>
                  <a:pt x="142" y="2"/>
                </a:lnTo>
                <a:lnTo>
                  <a:pt x="125" y="4"/>
                </a:lnTo>
                <a:lnTo>
                  <a:pt x="108" y="7"/>
                </a:lnTo>
                <a:lnTo>
                  <a:pt x="93" y="10"/>
                </a:lnTo>
                <a:lnTo>
                  <a:pt x="79" y="15"/>
                </a:lnTo>
                <a:lnTo>
                  <a:pt x="65" y="20"/>
                </a:lnTo>
                <a:lnTo>
                  <a:pt x="52" y="26"/>
                </a:lnTo>
                <a:lnTo>
                  <a:pt x="41" y="32"/>
                </a:lnTo>
                <a:lnTo>
                  <a:pt x="30" y="39"/>
                </a:lnTo>
                <a:lnTo>
                  <a:pt x="21" y="46"/>
                </a:lnTo>
                <a:lnTo>
                  <a:pt x="13" y="53"/>
                </a:lnTo>
                <a:lnTo>
                  <a:pt x="8" y="61"/>
                </a:lnTo>
                <a:lnTo>
                  <a:pt x="3" y="69"/>
                </a:lnTo>
                <a:lnTo>
                  <a:pt x="1" y="78"/>
                </a:lnTo>
                <a:lnTo>
                  <a:pt x="0" y="87"/>
                </a:lnTo>
                <a:lnTo>
                  <a:pt x="1" y="95"/>
                </a:lnTo>
                <a:lnTo>
                  <a:pt x="3" y="104"/>
                </a:lnTo>
                <a:lnTo>
                  <a:pt x="8" y="112"/>
                </a:lnTo>
                <a:lnTo>
                  <a:pt x="13" y="120"/>
                </a:lnTo>
                <a:lnTo>
                  <a:pt x="21" y="128"/>
                </a:lnTo>
                <a:lnTo>
                  <a:pt x="30" y="135"/>
                </a:lnTo>
                <a:lnTo>
                  <a:pt x="41" y="141"/>
                </a:lnTo>
                <a:lnTo>
                  <a:pt x="52" y="148"/>
                </a:lnTo>
                <a:lnTo>
                  <a:pt x="65" y="153"/>
                </a:lnTo>
                <a:lnTo>
                  <a:pt x="79" y="158"/>
                </a:lnTo>
                <a:lnTo>
                  <a:pt x="93" y="163"/>
                </a:lnTo>
                <a:lnTo>
                  <a:pt x="108" y="166"/>
                </a:lnTo>
                <a:lnTo>
                  <a:pt x="125" y="169"/>
                </a:lnTo>
                <a:lnTo>
                  <a:pt x="142" y="172"/>
                </a:lnTo>
                <a:lnTo>
                  <a:pt x="160" y="173"/>
                </a:lnTo>
                <a:lnTo>
                  <a:pt x="178" y="173"/>
                </a:lnTo>
                <a:lnTo>
                  <a:pt x="196" y="173"/>
                </a:lnTo>
                <a:lnTo>
                  <a:pt x="214" y="172"/>
                </a:lnTo>
                <a:lnTo>
                  <a:pt x="231" y="169"/>
                </a:lnTo>
                <a:lnTo>
                  <a:pt x="248" y="166"/>
                </a:lnTo>
                <a:lnTo>
                  <a:pt x="262" y="163"/>
                </a:lnTo>
                <a:lnTo>
                  <a:pt x="277" y="158"/>
                </a:lnTo>
                <a:lnTo>
                  <a:pt x="291" y="153"/>
                </a:lnTo>
                <a:lnTo>
                  <a:pt x="304" y="148"/>
                </a:lnTo>
                <a:lnTo>
                  <a:pt x="315" y="141"/>
                </a:lnTo>
                <a:lnTo>
                  <a:pt x="326" y="135"/>
                </a:lnTo>
                <a:lnTo>
                  <a:pt x="335" y="128"/>
                </a:lnTo>
                <a:lnTo>
                  <a:pt x="343" y="120"/>
                </a:lnTo>
                <a:lnTo>
                  <a:pt x="348" y="112"/>
                </a:lnTo>
                <a:lnTo>
                  <a:pt x="353" y="104"/>
                </a:lnTo>
                <a:lnTo>
                  <a:pt x="355" y="95"/>
                </a:lnTo>
                <a:lnTo>
                  <a:pt x="356" y="87"/>
                </a:lnTo>
                <a:lnTo>
                  <a:pt x="327" y="87"/>
                </a:lnTo>
                <a:lnTo>
                  <a:pt x="324" y="72"/>
                </a:lnTo>
                <a:lnTo>
                  <a:pt x="315" y="59"/>
                </a:lnTo>
                <a:lnTo>
                  <a:pt x="301" y="47"/>
                </a:lnTo>
                <a:lnTo>
                  <a:pt x="282" y="36"/>
                </a:lnTo>
                <a:lnTo>
                  <a:pt x="260" y="27"/>
                </a:lnTo>
                <a:lnTo>
                  <a:pt x="236" y="20"/>
                </a:lnTo>
                <a:lnTo>
                  <a:pt x="208" y="16"/>
                </a:lnTo>
                <a:lnTo>
                  <a:pt x="178" y="15"/>
                </a:lnTo>
                <a:lnTo>
                  <a:pt x="148" y="16"/>
                </a:lnTo>
                <a:lnTo>
                  <a:pt x="120" y="20"/>
                </a:lnTo>
                <a:lnTo>
                  <a:pt x="96" y="27"/>
                </a:lnTo>
                <a:lnTo>
                  <a:pt x="73" y="36"/>
                </a:lnTo>
                <a:lnTo>
                  <a:pt x="54" y="47"/>
                </a:lnTo>
                <a:lnTo>
                  <a:pt x="41" y="59"/>
                </a:lnTo>
                <a:lnTo>
                  <a:pt x="32" y="72"/>
                </a:lnTo>
                <a:lnTo>
                  <a:pt x="29" y="87"/>
                </a:lnTo>
                <a:lnTo>
                  <a:pt x="32" y="101"/>
                </a:lnTo>
                <a:lnTo>
                  <a:pt x="41" y="115"/>
                </a:lnTo>
                <a:lnTo>
                  <a:pt x="54" y="127"/>
                </a:lnTo>
                <a:lnTo>
                  <a:pt x="73" y="137"/>
                </a:lnTo>
                <a:lnTo>
                  <a:pt x="96" y="147"/>
                </a:lnTo>
                <a:lnTo>
                  <a:pt x="120" y="153"/>
                </a:lnTo>
                <a:lnTo>
                  <a:pt x="148" y="157"/>
                </a:lnTo>
                <a:lnTo>
                  <a:pt x="178" y="159"/>
                </a:lnTo>
                <a:lnTo>
                  <a:pt x="208" y="157"/>
                </a:lnTo>
                <a:lnTo>
                  <a:pt x="236" y="153"/>
                </a:lnTo>
                <a:lnTo>
                  <a:pt x="260" y="147"/>
                </a:lnTo>
                <a:lnTo>
                  <a:pt x="282" y="137"/>
                </a:lnTo>
                <a:lnTo>
                  <a:pt x="301" y="127"/>
                </a:lnTo>
                <a:lnTo>
                  <a:pt x="315" y="115"/>
                </a:lnTo>
                <a:lnTo>
                  <a:pt x="324" y="101"/>
                </a:lnTo>
                <a:lnTo>
                  <a:pt x="327" y="87"/>
                </a:lnTo>
                <a:lnTo>
                  <a:pt x="356" y="87"/>
                </a:lnTo>
              </a:path>
            </a:pathLst>
          </a:cu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547640" y="4510080"/>
            <a:ext cx="474840" cy="230040"/>
          </a:xfrm>
          <a:custGeom>
            <a:avLst/>
            <a:gdLst/>
            <a:ahLst/>
            <a:rect l="l" t="t" r="r" b="b"/>
            <a:pathLst>
              <a:path w="299" h="145">
                <a:moveTo>
                  <a:pt x="298" y="72"/>
                </a:moveTo>
                <a:lnTo>
                  <a:pt x="295" y="57"/>
                </a:lnTo>
                <a:lnTo>
                  <a:pt x="286" y="44"/>
                </a:lnTo>
                <a:lnTo>
                  <a:pt x="272" y="32"/>
                </a:lnTo>
                <a:lnTo>
                  <a:pt x="253" y="21"/>
                </a:lnTo>
                <a:lnTo>
                  <a:pt x="231" y="12"/>
                </a:lnTo>
                <a:lnTo>
                  <a:pt x="207" y="5"/>
                </a:lnTo>
                <a:lnTo>
                  <a:pt x="179" y="1"/>
                </a:lnTo>
                <a:lnTo>
                  <a:pt x="149" y="0"/>
                </a:lnTo>
                <a:lnTo>
                  <a:pt x="119" y="1"/>
                </a:lnTo>
                <a:lnTo>
                  <a:pt x="91" y="5"/>
                </a:lnTo>
                <a:lnTo>
                  <a:pt x="67" y="12"/>
                </a:lnTo>
                <a:lnTo>
                  <a:pt x="44" y="21"/>
                </a:lnTo>
                <a:lnTo>
                  <a:pt x="25" y="32"/>
                </a:lnTo>
                <a:lnTo>
                  <a:pt x="12" y="44"/>
                </a:lnTo>
                <a:lnTo>
                  <a:pt x="3" y="57"/>
                </a:lnTo>
                <a:lnTo>
                  <a:pt x="0" y="72"/>
                </a:lnTo>
                <a:lnTo>
                  <a:pt x="3" y="86"/>
                </a:lnTo>
                <a:lnTo>
                  <a:pt x="12" y="100"/>
                </a:lnTo>
                <a:lnTo>
                  <a:pt x="25" y="112"/>
                </a:lnTo>
                <a:lnTo>
                  <a:pt x="44" y="122"/>
                </a:lnTo>
                <a:lnTo>
                  <a:pt x="67" y="132"/>
                </a:lnTo>
                <a:lnTo>
                  <a:pt x="91" y="138"/>
                </a:lnTo>
                <a:lnTo>
                  <a:pt x="119" y="142"/>
                </a:lnTo>
                <a:lnTo>
                  <a:pt x="149" y="144"/>
                </a:lnTo>
                <a:lnTo>
                  <a:pt x="179" y="142"/>
                </a:lnTo>
                <a:lnTo>
                  <a:pt x="207" y="138"/>
                </a:lnTo>
                <a:lnTo>
                  <a:pt x="231" y="132"/>
                </a:lnTo>
                <a:lnTo>
                  <a:pt x="253" y="122"/>
                </a:lnTo>
                <a:lnTo>
                  <a:pt x="272" y="112"/>
                </a:lnTo>
                <a:lnTo>
                  <a:pt x="286" y="100"/>
                </a:lnTo>
                <a:lnTo>
                  <a:pt x="295" y="86"/>
                </a:lnTo>
                <a:lnTo>
                  <a:pt x="298" y="72"/>
                </a:lnTo>
                <a:lnTo>
                  <a:pt x="267" y="72"/>
                </a:lnTo>
                <a:lnTo>
                  <a:pt x="265" y="60"/>
                </a:lnTo>
                <a:lnTo>
                  <a:pt x="258" y="50"/>
                </a:lnTo>
                <a:lnTo>
                  <a:pt x="247" y="40"/>
                </a:lnTo>
                <a:lnTo>
                  <a:pt x="232" y="31"/>
                </a:lnTo>
                <a:lnTo>
                  <a:pt x="214" y="24"/>
                </a:lnTo>
                <a:lnTo>
                  <a:pt x="194" y="19"/>
                </a:lnTo>
                <a:lnTo>
                  <a:pt x="172" y="15"/>
                </a:lnTo>
                <a:lnTo>
                  <a:pt x="149" y="14"/>
                </a:lnTo>
                <a:lnTo>
                  <a:pt x="126" y="15"/>
                </a:lnTo>
                <a:lnTo>
                  <a:pt x="104" y="19"/>
                </a:lnTo>
                <a:lnTo>
                  <a:pt x="83" y="24"/>
                </a:lnTo>
                <a:lnTo>
                  <a:pt x="66" y="31"/>
                </a:lnTo>
                <a:lnTo>
                  <a:pt x="51" y="40"/>
                </a:lnTo>
                <a:lnTo>
                  <a:pt x="40" y="50"/>
                </a:lnTo>
                <a:lnTo>
                  <a:pt x="33" y="60"/>
                </a:lnTo>
                <a:lnTo>
                  <a:pt x="31" y="72"/>
                </a:lnTo>
                <a:lnTo>
                  <a:pt x="33" y="83"/>
                </a:lnTo>
                <a:lnTo>
                  <a:pt x="40" y="94"/>
                </a:lnTo>
                <a:lnTo>
                  <a:pt x="51" y="103"/>
                </a:lnTo>
                <a:lnTo>
                  <a:pt x="66" y="112"/>
                </a:lnTo>
                <a:lnTo>
                  <a:pt x="83" y="119"/>
                </a:lnTo>
                <a:lnTo>
                  <a:pt x="104" y="124"/>
                </a:lnTo>
                <a:lnTo>
                  <a:pt x="126" y="128"/>
                </a:lnTo>
                <a:lnTo>
                  <a:pt x="149" y="129"/>
                </a:lnTo>
                <a:lnTo>
                  <a:pt x="172" y="128"/>
                </a:lnTo>
                <a:lnTo>
                  <a:pt x="194" y="124"/>
                </a:lnTo>
                <a:lnTo>
                  <a:pt x="214" y="119"/>
                </a:lnTo>
                <a:lnTo>
                  <a:pt x="232" y="112"/>
                </a:lnTo>
                <a:lnTo>
                  <a:pt x="247" y="103"/>
                </a:lnTo>
                <a:lnTo>
                  <a:pt x="258" y="94"/>
                </a:lnTo>
                <a:lnTo>
                  <a:pt x="265" y="83"/>
                </a:lnTo>
                <a:lnTo>
                  <a:pt x="267" y="72"/>
                </a:lnTo>
                <a:lnTo>
                  <a:pt x="298" y="72"/>
                </a:lnTo>
              </a:path>
            </a:pathLst>
          </a:cu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596960" y="4532400"/>
            <a:ext cx="376200" cy="183960"/>
          </a:xfrm>
          <a:custGeom>
            <a:avLst/>
            <a:gdLst/>
            <a:ahLst/>
            <a:rect l="l" t="t" r="r" b="b"/>
            <a:pathLst>
              <a:path w="237" h="116">
                <a:moveTo>
                  <a:pt x="236" y="58"/>
                </a:moveTo>
                <a:lnTo>
                  <a:pt x="234" y="46"/>
                </a:lnTo>
                <a:lnTo>
                  <a:pt x="227" y="36"/>
                </a:lnTo>
                <a:lnTo>
                  <a:pt x="216" y="26"/>
                </a:lnTo>
                <a:lnTo>
                  <a:pt x="201" y="17"/>
                </a:lnTo>
                <a:lnTo>
                  <a:pt x="183" y="10"/>
                </a:lnTo>
                <a:lnTo>
                  <a:pt x="163" y="5"/>
                </a:lnTo>
                <a:lnTo>
                  <a:pt x="141" y="1"/>
                </a:lnTo>
                <a:lnTo>
                  <a:pt x="118" y="0"/>
                </a:lnTo>
                <a:lnTo>
                  <a:pt x="95" y="1"/>
                </a:lnTo>
                <a:lnTo>
                  <a:pt x="73" y="5"/>
                </a:lnTo>
                <a:lnTo>
                  <a:pt x="52" y="10"/>
                </a:lnTo>
                <a:lnTo>
                  <a:pt x="35" y="17"/>
                </a:lnTo>
                <a:lnTo>
                  <a:pt x="20" y="26"/>
                </a:lnTo>
                <a:lnTo>
                  <a:pt x="9" y="36"/>
                </a:lnTo>
                <a:lnTo>
                  <a:pt x="2" y="46"/>
                </a:lnTo>
                <a:lnTo>
                  <a:pt x="0" y="58"/>
                </a:lnTo>
                <a:lnTo>
                  <a:pt x="2" y="69"/>
                </a:lnTo>
                <a:lnTo>
                  <a:pt x="9" y="80"/>
                </a:lnTo>
                <a:lnTo>
                  <a:pt x="20" y="89"/>
                </a:lnTo>
                <a:lnTo>
                  <a:pt x="35" y="98"/>
                </a:lnTo>
                <a:lnTo>
                  <a:pt x="52" y="105"/>
                </a:lnTo>
                <a:lnTo>
                  <a:pt x="73" y="110"/>
                </a:lnTo>
                <a:lnTo>
                  <a:pt x="95" y="114"/>
                </a:lnTo>
                <a:lnTo>
                  <a:pt x="118" y="115"/>
                </a:lnTo>
                <a:lnTo>
                  <a:pt x="141" y="114"/>
                </a:lnTo>
                <a:lnTo>
                  <a:pt x="163" y="110"/>
                </a:lnTo>
                <a:lnTo>
                  <a:pt x="183" y="105"/>
                </a:lnTo>
                <a:lnTo>
                  <a:pt x="201" y="98"/>
                </a:lnTo>
                <a:lnTo>
                  <a:pt x="216" y="89"/>
                </a:lnTo>
                <a:lnTo>
                  <a:pt x="227" y="80"/>
                </a:lnTo>
                <a:lnTo>
                  <a:pt x="234" y="69"/>
                </a:lnTo>
                <a:lnTo>
                  <a:pt x="236" y="58"/>
                </a:lnTo>
                <a:lnTo>
                  <a:pt x="207" y="58"/>
                </a:lnTo>
                <a:lnTo>
                  <a:pt x="205" y="49"/>
                </a:lnTo>
                <a:lnTo>
                  <a:pt x="199" y="41"/>
                </a:lnTo>
                <a:lnTo>
                  <a:pt x="192" y="34"/>
                </a:lnTo>
                <a:lnTo>
                  <a:pt x="180" y="28"/>
                </a:lnTo>
                <a:lnTo>
                  <a:pt x="168" y="22"/>
                </a:lnTo>
                <a:lnTo>
                  <a:pt x="153" y="18"/>
                </a:lnTo>
                <a:lnTo>
                  <a:pt x="136" y="16"/>
                </a:lnTo>
                <a:lnTo>
                  <a:pt x="118" y="15"/>
                </a:lnTo>
                <a:lnTo>
                  <a:pt x="100" y="16"/>
                </a:lnTo>
                <a:lnTo>
                  <a:pt x="83" y="18"/>
                </a:lnTo>
                <a:lnTo>
                  <a:pt x="68" y="22"/>
                </a:lnTo>
                <a:lnTo>
                  <a:pt x="56" y="28"/>
                </a:lnTo>
                <a:lnTo>
                  <a:pt x="44" y="34"/>
                </a:lnTo>
                <a:lnTo>
                  <a:pt x="37" y="41"/>
                </a:lnTo>
                <a:lnTo>
                  <a:pt x="31" y="49"/>
                </a:lnTo>
                <a:lnTo>
                  <a:pt x="29" y="58"/>
                </a:lnTo>
                <a:lnTo>
                  <a:pt x="31" y="66"/>
                </a:lnTo>
                <a:lnTo>
                  <a:pt x="37" y="75"/>
                </a:lnTo>
                <a:lnTo>
                  <a:pt x="44" y="82"/>
                </a:lnTo>
                <a:lnTo>
                  <a:pt x="56" y="88"/>
                </a:lnTo>
                <a:lnTo>
                  <a:pt x="68" y="93"/>
                </a:lnTo>
                <a:lnTo>
                  <a:pt x="83" y="97"/>
                </a:lnTo>
                <a:lnTo>
                  <a:pt x="100" y="100"/>
                </a:lnTo>
                <a:lnTo>
                  <a:pt x="118" y="101"/>
                </a:lnTo>
                <a:lnTo>
                  <a:pt x="136" y="100"/>
                </a:lnTo>
                <a:lnTo>
                  <a:pt x="153" y="97"/>
                </a:lnTo>
                <a:lnTo>
                  <a:pt x="168" y="93"/>
                </a:lnTo>
                <a:lnTo>
                  <a:pt x="180" y="88"/>
                </a:lnTo>
                <a:lnTo>
                  <a:pt x="192" y="82"/>
                </a:lnTo>
                <a:lnTo>
                  <a:pt x="199" y="75"/>
                </a:lnTo>
                <a:lnTo>
                  <a:pt x="205" y="66"/>
                </a:lnTo>
                <a:lnTo>
                  <a:pt x="207" y="58"/>
                </a:lnTo>
                <a:lnTo>
                  <a:pt x="236" y="58"/>
                </a:lnTo>
              </a:path>
            </a:pathLst>
          </a:cu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643040" y="4556160"/>
            <a:ext cx="284040" cy="138240"/>
          </a:xfrm>
          <a:custGeom>
            <a:avLst/>
            <a:gdLst/>
            <a:ahLst/>
            <a:rect l="l" t="t" r="r" b="b"/>
            <a:pathLst>
              <a:path w="179" h="87">
                <a:moveTo>
                  <a:pt x="178" y="43"/>
                </a:moveTo>
                <a:lnTo>
                  <a:pt x="176" y="34"/>
                </a:lnTo>
                <a:lnTo>
                  <a:pt x="170" y="26"/>
                </a:lnTo>
                <a:lnTo>
                  <a:pt x="163" y="19"/>
                </a:lnTo>
                <a:lnTo>
                  <a:pt x="151" y="13"/>
                </a:lnTo>
                <a:lnTo>
                  <a:pt x="139" y="7"/>
                </a:lnTo>
                <a:lnTo>
                  <a:pt x="124" y="3"/>
                </a:lnTo>
                <a:lnTo>
                  <a:pt x="107" y="1"/>
                </a:lnTo>
                <a:lnTo>
                  <a:pt x="89" y="0"/>
                </a:lnTo>
                <a:lnTo>
                  <a:pt x="71" y="1"/>
                </a:lnTo>
                <a:lnTo>
                  <a:pt x="54" y="3"/>
                </a:lnTo>
                <a:lnTo>
                  <a:pt x="39" y="7"/>
                </a:lnTo>
                <a:lnTo>
                  <a:pt x="27" y="13"/>
                </a:lnTo>
                <a:lnTo>
                  <a:pt x="15" y="19"/>
                </a:lnTo>
                <a:lnTo>
                  <a:pt x="8" y="26"/>
                </a:lnTo>
                <a:lnTo>
                  <a:pt x="2" y="34"/>
                </a:lnTo>
                <a:lnTo>
                  <a:pt x="0" y="43"/>
                </a:lnTo>
                <a:lnTo>
                  <a:pt x="2" y="51"/>
                </a:lnTo>
                <a:lnTo>
                  <a:pt x="8" y="60"/>
                </a:lnTo>
                <a:lnTo>
                  <a:pt x="15" y="67"/>
                </a:lnTo>
                <a:lnTo>
                  <a:pt x="27" y="73"/>
                </a:lnTo>
                <a:lnTo>
                  <a:pt x="39" y="78"/>
                </a:lnTo>
                <a:lnTo>
                  <a:pt x="54" y="82"/>
                </a:lnTo>
                <a:lnTo>
                  <a:pt x="71" y="85"/>
                </a:lnTo>
                <a:lnTo>
                  <a:pt x="89" y="86"/>
                </a:lnTo>
                <a:lnTo>
                  <a:pt x="107" y="85"/>
                </a:lnTo>
                <a:lnTo>
                  <a:pt x="124" y="82"/>
                </a:lnTo>
                <a:lnTo>
                  <a:pt x="139" y="78"/>
                </a:lnTo>
                <a:lnTo>
                  <a:pt x="151" y="73"/>
                </a:lnTo>
                <a:lnTo>
                  <a:pt x="163" y="67"/>
                </a:lnTo>
                <a:lnTo>
                  <a:pt x="170" y="60"/>
                </a:lnTo>
                <a:lnTo>
                  <a:pt x="176" y="51"/>
                </a:lnTo>
                <a:lnTo>
                  <a:pt x="178" y="43"/>
                </a:lnTo>
                <a:lnTo>
                  <a:pt x="148" y="43"/>
                </a:lnTo>
                <a:lnTo>
                  <a:pt x="147" y="37"/>
                </a:lnTo>
                <a:lnTo>
                  <a:pt x="143" y="32"/>
                </a:lnTo>
                <a:lnTo>
                  <a:pt x="138" y="27"/>
                </a:lnTo>
                <a:lnTo>
                  <a:pt x="130" y="23"/>
                </a:lnTo>
                <a:lnTo>
                  <a:pt x="122" y="19"/>
                </a:lnTo>
                <a:lnTo>
                  <a:pt x="111" y="17"/>
                </a:lnTo>
                <a:lnTo>
                  <a:pt x="101" y="15"/>
                </a:lnTo>
                <a:lnTo>
                  <a:pt x="89" y="14"/>
                </a:lnTo>
                <a:lnTo>
                  <a:pt x="77" y="15"/>
                </a:lnTo>
                <a:lnTo>
                  <a:pt x="67" y="17"/>
                </a:lnTo>
                <a:lnTo>
                  <a:pt x="56" y="19"/>
                </a:lnTo>
                <a:lnTo>
                  <a:pt x="48" y="23"/>
                </a:lnTo>
                <a:lnTo>
                  <a:pt x="40" y="27"/>
                </a:lnTo>
                <a:lnTo>
                  <a:pt x="35" y="32"/>
                </a:lnTo>
                <a:lnTo>
                  <a:pt x="31" y="37"/>
                </a:lnTo>
                <a:lnTo>
                  <a:pt x="30" y="43"/>
                </a:lnTo>
                <a:lnTo>
                  <a:pt x="31" y="48"/>
                </a:lnTo>
                <a:lnTo>
                  <a:pt x="35" y="53"/>
                </a:lnTo>
                <a:lnTo>
                  <a:pt x="40" y="59"/>
                </a:lnTo>
                <a:lnTo>
                  <a:pt x="48" y="63"/>
                </a:lnTo>
                <a:lnTo>
                  <a:pt x="56" y="66"/>
                </a:lnTo>
                <a:lnTo>
                  <a:pt x="67" y="69"/>
                </a:lnTo>
                <a:lnTo>
                  <a:pt x="77" y="71"/>
                </a:lnTo>
                <a:lnTo>
                  <a:pt x="89" y="71"/>
                </a:lnTo>
                <a:lnTo>
                  <a:pt x="101" y="71"/>
                </a:lnTo>
                <a:lnTo>
                  <a:pt x="111" y="69"/>
                </a:lnTo>
                <a:lnTo>
                  <a:pt x="122" y="66"/>
                </a:lnTo>
                <a:lnTo>
                  <a:pt x="130" y="63"/>
                </a:lnTo>
                <a:lnTo>
                  <a:pt x="138" y="59"/>
                </a:lnTo>
                <a:lnTo>
                  <a:pt x="143" y="53"/>
                </a:lnTo>
                <a:lnTo>
                  <a:pt x="147" y="48"/>
                </a:lnTo>
                <a:lnTo>
                  <a:pt x="148" y="43"/>
                </a:lnTo>
                <a:lnTo>
                  <a:pt x="178" y="43"/>
                </a:lnTo>
              </a:path>
            </a:pathLst>
          </a:cu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690560" y="4578480"/>
            <a:ext cx="189000" cy="91800"/>
          </a:xfrm>
          <a:custGeom>
            <a:avLst/>
            <a:gdLst/>
            <a:ahLst/>
            <a:rect l="l" t="t" r="r" b="b"/>
            <a:pathLst>
              <a:path w="119" h="58">
                <a:moveTo>
                  <a:pt x="118" y="29"/>
                </a:moveTo>
                <a:lnTo>
                  <a:pt x="117" y="23"/>
                </a:lnTo>
                <a:lnTo>
                  <a:pt x="113" y="18"/>
                </a:lnTo>
                <a:lnTo>
                  <a:pt x="108" y="13"/>
                </a:lnTo>
                <a:lnTo>
                  <a:pt x="100" y="9"/>
                </a:lnTo>
                <a:lnTo>
                  <a:pt x="92" y="5"/>
                </a:lnTo>
                <a:lnTo>
                  <a:pt x="81" y="3"/>
                </a:lnTo>
                <a:lnTo>
                  <a:pt x="71" y="1"/>
                </a:lnTo>
                <a:lnTo>
                  <a:pt x="59" y="0"/>
                </a:lnTo>
                <a:lnTo>
                  <a:pt x="47" y="1"/>
                </a:lnTo>
                <a:lnTo>
                  <a:pt x="37" y="3"/>
                </a:lnTo>
                <a:lnTo>
                  <a:pt x="26" y="5"/>
                </a:lnTo>
                <a:lnTo>
                  <a:pt x="18" y="9"/>
                </a:lnTo>
                <a:lnTo>
                  <a:pt x="10" y="13"/>
                </a:lnTo>
                <a:lnTo>
                  <a:pt x="5" y="18"/>
                </a:lnTo>
                <a:lnTo>
                  <a:pt x="1" y="23"/>
                </a:lnTo>
                <a:lnTo>
                  <a:pt x="0" y="29"/>
                </a:lnTo>
                <a:lnTo>
                  <a:pt x="1" y="34"/>
                </a:lnTo>
                <a:lnTo>
                  <a:pt x="5" y="39"/>
                </a:lnTo>
                <a:lnTo>
                  <a:pt x="10" y="45"/>
                </a:lnTo>
                <a:lnTo>
                  <a:pt x="18" y="49"/>
                </a:lnTo>
                <a:lnTo>
                  <a:pt x="26" y="52"/>
                </a:lnTo>
                <a:lnTo>
                  <a:pt x="37" y="55"/>
                </a:lnTo>
                <a:lnTo>
                  <a:pt x="47" y="57"/>
                </a:lnTo>
                <a:lnTo>
                  <a:pt x="59" y="57"/>
                </a:lnTo>
                <a:lnTo>
                  <a:pt x="71" y="57"/>
                </a:lnTo>
                <a:lnTo>
                  <a:pt x="81" y="55"/>
                </a:lnTo>
                <a:lnTo>
                  <a:pt x="92" y="52"/>
                </a:lnTo>
                <a:lnTo>
                  <a:pt x="100" y="49"/>
                </a:lnTo>
                <a:lnTo>
                  <a:pt x="108" y="45"/>
                </a:lnTo>
                <a:lnTo>
                  <a:pt x="113" y="39"/>
                </a:lnTo>
                <a:lnTo>
                  <a:pt x="117" y="34"/>
                </a:lnTo>
                <a:lnTo>
                  <a:pt x="118" y="29"/>
                </a:lnTo>
                <a:lnTo>
                  <a:pt x="89" y="29"/>
                </a:lnTo>
                <a:lnTo>
                  <a:pt x="86" y="23"/>
                </a:lnTo>
                <a:lnTo>
                  <a:pt x="80" y="18"/>
                </a:lnTo>
                <a:lnTo>
                  <a:pt x="71" y="15"/>
                </a:lnTo>
                <a:lnTo>
                  <a:pt x="59" y="14"/>
                </a:lnTo>
                <a:lnTo>
                  <a:pt x="47" y="15"/>
                </a:lnTo>
                <a:lnTo>
                  <a:pt x="38" y="18"/>
                </a:lnTo>
                <a:lnTo>
                  <a:pt x="32" y="23"/>
                </a:lnTo>
                <a:lnTo>
                  <a:pt x="29" y="29"/>
                </a:lnTo>
                <a:lnTo>
                  <a:pt x="32" y="34"/>
                </a:lnTo>
                <a:lnTo>
                  <a:pt x="38" y="39"/>
                </a:lnTo>
                <a:lnTo>
                  <a:pt x="47" y="42"/>
                </a:lnTo>
                <a:lnTo>
                  <a:pt x="59" y="43"/>
                </a:lnTo>
                <a:lnTo>
                  <a:pt x="71" y="42"/>
                </a:lnTo>
                <a:lnTo>
                  <a:pt x="80" y="39"/>
                </a:lnTo>
                <a:lnTo>
                  <a:pt x="86" y="34"/>
                </a:lnTo>
                <a:lnTo>
                  <a:pt x="89" y="29"/>
                </a:lnTo>
                <a:lnTo>
                  <a:pt x="118" y="29"/>
                </a:lnTo>
              </a:path>
            </a:pathLst>
          </a:cu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6640" y="4600440"/>
            <a:ext cx="96840" cy="47880"/>
          </a:xfrm>
          <a:custGeom>
            <a:avLst/>
            <a:gdLst/>
            <a:ahLst/>
            <a:rect l="l" t="t" r="r" b="b"/>
            <a:pathLst>
              <a:path w="61" h="30">
                <a:moveTo>
                  <a:pt x="60" y="15"/>
                </a:moveTo>
                <a:lnTo>
                  <a:pt x="57" y="9"/>
                </a:lnTo>
                <a:lnTo>
                  <a:pt x="51" y="4"/>
                </a:lnTo>
                <a:lnTo>
                  <a:pt x="42" y="1"/>
                </a:lnTo>
                <a:lnTo>
                  <a:pt x="30" y="0"/>
                </a:lnTo>
                <a:lnTo>
                  <a:pt x="18" y="1"/>
                </a:lnTo>
                <a:lnTo>
                  <a:pt x="9" y="4"/>
                </a:lnTo>
                <a:lnTo>
                  <a:pt x="3" y="9"/>
                </a:lnTo>
                <a:lnTo>
                  <a:pt x="0" y="15"/>
                </a:lnTo>
                <a:lnTo>
                  <a:pt x="3" y="20"/>
                </a:lnTo>
                <a:lnTo>
                  <a:pt x="9" y="25"/>
                </a:lnTo>
                <a:lnTo>
                  <a:pt x="18" y="28"/>
                </a:lnTo>
                <a:lnTo>
                  <a:pt x="30" y="29"/>
                </a:lnTo>
                <a:lnTo>
                  <a:pt x="42" y="28"/>
                </a:lnTo>
                <a:lnTo>
                  <a:pt x="51" y="25"/>
                </a:lnTo>
                <a:lnTo>
                  <a:pt x="57" y="20"/>
                </a:lnTo>
                <a:lnTo>
                  <a:pt x="60" y="1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706840" y="3417840"/>
            <a:ext cx="1857240" cy="2075040"/>
          </a:xfrm>
          <a:custGeom>
            <a:avLst/>
            <a:gdLst/>
            <a:ahLst/>
            <a:rect l="l" t="t" r="r" b="b"/>
            <a:pathLst>
              <a:path w="1170" h="1307">
                <a:moveTo>
                  <a:pt x="955" y="153"/>
                </a:moveTo>
                <a:lnTo>
                  <a:pt x="935" y="135"/>
                </a:lnTo>
                <a:lnTo>
                  <a:pt x="913" y="119"/>
                </a:lnTo>
                <a:lnTo>
                  <a:pt x="892" y="103"/>
                </a:lnTo>
                <a:lnTo>
                  <a:pt x="869" y="89"/>
                </a:lnTo>
                <a:lnTo>
                  <a:pt x="845" y="75"/>
                </a:lnTo>
                <a:lnTo>
                  <a:pt x="822" y="63"/>
                </a:lnTo>
                <a:lnTo>
                  <a:pt x="798" y="51"/>
                </a:lnTo>
                <a:lnTo>
                  <a:pt x="772" y="41"/>
                </a:lnTo>
                <a:lnTo>
                  <a:pt x="747" y="31"/>
                </a:lnTo>
                <a:lnTo>
                  <a:pt x="722" y="23"/>
                </a:lnTo>
                <a:lnTo>
                  <a:pt x="695" y="16"/>
                </a:lnTo>
                <a:lnTo>
                  <a:pt x="669" y="10"/>
                </a:lnTo>
                <a:lnTo>
                  <a:pt x="642" y="6"/>
                </a:lnTo>
                <a:lnTo>
                  <a:pt x="614" y="2"/>
                </a:lnTo>
                <a:lnTo>
                  <a:pt x="587" y="0"/>
                </a:lnTo>
                <a:lnTo>
                  <a:pt x="558" y="0"/>
                </a:lnTo>
                <a:lnTo>
                  <a:pt x="541" y="0"/>
                </a:lnTo>
                <a:lnTo>
                  <a:pt x="525" y="1"/>
                </a:lnTo>
                <a:lnTo>
                  <a:pt x="509" y="2"/>
                </a:lnTo>
                <a:lnTo>
                  <a:pt x="493" y="3"/>
                </a:lnTo>
                <a:lnTo>
                  <a:pt x="477" y="5"/>
                </a:lnTo>
                <a:lnTo>
                  <a:pt x="460" y="8"/>
                </a:lnTo>
                <a:lnTo>
                  <a:pt x="444" y="11"/>
                </a:lnTo>
                <a:lnTo>
                  <a:pt x="429" y="15"/>
                </a:lnTo>
                <a:lnTo>
                  <a:pt x="414" y="18"/>
                </a:lnTo>
                <a:lnTo>
                  <a:pt x="398" y="23"/>
                </a:lnTo>
                <a:lnTo>
                  <a:pt x="383" y="27"/>
                </a:lnTo>
                <a:lnTo>
                  <a:pt x="367" y="32"/>
                </a:lnTo>
                <a:lnTo>
                  <a:pt x="352" y="38"/>
                </a:lnTo>
                <a:lnTo>
                  <a:pt x="337" y="44"/>
                </a:lnTo>
                <a:lnTo>
                  <a:pt x="324" y="50"/>
                </a:lnTo>
                <a:lnTo>
                  <a:pt x="309" y="56"/>
                </a:lnTo>
                <a:lnTo>
                  <a:pt x="352" y="55"/>
                </a:lnTo>
                <a:lnTo>
                  <a:pt x="397" y="55"/>
                </a:lnTo>
                <a:lnTo>
                  <a:pt x="440" y="56"/>
                </a:lnTo>
                <a:lnTo>
                  <a:pt x="482" y="59"/>
                </a:lnTo>
                <a:lnTo>
                  <a:pt x="525" y="61"/>
                </a:lnTo>
                <a:lnTo>
                  <a:pt x="568" y="65"/>
                </a:lnTo>
                <a:lnTo>
                  <a:pt x="609" y="70"/>
                </a:lnTo>
                <a:lnTo>
                  <a:pt x="650" y="75"/>
                </a:lnTo>
                <a:lnTo>
                  <a:pt x="691" y="82"/>
                </a:lnTo>
                <a:lnTo>
                  <a:pt x="731" y="89"/>
                </a:lnTo>
                <a:lnTo>
                  <a:pt x="770" y="98"/>
                </a:lnTo>
                <a:lnTo>
                  <a:pt x="809" y="107"/>
                </a:lnTo>
                <a:lnTo>
                  <a:pt x="846" y="117"/>
                </a:lnTo>
                <a:lnTo>
                  <a:pt x="884" y="128"/>
                </a:lnTo>
                <a:lnTo>
                  <a:pt x="920" y="140"/>
                </a:lnTo>
                <a:lnTo>
                  <a:pt x="955" y="153"/>
                </a:lnTo>
                <a:lnTo>
                  <a:pt x="0" y="926"/>
                </a:lnTo>
                <a:lnTo>
                  <a:pt x="9" y="947"/>
                </a:lnTo>
                <a:lnTo>
                  <a:pt x="20" y="967"/>
                </a:lnTo>
                <a:lnTo>
                  <a:pt x="30" y="987"/>
                </a:lnTo>
                <a:lnTo>
                  <a:pt x="42" y="1007"/>
                </a:lnTo>
                <a:lnTo>
                  <a:pt x="53" y="1026"/>
                </a:lnTo>
                <a:lnTo>
                  <a:pt x="66" y="1045"/>
                </a:lnTo>
                <a:lnTo>
                  <a:pt x="79" y="1062"/>
                </a:lnTo>
                <a:lnTo>
                  <a:pt x="94" y="1080"/>
                </a:lnTo>
                <a:lnTo>
                  <a:pt x="107" y="1097"/>
                </a:lnTo>
                <a:lnTo>
                  <a:pt x="122" y="1114"/>
                </a:lnTo>
                <a:lnTo>
                  <a:pt x="138" y="1129"/>
                </a:lnTo>
                <a:lnTo>
                  <a:pt x="154" y="1145"/>
                </a:lnTo>
                <a:lnTo>
                  <a:pt x="171" y="1160"/>
                </a:lnTo>
                <a:lnTo>
                  <a:pt x="188" y="1174"/>
                </a:lnTo>
                <a:lnTo>
                  <a:pt x="204" y="1187"/>
                </a:lnTo>
                <a:lnTo>
                  <a:pt x="222" y="1201"/>
                </a:lnTo>
                <a:lnTo>
                  <a:pt x="241" y="1213"/>
                </a:lnTo>
                <a:lnTo>
                  <a:pt x="259" y="1224"/>
                </a:lnTo>
                <a:lnTo>
                  <a:pt x="279" y="1235"/>
                </a:lnTo>
                <a:lnTo>
                  <a:pt x="298" y="1245"/>
                </a:lnTo>
                <a:lnTo>
                  <a:pt x="318" y="1255"/>
                </a:lnTo>
                <a:lnTo>
                  <a:pt x="339" y="1263"/>
                </a:lnTo>
                <a:lnTo>
                  <a:pt x="360" y="1271"/>
                </a:lnTo>
                <a:lnTo>
                  <a:pt x="381" y="1278"/>
                </a:lnTo>
                <a:lnTo>
                  <a:pt x="402" y="1285"/>
                </a:lnTo>
                <a:lnTo>
                  <a:pt x="423" y="1291"/>
                </a:lnTo>
                <a:lnTo>
                  <a:pt x="445" y="1295"/>
                </a:lnTo>
                <a:lnTo>
                  <a:pt x="467" y="1299"/>
                </a:lnTo>
                <a:lnTo>
                  <a:pt x="490" y="1302"/>
                </a:lnTo>
                <a:lnTo>
                  <a:pt x="513" y="1304"/>
                </a:lnTo>
                <a:lnTo>
                  <a:pt x="535" y="1306"/>
                </a:lnTo>
                <a:lnTo>
                  <a:pt x="558" y="1306"/>
                </a:lnTo>
                <a:lnTo>
                  <a:pt x="587" y="1306"/>
                </a:lnTo>
                <a:lnTo>
                  <a:pt x="615" y="1304"/>
                </a:lnTo>
                <a:lnTo>
                  <a:pt x="644" y="1300"/>
                </a:lnTo>
                <a:lnTo>
                  <a:pt x="671" y="1296"/>
                </a:lnTo>
                <a:lnTo>
                  <a:pt x="699" y="1290"/>
                </a:lnTo>
                <a:lnTo>
                  <a:pt x="726" y="1282"/>
                </a:lnTo>
                <a:lnTo>
                  <a:pt x="752" y="1274"/>
                </a:lnTo>
                <a:lnTo>
                  <a:pt x="778" y="1264"/>
                </a:lnTo>
                <a:lnTo>
                  <a:pt x="803" y="1253"/>
                </a:lnTo>
                <a:lnTo>
                  <a:pt x="828" y="1241"/>
                </a:lnTo>
                <a:lnTo>
                  <a:pt x="853" y="1228"/>
                </a:lnTo>
                <a:lnTo>
                  <a:pt x="876" y="1213"/>
                </a:lnTo>
                <a:lnTo>
                  <a:pt x="899" y="1198"/>
                </a:lnTo>
                <a:lnTo>
                  <a:pt x="921" y="1182"/>
                </a:lnTo>
                <a:lnTo>
                  <a:pt x="942" y="1165"/>
                </a:lnTo>
                <a:lnTo>
                  <a:pt x="964" y="1146"/>
                </a:lnTo>
                <a:lnTo>
                  <a:pt x="984" y="1127"/>
                </a:lnTo>
                <a:lnTo>
                  <a:pt x="1003" y="1107"/>
                </a:lnTo>
                <a:lnTo>
                  <a:pt x="1021" y="1086"/>
                </a:lnTo>
                <a:lnTo>
                  <a:pt x="1039" y="1064"/>
                </a:lnTo>
                <a:lnTo>
                  <a:pt x="1054" y="1042"/>
                </a:lnTo>
                <a:lnTo>
                  <a:pt x="1070" y="1019"/>
                </a:lnTo>
                <a:lnTo>
                  <a:pt x="1085" y="995"/>
                </a:lnTo>
                <a:lnTo>
                  <a:pt x="1099" y="970"/>
                </a:lnTo>
                <a:lnTo>
                  <a:pt x="1111" y="945"/>
                </a:lnTo>
                <a:lnTo>
                  <a:pt x="1123" y="919"/>
                </a:lnTo>
                <a:lnTo>
                  <a:pt x="1134" y="892"/>
                </a:lnTo>
                <a:lnTo>
                  <a:pt x="1143" y="865"/>
                </a:lnTo>
                <a:lnTo>
                  <a:pt x="1152" y="837"/>
                </a:lnTo>
                <a:lnTo>
                  <a:pt x="1159" y="809"/>
                </a:lnTo>
                <a:lnTo>
                  <a:pt x="1164" y="780"/>
                </a:lnTo>
                <a:lnTo>
                  <a:pt x="1169" y="751"/>
                </a:lnTo>
                <a:lnTo>
                  <a:pt x="1146" y="768"/>
                </a:lnTo>
                <a:lnTo>
                  <a:pt x="1121" y="785"/>
                </a:lnTo>
                <a:lnTo>
                  <a:pt x="1094" y="801"/>
                </a:lnTo>
                <a:lnTo>
                  <a:pt x="1067" y="816"/>
                </a:lnTo>
                <a:lnTo>
                  <a:pt x="1039" y="831"/>
                </a:lnTo>
                <a:lnTo>
                  <a:pt x="1009" y="845"/>
                </a:lnTo>
                <a:lnTo>
                  <a:pt x="977" y="858"/>
                </a:lnTo>
                <a:lnTo>
                  <a:pt x="946" y="871"/>
                </a:lnTo>
                <a:lnTo>
                  <a:pt x="912" y="882"/>
                </a:lnTo>
                <a:lnTo>
                  <a:pt x="878" y="893"/>
                </a:lnTo>
                <a:lnTo>
                  <a:pt x="843" y="903"/>
                </a:lnTo>
                <a:lnTo>
                  <a:pt x="807" y="913"/>
                </a:lnTo>
                <a:lnTo>
                  <a:pt x="770" y="921"/>
                </a:lnTo>
                <a:lnTo>
                  <a:pt x="732" y="929"/>
                </a:lnTo>
                <a:lnTo>
                  <a:pt x="694" y="937"/>
                </a:lnTo>
                <a:lnTo>
                  <a:pt x="656" y="943"/>
                </a:lnTo>
                <a:lnTo>
                  <a:pt x="616" y="948"/>
                </a:lnTo>
                <a:lnTo>
                  <a:pt x="577" y="953"/>
                </a:lnTo>
                <a:lnTo>
                  <a:pt x="536" y="957"/>
                </a:lnTo>
                <a:lnTo>
                  <a:pt x="496" y="960"/>
                </a:lnTo>
                <a:lnTo>
                  <a:pt x="455" y="962"/>
                </a:lnTo>
                <a:lnTo>
                  <a:pt x="414" y="963"/>
                </a:lnTo>
                <a:lnTo>
                  <a:pt x="372" y="963"/>
                </a:lnTo>
                <a:lnTo>
                  <a:pt x="330" y="963"/>
                </a:lnTo>
                <a:lnTo>
                  <a:pt x="289" y="962"/>
                </a:lnTo>
                <a:lnTo>
                  <a:pt x="248" y="959"/>
                </a:lnTo>
                <a:lnTo>
                  <a:pt x="206" y="956"/>
                </a:lnTo>
                <a:lnTo>
                  <a:pt x="164" y="952"/>
                </a:lnTo>
                <a:lnTo>
                  <a:pt x="122" y="947"/>
                </a:lnTo>
                <a:lnTo>
                  <a:pt x="81" y="941"/>
                </a:lnTo>
                <a:lnTo>
                  <a:pt x="41" y="934"/>
                </a:lnTo>
                <a:lnTo>
                  <a:pt x="0" y="926"/>
                </a:lnTo>
                <a:lnTo>
                  <a:pt x="955" y="15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687760" y="3505320"/>
            <a:ext cx="1887480" cy="1442880"/>
          </a:xfrm>
          <a:custGeom>
            <a:avLst/>
            <a:gdLst/>
            <a:ahLst/>
            <a:rect l="l" t="t" r="r" b="b"/>
            <a:pathLst>
              <a:path w="1189" h="909">
                <a:moveTo>
                  <a:pt x="967" y="98"/>
                </a:moveTo>
                <a:lnTo>
                  <a:pt x="975" y="104"/>
                </a:lnTo>
                <a:lnTo>
                  <a:pt x="981" y="110"/>
                </a:lnTo>
                <a:lnTo>
                  <a:pt x="988" y="118"/>
                </a:lnTo>
                <a:lnTo>
                  <a:pt x="995" y="124"/>
                </a:lnTo>
                <a:lnTo>
                  <a:pt x="1002" y="131"/>
                </a:lnTo>
                <a:lnTo>
                  <a:pt x="1008" y="139"/>
                </a:lnTo>
                <a:lnTo>
                  <a:pt x="1016" y="146"/>
                </a:lnTo>
                <a:lnTo>
                  <a:pt x="1022" y="153"/>
                </a:lnTo>
                <a:lnTo>
                  <a:pt x="1003" y="144"/>
                </a:lnTo>
                <a:lnTo>
                  <a:pt x="984" y="135"/>
                </a:lnTo>
                <a:lnTo>
                  <a:pt x="965" y="127"/>
                </a:lnTo>
                <a:lnTo>
                  <a:pt x="945" y="119"/>
                </a:lnTo>
                <a:lnTo>
                  <a:pt x="925" y="112"/>
                </a:lnTo>
                <a:lnTo>
                  <a:pt x="904" y="104"/>
                </a:lnTo>
                <a:lnTo>
                  <a:pt x="883" y="97"/>
                </a:lnTo>
                <a:lnTo>
                  <a:pt x="862" y="90"/>
                </a:lnTo>
                <a:lnTo>
                  <a:pt x="839" y="84"/>
                </a:lnTo>
                <a:lnTo>
                  <a:pt x="817" y="78"/>
                </a:lnTo>
                <a:lnTo>
                  <a:pt x="795" y="73"/>
                </a:lnTo>
                <a:lnTo>
                  <a:pt x="773" y="67"/>
                </a:lnTo>
                <a:lnTo>
                  <a:pt x="750" y="62"/>
                </a:lnTo>
                <a:lnTo>
                  <a:pt x="725" y="57"/>
                </a:lnTo>
                <a:lnTo>
                  <a:pt x="702" y="53"/>
                </a:lnTo>
                <a:lnTo>
                  <a:pt x="678" y="48"/>
                </a:lnTo>
                <a:lnTo>
                  <a:pt x="654" y="44"/>
                </a:lnTo>
                <a:lnTo>
                  <a:pt x="629" y="41"/>
                </a:lnTo>
                <a:lnTo>
                  <a:pt x="605" y="38"/>
                </a:lnTo>
                <a:lnTo>
                  <a:pt x="580" y="35"/>
                </a:lnTo>
                <a:lnTo>
                  <a:pt x="555" y="33"/>
                </a:lnTo>
                <a:lnTo>
                  <a:pt x="530" y="30"/>
                </a:lnTo>
                <a:lnTo>
                  <a:pt x="505" y="29"/>
                </a:lnTo>
                <a:lnTo>
                  <a:pt x="478" y="27"/>
                </a:lnTo>
                <a:lnTo>
                  <a:pt x="453" y="26"/>
                </a:lnTo>
                <a:lnTo>
                  <a:pt x="428" y="25"/>
                </a:lnTo>
                <a:lnTo>
                  <a:pt x="401" y="24"/>
                </a:lnTo>
                <a:lnTo>
                  <a:pt x="375" y="24"/>
                </a:lnTo>
                <a:lnTo>
                  <a:pt x="349" y="25"/>
                </a:lnTo>
                <a:lnTo>
                  <a:pt x="323" y="26"/>
                </a:lnTo>
                <a:lnTo>
                  <a:pt x="297" y="27"/>
                </a:lnTo>
                <a:lnTo>
                  <a:pt x="270" y="28"/>
                </a:lnTo>
                <a:lnTo>
                  <a:pt x="277" y="24"/>
                </a:lnTo>
                <a:lnTo>
                  <a:pt x="283" y="21"/>
                </a:lnTo>
                <a:lnTo>
                  <a:pt x="289" y="17"/>
                </a:lnTo>
                <a:lnTo>
                  <a:pt x="296" y="14"/>
                </a:lnTo>
                <a:lnTo>
                  <a:pt x="302" y="11"/>
                </a:lnTo>
                <a:lnTo>
                  <a:pt x="308" y="8"/>
                </a:lnTo>
                <a:lnTo>
                  <a:pt x="315" y="5"/>
                </a:lnTo>
                <a:lnTo>
                  <a:pt x="321" y="1"/>
                </a:lnTo>
                <a:lnTo>
                  <a:pt x="364" y="0"/>
                </a:lnTo>
                <a:lnTo>
                  <a:pt x="409" y="0"/>
                </a:lnTo>
                <a:lnTo>
                  <a:pt x="452" y="1"/>
                </a:lnTo>
                <a:lnTo>
                  <a:pt x="494" y="4"/>
                </a:lnTo>
                <a:lnTo>
                  <a:pt x="537" y="6"/>
                </a:lnTo>
                <a:lnTo>
                  <a:pt x="580" y="10"/>
                </a:lnTo>
                <a:lnTo>
                  <a:pt x="621" y="15"/>
                </a:lnTo>
                <a:lnTo>
                  <a:pt x="662" y="20"/>
                </a:lnTo>
                <a:lnTo>
                  <a:pt x="703" y="27"/>
                </a:lnTo>
                <a:lnTo>
                  <a:pt x="743" y="34"/>
                </a:lnTo>
                <a:lnTo>
                  <a:pt x="782" y="43"/>
                </a:lnTo>
                <a:lnTo>
                  <a:pt x="821" y="52"/>
                </a:lnTo>
                <a:lnTo>
                  <a:pt x="858" y="62"/>
                </a:lnTo>
                <a:lnTo>
                  <a:pt x="896" y="73"/>
                </a:lnTo>
                <a:lnTo>
                  <a:pt x="932" y="85"/>
                </a:lnTo>
                <a:lnTo>
                  <a:pt x="967" y="98"/>
                </a:lnTo>
                <a:lnTo>
                  <a:pt x="12" y="871"/>
                </a:lnTo>
                <a:lnTo>
                  <a:pt x="11" y="867"/>
                </a:lnTo>
                <a:lnTo>
                  <a:pt x="8" y="864"/>
                </a:lnTo>
                <a:lnTo>
                  <a:pt x="7" y="860"/>
                </a:lnTo>
                <a:lnTo>
                  <a:pt x="5" y="856"/>
                </a:lnTo>
                <a:lnTo>
                  <a:pt x="4" y="852"/>
                </a:lnTo>
                <a:lnTo>
                  <a:pt x="2" y="849"/>
                </a:lnTo>
                <a:lnTo>
                  <a:pt x="1" y="845"/>
                </a:lnTo>
                <a:lnTo>
                  <a:pt x="0" y="842"/>
                </a:lnTo>
                <a:lnTo>
                  <a:pt x="41" y="850"/>
                </a:lnTo>
                <a:lnTo>
                  <a:pt x="82" y="859"/>
                </a:lnTo>
                <a:lnTo>
                  <a:pt x="125" y="865"/>
                </a:lnTo>
                <a:lnTo>
                  <a:pt x="168" y="871"/>
                </a:lnTo>
                <a:lnTo>
                  <a:pt x="210" y="876"/>
                </a:lnTo>
                <a:lnTo>
                  <a:pt x="253" y="880"/>
                </a:lnTo>
                <a:lnTo>
                  <a:pt x="297" y="882"/>
                </a:lnTo>
                <a:lnTo>
                  <a:pt x="341" y="884"/>
                </a:lnTo>
                <a:lnTo>
                  <a:pt x="384" y="885"/>
                </a:lnTo>
                <a:lnTo>
                  <a:pt x="428" y="884"/>
                </a:lnTo>
                <a:lnTo>
                  <a:pt x="471" y="883"/>
                </a:lnTo>
                <a:lnTo>
                  <a:pt x="514" y="880"/>
                </a:lnTo>
                <a:lnTo>
                  <a:pt x="557" y="877"/>
                </a:lnTo>
                <a:lnTo>
                  <a:pt x="600" y="872"/>
                </a:lnTo>
                <a:lnTo>
                  <a:pt x="642" y="867"/>
                </a:lnTo>
                <a:lnTo>
                  <a:pt x="684" y="860"/>
                </a:lnTo>
                <a:lnTo>
                  <a:pt x="725" y="852"/>
                </a:lnTo>
                <a:lnTo>
                  <a:pt x="765" y="844"/>
                </a:lnTo>
                <a:lnTo>
                  <a:pt x="805" y="835"/>
                </a:lnTo>
                <a:lnTo>
                  <a:pt x="843" y="824"/>
                </a:lnTo>
                <a:lnTo>
                  <a:pt x="879" y="813"/>
                </a:lnTo>
                <a:lnTo>
                  <a:pt x="914" y="801"/>
                </a:lnTo>
                <a:lnTo>
                  <a:pt x="949" y="788"/>
                </a:lnTo>
                <a:lnTo>
                  <a:pt x="982" y="774"/>
                </a:lnTo>
                <a:lnTo>
                  <a:pt x="1013" y="760"/>
                </a:lnTo>
                <a:lnTo>
                  <a:pt x="1043" y="745"/>
                </a:lnTo>
                <a:lnTo>
                  <a:pt x="1072" y="729"/>
                </a:lnTo>
                <a:lnTo>
                  <a:pt x="1098" y="713"/>
                </a:lnTo>
                <a:lnTo>
                  <a:pt x="1123" y="696"/>
                </a:lnTo>
                <a:lnTo>
                  <a:pt x="1147" y="679"/>
                </a:lnTo>
                <a:lnTo>
                  <a:pt x="1168" y="660"/>
                </a:lnTo>
                <a:lnTo>
                  <a:pt x="1188" y="642"/>
                </a:lnTo>
                <a:lnTo>
                  <a:pt x="1188" y="648"/>
                </a:lnTo>
                <a:lnTo>
                  <a:pt x="1187" y="656"/>
                </a:lnTo>
                <a:lnTo>
                  <a:pt x="1186" y="662"/>
                </a:lnTo>
                <a:lnTo>
                  <a:pt x="1186" y="669"/>
                </a:lnTo>
                <a:lnTo>
                  <a:pt x="1185" y="676"/>
                </a:lnTo>
                <a:lnTo>
                  <a:pt x="1184" y="683"/>
                </a:lnTo>
                <a:lnTo>
                  <a:pt x="1183" y="689"/>
                </a:lnTo>
                <a:lnTo>
                  <a:pt x="1181" y="696"/>
                </a:lnTo>
                <a:lnTo>
                  <a:pt x="1158" y="713"/>
                </a:lnTo>
                <a:lnTo>
                  <a:pt x="1133" y="730"/>
                </a:lnTo>
                <a:lnTo>
                  <a:pt x="1106" y="746"/>
                </a:lnTo>
                <a:lnTo>
                  <a:pt x="1079" y="761"/>
                </a:lnTo>
                <a:lnTo>
                  <a:pt x="1051" y="776"/>
                </a:lnTo>
                <a:lnTo>
                  <a:pt x="1021" y="790"/>
                </a:lnTo>
                <a:lnTo>
                  <a:pt x="989" y="803"/>
                </a:lnTo>
                <a:lnTo>
                  <a:pt x="958" y="816"/>
                </a:lnTo>
                <a:lnTo>
                  <a:pt x="924" y="827"/>
                </a:lnTo>
                <a:lnTo>
                  <a:pt x="890" y="838"/>
                </a:lnTo>
                <a:lnTo>
                  <a:pt x="855" y="848"/>
                </a:lnTo>
                <a:lnTo>
                  <a:pt x="819" y="858"/>
                </a:lnTo>
                <a:lnTo>
                  <a:pt x="782" y="866"/>
                </a:lnTo>
                <a:lnTo>
                  <a:pt x="744" y="874"/>
                </a:lnTo>
                <a:lnTo>
                  <a:pt x="706" y="882"/>
                </a:lnTo>
                <a:lnTo>
                  <a:pt x="668" y="888"/>
                </a:lnTo>
                <a:lnTo>
                  <a:pt x="628" y="893"/>
                </a:lnTo>
                <a:lnTo>
                  <a:pt x="589" y="898"/>
                </a:lnTo>
                <a:lnTo>
                  <a:pt x="548" y="902"/>
                </a:lnTo>
                <a:lnTo>
                  <a:pt x="508" y="905"/>
                </a:lnTo>
                <a:lnTo>
                  <a:pt x="467" y="907"/>
                </a:lnTo>
                <a:lnTo>
                  <a:pt x="426" y="908"/>
                </a:lnTo>
                <a:lnTo>
                  <a:pt x="384" y="908"/>
                </a:lnTo>
                <a:lnTo>
                  <a:pt x="342" y="908"/>
                </a:lnTo>
                <a:lnTo>
                  <a:pt x="301" y="907"/>
                </a:lnTo>
                <a:lnTo>
                  <a:pt x="260" y="904"/>
                </a:lnTo>
                <a:lnTo>
                  <a:pt x="218" y="901"/>
                </a:lnTo>
                <a:lnTo>
                  <a:pt x="176" y="897"/>
                </a:lnTo>
                <a:lnTo>
                  <a:pt x="134" y="892"/>
                </a:lnTo>
                <a:lnTo>
                  <a:pt x="93" y="886"/>
                </a:lnTo>
                <a:lnTo>
                  <a:pt x="53" y="879"/>
                </a:lnTo>
                <a:lnTo>
                  <a:pt x="12" y="871"/>
                </a:lnTo>
                <a:lnTo>
                  <a:pt x="967" y="98"/>
                </a:lnTo>
              </a:path>
            </a:pathLst>
          </a:cu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670120" y="3543480"/>
            <a:ext cx="1906560" cy="1368360"/>
          </a:xfrm>
          <a:custGeom>
            <a:avLst/>
            <a:gdLst/>
            <a:ahLst/>
            <a:rect l="l" t="t" r="r" b="b"/>
            <a:pathLst>
              <a:path w="1201" h="862">
                <a:moveTo>
                  <a:pt x="1033" y="129"/>
                </a:moveTo>
                <a:lnTo>
                  <a:pt x="1040" y="137"/>
                </a:lnTo>
                <a:lnTo>
                  <a:pt x="1047" y="146"/>
                </a:lnTo>
                <a:lnTo>
                  <a:pt x="1054" y="154"/>
                </a:lnTo>
                <a:lnTo>
                  <a:pt x="1060" y="163"/>
                </a:lnTo>
                <a:lnTo>
                  <a:pt x="1068" y="172"/>
                </a:lnTo>
                <a:lnTo>
                  <a:pt x="1074" y="181"/>
                </a:lnTo>
                <a:lnTo>
                  <a:pt x="1081" y="190"/>
                </a:lnTo>
                <a:lnTo>
                  <a:pt x="1087" y="199"/>
                </a:lnTo>
                <a:lnTo>
                  <a:pt x="1069" y="187"/>
                </a:lnTo>
                <a:lnTo>
                  <a:pt x="1050" y="175"/>
                </a:lnTo>
                <a:lnTo>
                  <a:pt x="1031" y="164"/>
                </a:lnTo>
                <a:lnTo>
                  <a:pt x="1011" y="153"/>
                </a:lnTo>
                <a:lnTo>
                  <a:pt x="990" y="143"/>
                </a:lnTo>
                <a:lnTo>
                  <a:pt x="968" y="132"/>
                </a:lnTo>
                <a:lnTo>
                  <a:pt x="945" y="123"/>
                </a:lnTo>
                <a:lnTo>
                  <a:pt x="922" y="114"/>
                </a:lnTo>
                <a:lnTo>
                  <a:pt x="899" y="104"/>
                </a:lnTo>
                <a:lnTo>
                  <a:pt x="875" y="96"/>
                </a:lnTo>
                <a:lnTo>
                  <a:pt x="849" y="88"/>
                </a:lnTo>
                <a:lnTo>
                  <a:pt x="824" y="81"/>
                </a:lnTo>
                <a:lnTo>
                  <a:pt x="799" y="74"/>
                </a:lnTo>
                <a:lnTo>
                  <a:pt x="772" y="67"/>
                </a:lnTo>
                <a:lnTo>
                  <a:pt x="745" y="61"/>
                </a:lnTo>
                <a:lnTo>
                  <a:pt x="717" y="55"/>
                </a:lnTo>
                <a:lnTo>
                  <a:pt x="690" y="50"/>
                </a:lnTo>
                <a:lnTo>
                  <a:pt x="661" y="45"/>
                </a:lnTo>
                <a:lnTo>
                  <a:pt x="633" y="41"/>
                </a:lnTo>
                <a:lnTo>
                  <a:pt x="604" y="37"/>
                </a:lnTo>
                <a:lnTo>
                  <a:pt x="575" y="34"/>
                </a:lnTo>
                <a:lnTo>
                  <a:pt x="545" y="31"/>
                </a:lnTo>
                <a:lnTo>
                  <a:pt x="516" y="29"/>
                </a:lnTo>
                <a:lnTo>
                  <a:pt x="485" y="27"/>
                </a:lnTo>
                <a:lnTo>
                  <a:pt x="454" y="26"/>
                </a:lnTo>
                <a:lnTo>
                  <a:pt x="425" y="25"/>
                </a:lnTo>
                <a:lnTo>
                  <a:pt x="394" y="25"/>
                </a:lnTo>
                <a:lnTo>
                  <a:pt x="363" y="25"/>
                </a:lnTo>
                <a:lnTo>
                  <a:pt x="332" y="26"/>
                </a:lnTo>
                <a:lnTo>
                  <a:pt x="301" y="27"/>
                </a:lnTo>
                <a:lnTo>
                  <a:pt x="270" y="29"/>
                </a:lnTo>
                <a:lnTo>
                  <a:pt x="239" y="32"/>
                </a:lnTo>
                <a:lnTo>
                  <a:pt x="244" y="28"/>
                </a:lnTo>
                <a:lnTo>
                  <a:pt x="250" y="25"/>
                </a:lnTo>
                <a:lnTo>
                  <a:pt x="255" y="21"/>
                </a:lnTo>
                <a:lnTo>
                  <a:pt x="260" y="17"/>
                </a:lnTo>
                <a:lnTo>
                  <a:pt x="265" y="14"/>
                </a:lnTo>
                <a:lnTo>
                  <a:pt x="271" y="11"/>
                </a:lnTo>
                <a:lnTo>
                  <a:pt x="276" y="7"/>
                </a:lnTo>
                <a:lnTo>
                  <a:pt x="281" y="4"/>
                </a:lnTo>
                <a:lnTo>
                  <a:pt x="308" y="3"/>
                </a:lnTo>
                <a:lnTo>
                  <a:pt x="334" y="2"/>
                </a:lnTo>
                <a:lnTo>
                  <a:pt x="360" y="1"/>
                </a:lnTo>
                <a:lnTo>
                  <a:pt x="386" y="0"/>
                </a:lnTo>
                <a:lnTo>
                  <a:pt x="412" y="0"/>
                </a:lnTo>
                <a:lnTo>
                  <a:pt x="439" y="1"/>
                </a:lnTo>
                <a:lnTo>
                  <a:pt x="464" y="2"/>
                </a:lnTo>
                <a:lnTo>
                  <a:pt x="489" y="3"/>
                </a:lnTo>
                <a:lnTo>
                  <a:pt x="516" y="5"/>
                </a:lnTo>
                <a:lnTo>
                  <a:pt x="541" y="6"/>
                </a:lnTo>
                <a:lnTo>
                  <a:pt x="566" y="9"/>
                </a:lnTo>
                <a:lnTo>
                  <a:pt x="591" y="11"/>
                </a:lnTo>
                <a:lnTo>
                  <a:pt x="616" y="14"/>
                </a:lnTo>
                <a:lnTo>
                  <a:pt x="640" y="17"/>
                </a:lnTo>
                <a:lnTo>
                  <a:pt x="665" y="20"/>
                </a:lnTo>
                <a:lnTo>
                  <a:pt x="689" y="24"/>
                </a:lnTo>
                <a:lnTo>
                  <a:pt x="713" y="29"/>
                </a:lnTo>
                <a:lnTo>
                  <a:pt x="736" y="33"/>
                </a:lnTo>
                <a:lnTo>
                  <a:pt x="761" y="38"/>
                </a:lnTo>
                <a:lnTo>
                  <a:pt x="784" y="43"/>
                </a:lnTo>
                <a:lnTo>
                  <a:pt x="806" y="49"/>
                </a:lnTo>
                <a:lnTo>
                  <a:pt x="828" y="54"/>
                </a:lnTo>
                <a:lnTo>
                  <a:pt x="850" y="60"/>
                </a:lnTo>
                <a:lnTo>
                  <a:pt x="873" y="66"/>
                </a:lnTo>
                <a:lnTo>
                  <a:pt x="894" y="73"/>
                </a:lnTo>
                <a:lnTo>
                  <a:pt x="915" y="80"/>
                </a:lnTo>
                <a:lnTo>
                  <a:pt x="936" y="88"/>
                </a:lnTo>
                <a:lnTo>
                  <a:pt x="956" y="95"/>
                </a:lnTo>
                <a:lnTo>
                  <a:pt x="976" y="103"/>
                </a:lnTo>
                <a:lnTo>
                  <a:pt x="995" y="111"/>
                </a:lnTo>
                <a:lnTo>
                  <a:pt x="1014" y="120"/>
                </a:lnTo>
                <a:lnTo>
                  <a:pt x="1033" y="129"/>
                </a:lnTo>
                <a:lnTo>
                  <a:pt x="11" y="818"/>
                </a:lnTo>
                <a:lnTo>
                  <a:pt x="10" y="814"/>
                </a:lnTo>
                <a:lnTo>
                  <a:pt x="8" y="811"/>
                </a:lnTo>
                <a:lnTo>
                  <a:pt x="7" y="807"/>
                </a:lnTo>
                <a:lnTo>
                  <a:pt x="6" y="803"/>
                </a:lnTo>
                <a:lnTo>
                  <a:pt x="4" y="799"/>
                </a:lnTo>
                <a:lnTo>
                  <a:pt x="3" y="796"/>
                </a:lnTo>
                <a:lnTo>
                  <a:pt x="2" y="792"/>
                </a:lnTo>
                <a:lnTo>
                  <a:pt x="0" y="788"/>
                </a:lnTo>
                <a:lnTo>
                  <a:pt x="22" y="793"/>
                </a:lnTo>
                <a:lnTo>
                  <a:pt x="44" y="798"/>
                </a:lnTo>
                <a:lnTo>
                  <a:pt x="65" y="803"/>
                </a:lnTo>
                <a:lnTo>
                  <a:pt x="87" y="808"/>
                </a:lnTo>
                <a:lnTo>
                  <a:pt x="109" y="812"/>
                </a:lnTo>
                <a:lnTo>
                  <a:pt x="131" y="815"/>
                </a:lnTo>
                <a:lnTo>
                  <a:pt x="154" y="819"/>
                </a:lnTo>
                <a:lnTo>
                  <a:pt x="176" y="822"/>
                </a:lnTo>
                <a:lnTo>
                  <a:pt x="198" y="825"/>
                </a:lnTo>
                <a:lnTo>
                  <a:pt x="221" y="827"/>
                </a:lnTo>
                <a:lnTo>
                  <a:pt x="243" y="830"/>
                </a:lnTo>
                <a:lnTo>
                  <a:pt x="267" y="832"/>
                </a:lnTo>
                <a:lnTo>
                  <a:pt x="289" y="833"/>
                </a:lnTo>
                <a:lnTo>
                  <a:pt x="312" y="835"/>
                </a:lnTo>
                <a:lnTo>
                  <a:pt x="335" y="836"/>
                </a:lnTo>
                <a:lnTo>
                  <a:pt x="358" y="836"/>
                </a:lnTo>
                <a:lnTo>
                  <a:pt x="382" y="837"/>
                </a:lnTo>
                <a:lnTo>
                  <a:pt x="404" y="837"/>
                </a:lnTo>
                <a:lnTo>
                  <a:pt x="427" y="836"/>
                </a:lnTo>
                <a:lnTo>
                  <a:pt x="450" y="836"/>
                </a:lnTo>
                <a:lnTo>
                  <a:pt x="473" y="835"/>
                </a:lnTo>
                <a:lnTo>
                  <a:pt x="496" y="834"/>
                </a:lnTo>
                <a:lnTo>
                  <a:pt x="519" y="833"/>
                </a:lnTo>
                <a:lnTo>
                  <a:pt x="542" y="831"/>
                </a:lnTo>
                <a:lnTo>
                  <a:pt x="564" y="828"/>
                </a:lnTo>
                <a:lnTo>
                  <a:pt x="587" y="826"/>
                </a:lnTo>
                <a:lnTo>
                  <a:pt x="610" y="823"/>
                </a:lnTo>
                <a:lnTo>
                  <a:pt x="632" y="820"/>
                </a:lnTo>
                <a:lnTo>
                  <a:pt x="654" y="817"/>
                </a:lnTo>
                <a:lnTo>
                  <a:pt x="676" y="814"/>
                </a:lnTo>
                <a:lnTo>
                  <a:pt x="698" y="810"/>
                </a:lnTo>
                <a:lnTo>
                  <a:pt x="721" y="805"/>
                </a:lnTo>
                <a:lnTo>
                  <a:pt x="763" y="796"/>
                </a:lnTo>
                <a:lnTo>
                  <a:pt x="805" y="786"/>
                </a:lnTo>
                <a:lnTo>
                  <a:pt x="844" y="774"/>
                </a:lnTo>
                <a:lnTo>
                  <a:pt x="883" y="762"/>
                </a:lnTo>
                <a:lnTo>
                  <a:pt x="920" y="749"/>
                </a:lnTo>
                <a:lnTo>
                  <a:pt x="955" y="734"/>
                </a:lnTo>
                <a:lnTo>
                  <a:pt x="989" y="720"/>
                </a:lnTo>
                <a:lnTo>
                  <a:pt x="1020" y="704"/>
                </a:lnTo>
                <a:lnTo>
                  <a:pt x="1050" y="687"/>
                </a:lnTo>
                <a:lnTo>
                  <a:pt x="1077" y="669"/>
                </a:lnTo>
                <a:lnTo>
                  <a:pt x="1104" y="651"/>
                </a:lnTo>
                <a:lnTo>
                  <a:pt x="1127" y="633"/>
                </a:lnTo>
                <a:lnTo>
                  <a:pt x="1149" y="613"/>
                </a:lnTo>
                <a:lnTo>
                  <a:pt x="1168" y="593"/>
                </a:lnTo>
                <a:lnTo>
                  <a:pt x="1185" y="572"/>
                </a:lnTo>
                <a:lnTo>
                  <a:pt x="1200" y="551"/>
                </a:lnTo>
                <a:lnTo>
                  <a:pt x="1200" y="554"/>
                </a:lnTo>
                <a:lnTo>
                  <a:pt x="1200" y="557"/>
                </a:lnTo>
                <a:lnTo>
                  <a:pt x="1200" y="560"/>
                </a:lnTo>
                <a:lnTo>
                  <a:pt x="1200" y="563"/>
                </a:lnTo>
                <a:lnTo>
                  <a:pt x="1200" y="566"/>
                </a:lnTo>
                <a:lnTo>
                  <a:pt x="1200" y="569"/>
                </a:lnTo>
                <a:lnTo>
                  <a:pt x="1200" y="571"/>
                </a:lnTo>
                <a:lnTo>
                  <a:pt x="1200" y="574"/>
                </a:lnTo>
                <a:lnTo>
                  <a:pt x="1200" y="580"/>
                </a:lnTo>
                <a:lnTo>
                  <a:pt x="1200" y="586"/>
                </a:lnTo>
                <a:lnTo>
                  <a:pt x="1200" y="591"/>
                </a:lnTo>
                <a:lnTo>
                  <a:pt x="1200" y="596"/>
                </a:lnTo>
                <a:lnTo>
                  <a:pt x="1200" y="601"/>
                </a:lnTo>
                <a:lnTo>
                  <a:pt x="1200" y="607"/>
                </a:lnTo>
                <a:lnTo>
                  <a:pt x="1199" y="612"/>
                </a:lnTo>
                <a:lnTo>
                  <a:pt x="1199" y="618"/>
                </a:lnTo>
                <a:lnTo>
                  <a:pt x="1179" y="636"/>
                </a:lnTo>
                <a:lnTo>
                  <a:pt x="1158" y="655"/>
                </a:lnTo>
                <a:lnTo>
                  <a:pt x="1134" y="672"/>
                </a:lnTo>
                <a:lnTo>
                  <a:pt x="1109" y="689"/>
                </a:lnTo>
                <a:lnTo>
                  <a:pt x="1083" y="705"/>
                </a:lnTo>
                <a:lnTo>
                  <a:pt x="1054" y="721"/>
                </a:lnTo>
                <a:lnTo>
                  <a:pt x="1024" y="736"/>
                </a:lnTo>
                <a:lnTo>
                  <a:pt x="993" y="750"/>
                </a:lnTo>
                <a:lnTo>
                  <a:pt x="960" y="764"/>
                </a:lnTo>
                <a:lnTo>
                  <a:pt x="925" y="777"/>
                </a:lnTo>
                <a:lnTo>
                  <a:pt x="890" y="789"/>
                </a:lnTo>
                <a:lnTo>
                  <a:pt x="854" y="800"/>
                </a:lnTo>
                <a:lnTo>
                  <a:pt x="816" y="811"/>
                </a:lnTo>
                <a:lnTo>
                  <a:pt x="776" y="820"/>
                </a:lnTo>
                <a:lnTo>
                  <a:pt x="736" y="828"/>
                </a:lnTo>
                <a:lnTo>
                  <a:pt x="695" y="836"/>
                </a:lnTo>
                <a:lnTo>
                  <a:pt x="653" y="843"/>
                </a:lnTo>
                <a:lnTo>
                  <a:pt x="611" y="848"/>
                </a:lnTo>
                <a:lnTo>
                  <a:pt x="568" y="853"/>
                </a:lnTo>
                <a:lnTo>
                  <a:pt x="525" y="856"/>
                </a:lnTo>
                <a:lnTo>
                  <a:pt x="482" y="859"/>
                </a:lnTo>
                <a:lnTo>
                  <a:pt x="439" y="860"/>
                </a:lnTo>
                <a:lnTo>
                  <a:pt x="395" y="861"/>
                </a:lnTo>
                <a:lnTo>
                  <a:pt x="352" y="860"/>
                </a:lnTo>
                <a:lnTo>
                  <a:pt x="308" y="858"/>
                </a:lnTo>
                <a:lnTo>
                  <a:pt x="264" y="856"/>
                </a:lnTo>
                <a:lnTo>
                  <a:pt x="221" y="852"/>
                </a:lnTo>
                <a:lnTo>
                  <a:pt x="179" y="847"/>
                </a:lnTo>
                <a:lnTo>
                  <a:pt x="136" y="841"/>
                </a:lnTo>
                <a:lnTo>
                  <a:pt x="93" y="835"/>
                </a:lnTo>
                <a:lnTo>
                  <a:pt x="52" y="826"/>
                </a:lnTo>
                <a:lnTo>
                  <a:pt x="11" y="818"/>
                </a:lnTo>
                <a:lnTo>
                  <a:pt x="1033" y="129"/>
                </a:lnTo>
              </a:path>
            </a:pathLst>
          </a:cu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657520" y="3583080"/>
            <a:ext cx="1919160" cy="1290600"/>
          </a:xfrm>
          <a:custGeom>
            <a:avLst/>
            <a:gdLst/>
            <a:ahLst/>
            <a:rect l="l" t="t" r="r" b="b"/>
            <a:pathLst>
              <a:path w="1209" h="813">
                <a:moveTo>
                  <a:pt x="1095" y="174"/>
                </a:moveTo>
                <a:lnTo>
                  <a:pt x="1099" y="180"/>
                </a:lnTo>
                <a:lnTo>
                  <a:pt x="1102" y="186"/>
                </a:lnTo>
                <a:lnTo>
                  <a:pt x="1106" y="192"/>
                </a:lnTo>
                <a:lnTo>
                  <a:pt x="1111" y="198"/>
                </a:lnTo>
                <a:lnTo>
                  <a:pt x="1114" y="205"/>
                </a:lnTo>
                <a:lnTo>
                  <a:pt x="1118" y="211"/>
                </a:lnTo>
                <a:lnTo>
                  <a:pt x="1121" y="217"/>
                </a:lnTo>
                <a:lnTo>
                  <a:pt x="1124" y="224"/>
                </a:lnTo>
                <a:lnTo>
                  <a:pt x="1129" y="230"/>
                </a:lnTo>
                <a:lnTo>
                  <a:pt x="1132" y="237"/>
                </a:lnTo>
                <a:lnTo>
                  <a:pt x="1135" y="243"/>
                </a:lnTo>
                <a:lnTo>
                  <a:pt x="1138" y="250"/>
                </a:lnTo>
                <a:lnTo>
                  <a:pt x="1141" y="256"/>
                </a:lnTo>
                <a:lnTo>
                  <a:pt x="1144" y="263"/>
                </a:lnTo>
                <a:lnTo>
                  <a:pt x="1148" y="270"/>
                </a:lnTo>
                <a:lnTo>
                  <a:pt x="1151" y="277"/>
                </a:lnTo>
                <a:lnTo>
                  <a:pt x="1137" y="260"/>
                </a:lnTo>
                <a:lnTo>
                  <a:pt x="1122" y="243"/>
                </a:lnTo>
                <a:lnTo>
                  <a:pt x="1106" y="227"/>
                </a:lnTo>
                <a:lnTo>
                  <a:pt x="1089" y="212"/>
                </a:lnTo>
                <a:lnTo>
                  <a:pt x="1070" y="196"/>
                </a:lnTo>
                <a:lnTo>
                  <a:pt x="1049" y="182"/>
                </a:lnTo>
                <a:lnTo>
                  <a:pt x="1027" y="168"/>
                </a:lnTo>
                <a:lnTo>
                  <a:pt x="1004" y="154"/>
                </a:lnTo>
                <a:lnTo>
                  <a:pt x="980" y="142"/>
                </a:lnTo>
                <a:lnTo>
                  <a:pt x="954" y="129"/>
                </a:lnTo>
                <a:lnTo>
                  <a:pt x="928" y="118"/>
                </a:lnTo>
                <a:lnTo>
                  <a:pt x="901" y="107"/>
                </a:lnTo>
                <a:lnTo>
                  <a:pt x="873" y="96"/>
                </a:lnTo>
                <a:lnTo>
                  <a:pt x="844" y="86"/>
                </a:lnTo>
                <a:lnTo>
                  <a:pt x="813" y="77"/>
                </a:lnTo>
                <a:lnTo>
                  <a:pt x="782" y="69"/>
                </a:lnTo>
                <a:lnTo>
                  <a:pt x="750" y="61"/>
                </a:lnTo>
                <a:lnTo>
                  <a:pt x="718" y="54"/>
                </a:lnTo>
                <a:lnTo>
                  <a:pt x="684" y="48"/>
                </a:lnTo>
                <a:lnTo>
                  <a:pt x="650" y="42"/>
                </a:lnTo>
                <a:lnTo>
                  <a:pt x="616" y="37"/>
                </a:lnTo>
                <a:lnTo>
                  <a:pt x="581" y="33"/>
                </a:lnTo>
                <a:lnTo>
                  <a:pt x="545" y="29"/>
                </a:lnTo>
                <a:lnTo>
                  <a:pt x="509" y="27"/>
                </a:lnTo>
                <a:lnTo>
                  <a:pt x="473" y="25"/>
                </a:lnTo>
                <a:lnTo>
                  <a:pt x="436" y="24"/>
                </a:lnTo>
                <a:lnTo>
                  <a:pt x="399" y="23"/>
                </a:lnTo>
                <a:lnTo>
                  <a:pt x="361" y="24"/>
                </a:lnTo>
                <a:lnTo>
                  <a:pt x="324" y="25"/>
                </a:lnTo>
                <a:lnTo>
                  <a:pt x="286" y="28"/>
                </a:lnTo>
                <a:lnTo>
                  <a:pt x="249" y="31"/>
                </a:lnTo>
                <a:lnTo>
                  <a:pt x="211" y="35"/>
                </a:lnTo>
                <a:lnTo>
                  <a:pt x="215" y="31"/>
                </a:lnTo>
                <a:lnTo>
                  <a:pt x="220" y="28"/>
                </a:lnTo>
                <a:lnTo>
                  <a:pt x="224" y="24"/>
                </a:lnTo>
                <a:lnTo>
                  <a:pt x="229" y="21"/>
                </a:lnTo>
                <a:lnTo>
                  <a:pt x="233" y="17"/>
                </a:lnTo>
                <a:lnTo>
                  <a:pt x="238" y="14"/>
                </a:lnTo>
                <a:lnTo>
                  <a:pt x="243" y="10"/>
                </a:lnTo>
                <a:lnTo>
                  <a:pt x="247" y="7"/>
                </a:lnTo>
                <a:lnTo>
                  <a:pt x="278" y="4"/>
                </a:lnTo>
                <a:lnTo>
                  <a:pt x="309" y="2"/>
                </a:lnTo>
                <a:lnTo>
                  <a:pt x="340" y="1"/>
                </a:lnTo>
                <a:lnTo>
                  <a:pt x="371" y="0"/>
                </a:lnTo>
                <a:lnTo>
                  <a:pt x="402" y="0"/>
                </a:lnTo>
                <a:lnTo>
                  <a:pt x="433" y="0"/>
                </a:lnTo>
                <a:lnTo>
                  <a:pt x="462" y="1"/>
                </a:lnTo>
                <a:lnTo>
                  <a:pt x="493" y="2"/>
                </a:lnTo>
                <a:lnTo>
                  <a:pt x="524" y="4"/>
                </a:lnTo>
                <a:lnTo>
                  <a:pt x="553" y="6"/>
                </a:lnTo>
                <a:lnTo>
                  <a:pt x="583" y="9"/>
                </a:lnTo>
                <a:lnTo>
                  <a:pt x="612" y="12"/>
                </a:lnTo>
                <a:lnTo>
                  <a:pt x="641" y="16"/>
                </a:lnTo>
                <a:lnTo>
                  <a:pt x="669" y="20"/>
                </a:lnTo>
                <a:lnTo>
                  <a:pt x="698" y="25"/>
                </a:lnTo>
                <a:lnTo>
                  <a:pt x="725" y="30"/>
                </a:lnTo>
                <a:lnTo>
                  <a:pt x="753" y="36"/>
                </a:lnTo>
                <a:lnTo>
                  <a:pt x="780" y="42"/>
                </a:lnTo>
                <a:lnTo>
                  <a:pt x="807" y="49"/>
                </a:lnTo>
                <a:lnTo>
                  <a:pt x="832" y="56"/>
                </a:lnTo>
                <a:lnTo>
                  <a:pt x="857" y="63"/>
                </a:lnTo>
                <a:lnTo>
                  <a:pt x="883" y="71"/>
                </a:lnTo>
                <a:lnTo>
                  <a:pt x="907" y="79"/>
                </a:lnTo>
                <a:lnTo>
                  <a:pt x="930" y="89"/>
                </a:lnTo>
                <a:lnTo>
                  <a:pt x="953" y="98"/>
                </a:lnTo>
                <a:lnTo>
                  <a:pt x="976" y="107"/>
                </a:lnTo>
                <a:lnTo>
                  <a:pt x="998" y="118"/>
                </a:lnTo>
                <a:lnTo>
                  <a:pt x="1019" y="128"/>
                </a:lnTo>
                <a:lnTo>
                  <a:pt x="1039" y="139"/>
                </a:lnTo>
                <a:lnTo>
                  <a:pt x="1058" y="150"/>
                </a:lnTo>
                <a:lnTo>
                  <a:pt x="1077" y="162"/>
                </a:lnTo>
                <a:lnTo>
                  <a:pt x="1095" y="174"/>
                </a:lnTo>
                <a:lnTo>
                  <a:pt x="8" y="763"/>
                </a:lnTo>
                <a:lnTo>
                  <a:pt x="7" y="759"/>
                </a:lnTo>
                <a:lnTo>
                  <a:pt x="6" y="756"/>
                </a:lnTo>
                <a:lnTo>
                  <a:pt x="5" y="752"/>
                </a:lnTo>
                <a:lnTo>
                  <a:pt x="4" y="748"/>
                </a:lnTo>
                <a:lnTo>
                  <a:pt x="3" y="745"/>
                </a:lnTo>
                <a:lnTo>
                  <a:pt x="2" y="741"/>
                </a:lnTo>
                <a:lnTo>
                  <a:pt x="1" y="738"/>
                </a:lnTo>
                <a:lnTo>
                  <a:pt x="0" y="734"/>
                </a:lnTo>
                <a:lnTo>
                  <a:pt x="23" y="740"/>
                </a:lnTo>
                <a:lnTo>
                  <a:pt x="46" y="746"/>
                </a:lnTo>
                <a:lnTo>
                  <a:pt x="70" y="752"/>
                </a:lnTo>
                <a:lnTo>
                  <a:pt x="93" y="757"/>
                </a:lnTo>
                <a:lnTo>
                  <a:pt x="117" y="762"/>
                </a:lnTo>
                <a:lnTo>
                  <a:pt x="141" y="766"/>
                </a:lnTo>
                <a:lnTo>
                  <a:pt x="166" y="770"/>
                </a:lnTo>
                <a:lnTo>
                  <a:pt x="191" y="773"/>
                </a:lnTo>
                <a:lnTo>
                  <a:pt x="215" y="777"/>
                </a:lnTo>
                <a:lnTo>
                  <a:pt x="241" y="779"/>
                </a:lnTo>
                <a:lnTo>
                  <a:pt x="265" y="782"/>
                </a:lnTo>
                <a:lnTo>
                  <a:pt x="290" y="784"/>
                </a:lnTo>
                <a:lnTo>
                  <a:pt x="316" y="786"/>
                </a:lnTo>
                <a:lnTo>
                  <a:pt x="341" y="787"/>
                </a:lnTo>
                <a:lnTo>
                  <a:pt x="366" y="788"/>
                </a:lnTo>
                <a:lnTo>
                  <a:pt x="392" y="788"/>
                </a:lnTo>
                <a:lnTo>
                  <a:pt x="417" y="788"/>
                </a:lnTo>
                <a:lnTo>
                  <a:pt x="442" y="788"/>
                </a:lnTo>
                <a:lnTo>
                  <a:pt x="468" y="787"/>
                </a:lnTo>
                <a:lnTo>
                  <a:pt x="493" y="786"/>
                </a:lnTo>
                <a:lnTo>
                  <a:pt x="517" y="784"/>
                </a:lnTo>
                <a:lnTo>
                  <a:pt x="543" y="783"/>
                </a:lnTo>
                <a:lnTo>
                  <a:pt x="568" y="780"/>
                </a:lnTo>
                <a:lnTo>
                  <a:pt x="592" y="777"/>
                </a:lnTo>
                <a:lnTo>
                  <a:pt x="618" y="774"/>
                </a:lnTo>
                <a:lnTo>
                  <a:pt x="642" y="771"/>
                </a:lnTo>
                <a:lnTo>
                  <a:pt x="666" y="767"/>
                </a:lnTo>
                <a:lnTo>
                  <a:pt x="691" y="763"/>
                </a:lnTo>
                <a:lnTo>
                  <a:pt x="715" y="758"/>
                </a:lnTo>
                <a:lnTo>
                  <a:pt x="738" y="753"/>
                </a:lnTo>
                <a:lnTo>
                  <a:pt x="761" y="747"/>
                </a:lnTo>
                <a:lnTo>
                  <a:pt x="784" y="742"/>
                </a:lnTo>
                <a:lnTo>
                  <a:pt x="830" y="729"/>
                </a:lnTo>
                <a:lnTo>
                  <a:pt x="872" y="714"/>
                </a:lnTo>
                <a:lnTo>
                  <a:pt x="912" y="699"/>
                </a:lnTo>
                <a:lnTo>
                  <a:pt x="950" y="683"/>
                </a:lnTo>
                <a:lnTo>
                  <a:pt x="986" y="665"/>
                </a:lnTo>
                <a:lnTo>
                  <a:pt x="1020" y="647"/>
                </a:lnTo>
                <a:lnTo>
                  <a:pt x="1051" y="627"/>
                </a:lnTo>
                <a:lnTo>
                  <a:pt x="1078" y="607"/>
                </a:lnTo>
                <a:lnTo>
                  <a:pt x="1103" y="586"/>
                </a:lnTo>
                <a:lnTo>
                  <a:pt x="1125" y="564"/>
                </a:lnTo>
                <a:lnTo>
                  <a:pt x="1146" y="541"/>
                </a:lnTo>
                <a:lnTo>
                  <a:pt x="1161" y="518"/>
                </a:lnTo>
                <a:lnTo>
                  <a:pt x="1175" y="494"/>
                </a:lnTo>
                <a:lnTo>
                  <a:pt x="1185" y="470"/>
                </a:lnTo>
                <a:lnTo>
                  <a:pt x="1192" y="445"/>
                </a:lnTo>
                <a:lnTo>
                  <a:pt x="1195" y="420"/>
                </a:lnTo>
                <a:lnTo>
                  <a:pt x="1196" y="427"/>
                </a:lnTo>
                <a:lnTo>
                  <a:pt x="1197" y="433"/>
                </a:lnTo>
                <a:lnTo>
                  <a:pt x="1199" y="439"/>
                </a:lnTo>
                <a:lnTo>
                  <a:pt x="1200" y="446"/>
                </a:lnTo>
                <a:lnTo>
                  <a:pt x="1200" y="453"/>
                </a:lnTo>
                <a:lnTo>
                  <a:pt x="1202" y="459"/>
                </a:lnTo>
                <a:lnTo>
                  <a:pt x="1203" y="466"/>
                </a:lnTo>
                <a:lnTo>
                  <a:pt x="1204" y="473"/>
                </a:lnTo>
                <a:lnTo>
                  <a:pt x="1205" y="479"/>
                </a:lnTo>
                <a:lnTo>
                  <a:pt x="1205" y="486"/>
                </a:lnTo>
                <a:lnTo>
                  <a:pt x="1206" y="493"/>
                </a:lnTo>
                <a:lnTo>
                  <a:pt x="1206" y="499"/>
                </a:lnTo>
                <a:lnTo>
                  <a:pt x="1207" y="506"/>
                </a:lnTo>
                <a:lnTo>
                  <a:pt x="1207" y="512"/>
                </a:lnTo>
                <a:lnTo>
                  <a:pt x="1208" y="520"/>
                </a:lnTo>
                <a:lnTo>
                  <a:pt x="1208" y="526"/>
                </a:lnTo>
                <a:lnTo>
                  <a:pt x="1193" y="547"/>
                </a:lnTo>
                <a:lnTo>
                  <a:pt x="1176" y="568"/>
                </a:lnTo>
                <a:lnTo>
                  <a:pt x="1157" y="588"/>
                </a:lnTo>
                <a:lnTo>
                  <a:pt x="1135" y="608"/>
                </a:lnTo>
                <a:lnTo>
                  <a:pt x="1112" y="626"/>
                </a:lnTo>
                <a:lnTo>
                  <a:pt x="1085" y="644"/>
                </a:lnTo>
                <a:lnTo>
                  <a:pt x="1058" y="662"/>
                </a:lnTo>
                <a:lnTo>
                  <a:pt x="1028" y="679"/>
                </a:lnTo>
                <a:lnTo>
                  <a:pt x="997" y="695"/>
                </a:lnTo>
                <a:lnTo>
                  <a:pt x="963" y="709"/>
                </a:lnTo>
                <a:lnTo>
                  <a:pt x="928" y="724"/>
                </a:lnTo>
                <a:lnTo>
                  <a:pt x="891" y="737"/>
                </a:lnTo>
                <a:lnTo>
                  <a:pt x="852" y="749"/>
                </a:lnTo>
                <a:lnTo>
                  <a:pt x="813" y="761"/>
                </a:lnTo>
                <a:lnTo>
                  <a:pt x="771" y="771"/>
                </a:lnTo>
                <a:lnTo>
                  <a:pt x="729" y="780"/>
                </a:lnTo>
                <a:lnTo>
                  <a:pt x="706" y="785"/>
                </a:lnTo>
                <a:lnTo>
                  <a:pt x="684" y="789"/>
                </a:lnTo>
                <a:lnTo>
                  <a:pt x="662" y="792"/>
                </a:lnTo>
                <a:lnTo>
                  <a:pt x="640" y="795"/>
                </a:lnTo>
                <a:lnTo>
                  <a:pt x="618" y="798"/>
                </a:lnTo>
                <a:lnTo>
                  <a:pt x="595" y="801"/>
                </a:lnTo>
                <a:lnTo>
                  <a:pt x="572" y="803"/>
                </a:lnTo>
                <a:lnTo>
                  <a:pt x="550" y="806"/>
                </a:lnTo>
                <a:lnTo>
                  <a:pt x="527" y="808"/>
                </a:lnTo>
                <a:lnTo>
                  <a:pt x="504" y="809"/>
                </a:lnTo>
                <a:lnTo>
                  <a:pt x="481" y="810"/>
                </a:lnTo>
                <a:lnTo>
                  <a:pt x="458" y="811"/>
                </a:lnTo>
                <a:lnTo>
                  <a:pt x="435" y="811"/>
                </a:lnTo>
                <a:lnTo>
                  <a:pt x="412" y="812"/>
                </a:lnTo>
                <a:lnTo>
                  <a:pt x="390" y="812"/>
                </a:lnTo>
                <a:lnTo>
                  <a:pt x="366" y="811"/>
                </a:lnTo>
                <a:lnTo>
                  <a:pt x="343" y="811"/>
                </a:lnTo>
                <a:lnTo>
                  <a:pt x="320" y="810"/>
                </a:lnTo>
                <a:lnTo>
                  <a:pt x="297" y="808"/>
                </a:lnTo>
                <a:lnTo>
                  <a:pt x="275" y="807"/>
                </a:lnTo>
                <a:lnTo>
                  <a:pt x="251" y="805"/>
                </a:lnTo>
                <a:lnTo>
                  <a:pt x="229" y="802"/>
                </a:lnTo>
                <a:lnTo>
                  <a:pt x="206" y="800"/>
                </a:lnTo>
                <a:lnTo>
                  <a:pt x="184" y="797"/>
                </a:lnTo>
                <a:lnTo>
                  <a:pt x="162" y="794"/>
                </a:lnTo>
                <a:lnTo>
                  <a:pt x="139" y="790"/>
                </a:lnTo>
                <a:lnTo>
                  <a:pt x="117" y="787"/>
                </a:lnTo>
                <a:lnTo>
                  <a:pt x="95" y="783"/>
                </a:lnTo>
                <a:lnTo>
                  <a:pt x="73" y="778"/>
                </a:lnTo>
                <a:lnTo>
                  <a:pt x="52" y="773"/>
                </a:lnTo>
                <a:lnTo>
                  <a:pt x="30" y="768"/>
                </a:lnTo>
                <a:lnTo>
                  <a:pt x="8" y="763"/>
                </a:lnTo>
                <a:lnTo>
                  <a:pt x="1095" y="174"/>
                </a:lnTo>
              </a:path>
            </a:pathLst>
          </a:cu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644920" y="3619440"/>
            <a:ext cx="1911240" cy="1216080"/>
          </a:xfrm>
          <a:custGeom>
            <a:avLst/>
            <a:gdLst/>
            <a:ahLst/>
            <a:rect l="l" t="t" r="r" b="b"/>
            <a:pathLst>
              <a:path w="1204" h="766">
                <a:moveTo>
                  <a:pt x="1159" y="254"/>
                </a:moveTo>
                <a:lnTo>
                  <a:pt x="1163" y="262"/>
                </a:lnTo>
                <a:lnTo>
                  <a:pt x="1166" y="271"/>
                </a:lnTo>
                <a:lnTo>
                  <a:pt x="1169" y="279"/>
                </a:lnTo>
                <a:lnTo>
                  <a:pt x="1173" y="288"/>
                </a:lnTo>
                <a:lnTo>
                  <a:pt x="1176" y="297"/>
                </a:lnTo>
                <a:lnTo>
                  <a:pt x="1179" y="306"/>
                </a:lnTo>
                <a:lnTo>
                  <a:pt x="1182" y="315"/>
                </a:lnTo>
                <a:lnTo>
                  <a:pt x="1185" y="324"/>
                </a:lnTo>
                <a:lnTo>
                  <a:pt x="1187" y="332"/>
                </a:lnTo>
                <a:lnTo>
                  <a:pt x="1191" y="342"/>
                </a:lnTo>
                <a:lnTo>
                  <a:pt x="1193" y="351"/>
                </a:lnTo>
                <a:lnTo>
                  <a:pt x="1195" y="360"/>
                </a:lnTo>
                <a:lnTo>
                  <a:pt x="1197" y="369"/>
                </a:lnTo>
                <a:lnTo>
                  <a:pt x="1199" y="378"/>
                </a:lnTo>
                <a:lnTo>
                  <a:pt x="1201" y="388"/>
                </a:lnTo>
                <a:lnTo>
                  <a:pt x="1203" y="397"/>
                </a:lnTo>
                <a:lnTo>
                  <a:pt x="1200" y="422"/>
                </a:lnTo>
                <a:lnTo>
                  <a:pt x="1193" y="447"/>
                </a:lnTo>
                <a:lnTo>
                  <a:pt x="1183" y="471"/>
                </a:lnTo>
                <a:lnTo>
                  <a:pt x="1169" y="495"/>
                </a:lnTo>
                <a:lnTo>
                  <a:pt x="1154" y="518"/>
                </a:lnTo>
                <a:lnTo>
                  <a:pt x="1133" y="541"/>
                </a:lnTo>
                <a:lnTo>
                  <a:pt x="1111" y="563"/>
                </a:lnTo>
                <a:lnTo>
                  <a:pt x="1086" y="584"/>
                </a:lnTo>
                <a:lnTo>
                  <a:pt x="1059" y="604"/>
                </a:lnTo>
                <a:lnTo>
                  <a:pt x="1028" y="624"/>
                </a:lnTo>
                <a:lnTo>
                  <a:pt x="994" y="642"/>
                </a:lnTo>
                <a:lnTo>
                  <a:pt x="958" y="660"/>
                </a:lnTo>
                <a:lnTo>
                  <a:pt x="920" y="676"/>
                </a:lnTo>
                <a:lnTo>
                  <a:pt x="880" y="691"/>
                </a:lnTo>
                <a:lnTo>
                  <a:pt x="838" y="706"/>
                </a:lnTo>
                <a:lnTo>
                  <a:pt x="792" y="719"/>
                </a:lnTo>
                <a:lnTo>
                  <a:pt x="769" y="724"/>
                </a:lnTo>
                <a:lnTo>
                  <a:pt x="746" y="730"/>
                </a:lnTo>
                <a:lnTo>
                  <a:pt x="723" y="735"/>
                </a:lnTo>
                <a:lnTo>
                  <a:pt x="699" y="740"/>
                </a:lnTo>
                <a:lnTo>
                  <a:pt x="674" y="744"/>
                </a:lnTo>
                <a:lnTo>
                  <a:pt x="650" y="748"/>
                </a:lnTo>
                <a:lnTo>
                  <a:pt x="626" y="751"/>
                </a:lnTo>
                <a:lnTo>
                  <a:pt x="600" y="754"/>
                </a:lnTo>
                <a:lnTo>
                  <a:pt x="576" y="757"/>
                </a:lnTo>
                <a:lnTo>
                  <a:pt x="551" y="760"/>
                </a:lnTo>
                <a:lnTo>
                  <a:pt x="525" y="761"/>
                </a:lnTo>
                <a:lnTo>
                  <a:pt x="501" y="763"/>
                </a:lnTo>
                <a:lnTo>
                  <a:pt x="476" y="764"/>
                </a:lnTo>
                <a:lnTo>
                  <a:pt x="450" y="765"/>
                </a:lnTo>
                <a:lnTo>
                  <a:pt x="425" y="765"/>
                </a:lnTo>
                <a:lnTo>
                  <a:pt x="400" y="765"/>
                </a:lnTo>
                <a:lnTo>
                  <a:pt x="374" y="765"/>
                </a:lnTo>
                <a:lnTo>
                  <a:pt x="349" y="764"/>
                </a:lnTo>
                <a:lnTo>
                  <a:pt x="324" y="763"/>
                </a:lnTo>
                <a:lnTo>
                  <a:pt x="298" y="761"/>
                </a:lnTo>
                <a:lnTo>
                  <a:pt x="273" y="759"/>
                </a:lnTo>
                <a:lnTo>
                  <a:pt x="249" y="756"/>
                </a:lnTo>
                <a:lnTo>
                  <a:pt x="223" y="754"/>
                </a:lnTo>
                <a:lnTo>
                  <a:pt x="199" y="750"/>
                </a:lnTo>
                <a:lnTo>
                  <a:pt x="174" y="747"/>
                </a:lnTo>
                <a:lnTo>
                  <a:pt x="149" y="743"/>
                </a:lnTo>
                <a:lnTo>
                  <a:pt x="125" y="739"/>
                </a:lnTo>
                <a:lnTo>
                  <a:pt x="101" y="734"/>
                </a:lnTo>
                <a:lnTo>
                  <a:pt x="78" y="729"/>
                </a:lnTo>
                <a:lnTo>
                  <a:pt x="54" y="723"/>
                </a:lnTo>
                <a:lnTo>
                  <a:pt x="31" y="717"/>
                </a:lnTo>
                <a:lnTo>
                  <a:pt x="8" y="711"/>
                </a:lnTo>
                <a:lnTo>
                  <a:pt x="7" y="707"/>
                </a:lnTo>
                <a:lnTo>
                  <a:pt x="6" y="703"/>
                </a:lnTo>
                <a:lnTo>
                  <a:pt x="5" y="699"/>
                </a:lnTo>
                <a:lnTo>
                  <a:pt x="4" y="696"/>
                </a:lnTo>
                <a:lnTo>
                  <a:pt x="3" y="691"/>
                </a:lnTo>
                <a:lnTo>
                  <a:pt x="2" y="688"/>
                </a:lnTo>
                <a:lnTo>
                  <a:pt x="1" y="684"/>
                </a:lnTo>
                <a:lnTo>
                  <a:pt x="0" y="680"/>
                </a:lnTo>
                <a:lnTo>
                  <a:pt x="27" y="688"/>
                </a:lnTo>
                <a:lnTo>
                  <a:pt x="56" y="697"/>
                </a:lnTo>
                <a:lnTo>
                  <a:pt x="83" y="704"/>
                </a:lnTo>
                <a:lnTo>
                  <a:pt x="113" y="710"/>
                </a:lnTo>
                <a:lnTo>
                  <a:pt x="141" y="716"/>
                </a:lnTo>
                <a:lnTo>
                  <a:pt x="171" y="721"/>
                </a:lnTo>
                <a:lnTo>
                  <a:pt x="201" y="726"/>
                </a:lnTo>
                <a:lnTo>
                  <a:pt x="231" y="730"/>
                </a:lnTo>
                <a:lnTo>
                  <a:pt x="261" y="733"/>
                </a:lnTo>
                <a:lnTo>
                  <a:pt x="292" y="736"/>
                </a:lnTo>
                <a:lnTo>
                  <a:pt x="323" y="738"/>
                </a:lnTo>
                <a:lnTo>
                  <a:pt x="353" y="740"/>
                </a:lnTo>
                <a:lnTo>
                  <a:pt x="384" y="741"/>
                </a:lnTo>
                <a:lnTo>
                  <a:pt x="415" y="741"/>
                </a:lnTo>
                <a:lnTo>
                  <a:pt x="445" y="741"/>
                </a:lnTo>
                <a:lnTo>
                  <a:pt x="476" y="740"/>
                </a:lnTo>
                <a:lnTo>
                  <a:pt x="506" y="738"/>
                </a:lnTo>
                <a:lnTo>
                  <a:pt x="536" y="736"/>
                </a:lnTo>
                <a:lnTo>
                  <a:pt x="567" y="733"/>
                </a:lnTo>
                <a:lnTo>
                  <a:pt x="596" y="730"/>
                </a:lnTo>
                <a:lnTo>
                  <a:pt x="626" y="726"/>
                </a:lnTo>
                <a:lnTo>
                  <a:pt x="655" y="722"/>
                </a:lnTo>
                <a:lnTo>
                  <a:pt x="685" y="717"/>
                </a:lnTo>
                <a:lnTo>
                  <a:pt x="713" y="710"/>
                </a:lnTo>
                <a:lnTo>
                  <a:pt x="741" y="704"/>
                </a:lnTo>
                <a:lnTo>
                  <a:pt x="769" y="697"/>
                </a:lnTo>
                <a:lnTo>
                  <a:pt x="796" y="690"/>
                </a:lnTo>
                <a:lnTo>
                  <a:pt x="822" y="682"/>
                </a:lnTo>
                <a:lnTo>
                  <a:pt x="848" y="673"/>
                </a:lnTo>
                <a:lnTo>
                  <a:pt x="874" y="664"/>
                </a:lnTo>
                <a:lnTo>
                  <a:pt x="898" y="654"/>
                </a:lnTo>
                <a:lnTo>
                  <a:pt x="922" y="643"/>
                </a:lnTo>
                <a:lnTo>
                  <a:pt x="946" y="633"/>
                </a:lnTo>
                <a:lnTo>
                  <a:pt x="967" y="621"/>
                </a:lnTo>
                <a:lnTo>
                  <a:pt x="988" y="610"/>
                </a:lnTo>
                <a:lnTo>
                  <a:pt x="1007" y="597"/>
                </a:lnTo>
                <a:lnTo>
                  <a:pt x="1026" y="585"/>
                </a:lnTo>
                <a:lnTo>
                  <a:pt x="1043" y="572"/>
                </a:lnTo>
                <a:lnTo>
                  <a:pt x="1059" y="560"/>
                </a:lnTo>
                <a:lnTo>
                  <a:pt x="1073" y="546"/>
                </a:lnTo>
                <a:lnTo>
                  <a:pt x="1087" y="533"/>
                </a:lnTo>
                <a:lnTo>
                  <a:pt x="1099" y="519"/>
                </a:lnTo>
                <a:lnTo>
                  <a:pt x="1110" y="505"/>
                </a:lnTo>
                <a:lnTo>
                  <a:pt x="1120" y="491"/>
                </a:lnTo>
                <a:lnTo>
                  <a:pt x="1128" y="477"/>
                </a:lnTo>
                <a:lnTo>
                  <a:pt x="1136" y="462"/>
                </a:lnTo>
                <a:lnTo>
                  <a:pt x="1142" y="448"/>
                </a:lnTo>
                <a:lnTo>
                  <a:pt x="1147" y="433"/>
                </a:lnTo>
                <a:lnTo>
                  <a:pt x="1150" y="418"/>
                </a:lnTo>
                <a:lnTo>
                  <a:pt x="1154" y="404"/>
                </a:lnTo>
                <a:lnTo>
                  <a:pt x="1155" y="389"/>
                </a:lnTo>
                <a:lnTo>
                  <a:pt x="1155" y="374"/>
                </a:lnTo>
                <a:lnTo>
                  <a:pt x="1152" y="359"/>
                </a:lnTo>
                <a:lnTo>
                  <a:pt x="1150" y="344"/>
                </a:lnTo>
                <a:lnTo>
                  <a:pt x="1146" y="329"/>
                </a:lnTo>
                <a:lnTo>
                  <a:pt x="1141" y="315"/>
                </a:lnTo>
                <a:lnTo>
                  <a:pt x="1135" y="300"/>
                </a:lnTo>
                <a:lnTo>
                  <a:pt x="1127" y="285"/>
                </a:lnTo>
                <a:lnTo>
                  <a:pt x="1118" y="271"/>
                </a:lnTo>
                <a:lnTo>
                  <a:pt x="1107" y="257"/>
                </a:lnTo>
                <a:lnTo>
                  <a:pt x="1095" y="242"/>
                </a:lnTo>
                <a:lnTo>
                  <a:pt x="1083" y="229"/>
                </a:lnTo>
                <a:lnTo>
                  <a:pt x="1068" y="215"/>
                </a:lnTo>
                <a:lnTo>
                  <a:pt x="1052" y="201"/>
                </a:lnTo>
                <a:lnTo>
                  <a:pt x="1035" y="188"/>
                </a:lnTo>
                <a:lnTo>
                  <a:pt x="1017" y="175"/>
                </a:lnTo>
                <a:lnTo>
                  <a:pt x="998" y="163"/>
                </a:lnTo>
                <a:lnTo>
                  <a:pt x="978" y="151"/>
                </a:lnTo>
                <a:lnTo>
                  <a:pt x="958" y="139"/>
                </a:lnTo>
                <a:lnTo>
                  <a:pt x="936" y="128"/>
                </a:lnTo>
                <a:lnTo>
                  <a:pt x="914" y="118"/>
                </a:lnTo>
                <a:lnTo>
                  <a:pt x="891" y="108"/>
                </a:lnTo>
                <a:lnTo>
                  <a:pt x="866" y="99"/>
                </a:lnTo>
                <a:lnTo>
                  <a:pt x="842" y="90"/>
                </a:lnTo>
                <a:lnTo>
                  <a:pt x="816" y="81"/>
                </a:lnTo>
                <a:lnTo>
                  <a:pt x="790" y="74"/>
                </a:lnTo>
                <a:lnTo>
                  <a:pt x="763" y="67"/>
                </a:lnTo>
                <a:lnTo>
                  <a:pt x="735" y="60"/>
                </a:lnTo>
                <a:lnTo>
                  <a:pt x="708" y="54"/>
                </a:lnTo>
                <a:lnTo>
                  <a:pt x="680" y="48"/>
                </a:lnTo>
                <a:lnTo>
                  <a:pt x="651" y="43"/>
                </a:lnTo>
                <a:lnTo>
                  <a:pt x="621" y="38"/>
                </a:lnTo>
                <a:lnTo>
                  <a:pt x="592" y="35"/>
                </a:lnTo>
                <a:lnTo>
                  <a:pt x="561" y="31"/>
                </a:lnTo>
                <a:lnTo>
                  <a:pt x="531" y="29"/>
                </a:lnTo>
                <a:lnTo>
                  <a:pt x="500" y="27"/>
                </a:lnTo>
                <a:lnTo>
                  <a:pt x="469" y="25"/>
                </a:lnTo>
                <a:lnTo>
                  <a:pt x="439" y="24"/>
                </a:lnTo>
                <a:lnTo>
                  <a:pt x="407" y="24"/>
                </a:lnTo>
                <a:lnTo>
                  <a:pt x="375" y="25"/>
                </a:lnTo>
                <a:lnTo>
                  <a:pt x="344" y="26"/>
                </a:lnTo>
                <a:lnTo>
                  <a:pt x="312" y="27"/>
                </a:lnTo>
                <a:lnTo>
                  <a:pt x="281" y="30"/>
                </a:lnTo>
                <a:lnTo>
                  <a:pt x="250" y="33"/>
                </a:lnTo>
                <a:lnTo>
                  <a:pt x="218" y="36"/>
                </a:lnTo>
                <a:lnTo>
                  <a:pt x="186" y="41"/>
                </a:lnTo>
                <a:lnTo>
                  <a:pt x="191" y="37"/>
                </a:lnTo>
                <a:lnTo>
                  <a:pt x="195" y="33"/>
                </a:lnTo>
                <a:lnTo>
                  <a:pt x="198" y="30"/>
                </a:lnTo>
                <a:lnTo>
                  <a:pt x="202" y="26"/>
                </a:lnTo>
                <a:lnTo>
                  <a:pt x="207" y="23"/>
                </a:lnTo>
                <a:lnTo>
                  <a:pt x="211" y="19"/>
                </a:lnTo>
                <a:lnTo>
                  <a:pt x="215" y="15"/>
                </a:lnTo>
                <a:lnTo>
                  <a:pt x="219" y="12"/>
                </a:lnTo>
                <a:lnTo>
                  <a:pt x="257" y="8"/>
                </a:lnTo>
                <a:lnTo>
                  <a:pt x="294" y="5"/>
                </a:lnTo>
                <a:lnTo>
                  <a:pt x="332" y="2"/>
                </a:lnTo>
                <a:lnTo>
                  <a:pt x="369" y="1"/>
                </a:lnTo>
                <a:lnTo>
                  <a:pt x="407" y="0"/>
                </a:lnTo>
                <a:lnTo>
                  <a:pt x="444" y="1"/>
                </a:lnTo>
                <a:lnTo>
                  <a:pt x="481" y="2"/>
                </a:lnTo>
                <a:lnTo>
                  <a:pt x="517" y="4"/>
                </a:lnTo>
                <a:lnTo>
                  <a:pt x="553" y="6"/>
                </a:lnTo>
                <a:lnTo>
                  <a:pt x="589" y="10"/>
                </a:lnTo>
                <a:lnTo>
                  <a:pt x="624" y="14"/>
                </a:lnTo>
                <a:lnTo>
                  <a:pt x="658" y="19"/>
                </a:lnTo>
                <a:lnTo>
                  <a:pt x="692" y="25"/>
                </a:lnTo>
                <a:lnTo>
                  <a:pt x="726" y="31"/>
                </a:lnTo>
                <a:lnTo>
                  <a:pt x="758" y="38"/>
                </a:lnTo>
                <a:lnTo>
                  <a:pt x="790" y="46"/>
                </a:lnTo>
                <a:lnTo>
                  <a:pt x="821" y="54"/>
                </a:lnTo>
                <a:lnTo>
                  <a:pt x="852" y="63"/>
                </a:lnTo>
                <a:lnTo>
                  <a:pt x="881" y="73"/>
                </a:lnTo>
                <a:lnTo>
                  <a:pt x="909" y="84"/>
                </a:lnTo>
                <a:lnTo>
                  <a:pt x="936" y="95"/>
                </a:lnTo>
                <a:lnTo>
                  <a:pt x="962" y="106"/>
                </a:lnTo>
                <a:lnTo>
                  <a:pt x="988" y="119"/>
                </a:lnTo>
                <a:lnTo>
                  <a:pt x="1012" y="131"/>
                </a:lnTo>
                <a:lnTo>
                  <a:pt x="1035" y="145"/>
                </a:lnTo>
                <a:lnTo>
                  <a:pt x="1057" y="159"/>
                </a:lnTo>
                <a:lnTo>
                  <a:pt x="1078" y="173"/>
                </a:lnTo>
                <a:lnTo>
                  <a:pt x="1097" y="189"/>
                </a:lnTo>
                <a:lnTo>
                  <a:pt x="1114" y="204"/>
                </a:lnTo>
                <a:lnTo>
                  <a:pt x="1130" y="220"/>
                </a:lnTo>
                <a:lnTo>
                  <a:pt x="1145" y="237"/>
                </a:lnTo>
                <a:lnTo>
                  <a:pt x="1159" y="254"/>
                </a:lnTo>
              </a:path>
            </a:pathLst>
          </a:cu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633760" y="3657600"/>
            <a:ext cx="1846080" cy="1139760"/>
          </a:xfrm>
          <a:custGeom>
            <a:avLst/>
            <a:gdLst/>
            <a:ahLst/>
            <a:rect l="l" t="t" r="r" b="b"/>
            <a:pathLst>
              <a:path w="1163" h="718">
                <a:moveTo>
                  <a:pt x="193" y="17"/>
                </a:moveTo>
                <a:lnTo>
                  <a:pt x="189" y="21"/>
                </a:lnTo>
                <a:lnTo>
                  <a:pt x="186" y="25"/>
                </a:lnTo>
                <a:lnTo>
                  <a:pt x="182" y="28"/>
                </a:lnTo>
                <a:lnTo>
                  <a:pt x="179" y="32"/>
                </a:lnTo>
                <a:lnTo>
                  <a:pt x="174" y="36"/>
                </a:lnTo>
                <a:lnTo>
                  <a:pt x="171" y="40"/>
                </a:lnTo>
                <a:lnTo>
                  <a:pt x="167" y="44"/>
                </a:lnTo>
                <a:lnTo>
                  <a:pt x="164" y="48"/>
                </a:lnTo>
                <a:lnTo>
                  <a:pt x="193" y="43"/>
                </a:lnTo>
                <a:lnTo>
                  <a:pt x="223" y="38"/>
                </a:lnTo>
                <a:lnTo>
                  <a:pt x="254" y="34"/>
                </a:lnTo>
                <a:lnTo>
                  <a:pt x="283" y="31"/>
                </a:lnTo>
                <a:lnTo>
                  <a:pt x="314" y="28"/>
                </a:lnTo>
                <a:lnTo>
                  <a:pt x="343" y="26"/>
                </a:lnTo>
                <a:lnTo>
                  <a:pt x="374" y="25"/>
                </a:lnTo>
                <a:lnTo>
                  <a:pt x="404" y="24"/>
                </a:lnTo>
                <a:lnTo>
                  <a:pt x="434" y="24"/>
                </a:lnTo>
                <a:lnTo>
                  <a:pt x="464" y="25"/>
                </a:lnTo>
                <a:lnTo>
                  <a:pt x="493" y="26"/>
                </a:lnTo>
                <a:lnTo>
                  <a:pt x="523" y="28"/>
                </a:lnTo>
                <a:lnTo>
                  <a:pt x="552" y="30"/>
                </a:lnTo>
                <a:lnTo>
                  <a:pt x="581" y="33"/>
                </a:lnTo>
                <a:lnTo>
                  <a:pt x="609" y="37"/>
                </a:lnTo>
                <a:lnTo>
                  <a:pt x="638" y="41"/>
                </a:lnTo>
                <a:lnTo>
                  <a:pt x="665" y="46"/>
                </a:lnTo>
                <a:lnTo>
                  <a:pt x="693" y="51"/>
                </a:lnTo>
                <a:lnTo>
                  <a:pt x="720" y="57"/>
                </a:lnTo>
                <a:lnTo>
                  <a:pt x="747" y="64"/>
                </a:lnTo>
                <a:lnTo>
                  <a:pt x="772" y="71"/>
                </a:lnTo>
                <a:lnTo>
                  <a:pt x="797" y="78"/>
                </a:lnTo>
                <a:lnTo>
                  <a:pt x="822" y="86"/>
                </a:lnTo>
                <a:lnTo>
                  <a:pt x="846" y="95"/>
                </a:lnTo>
                <a:lnTo>
                  <a:pt x="869" y="104"/>
                </a:lnTo>
                <a:lnTo>
                  <a:pt x="891" y="114"/>
                </a:lnTo>
                <a:lnTo>
                  <a:pt x="913" y="124"/>
                </a:lnTo>
                <a:lnTo>
                  <a:pt x="934" y="135"/>
                </a:lnTo>
                <a:lnTo>
                  <a:pt x="954" y="146"/>
                </a:lnTo>
                <a:lnTo>
                  <a:pt x="973" y="157"/>
                </a:lnTo>
                <a:lnTo>
                  <a:pt x="991" y="169"/>
                </a:lnTo>
                <a:lnTo>
                  <a:pt x="1007" y="182"/>
                </a:lnTo>
                <a:lnTo>
                  <a:pt x="1023" y="195"/>
                </a:lnTo>
                <a:lnTo>
                  <a:pt x="1038" y="208"/>
                </a:lnTo>
                <a:lnTo>
                  <a:pt x="1051" y="222"/>
                </a:lnTo>
                <a:lnTo>
                  <a:pt x="1063" y="235"/>
                </a:lnTo>
                <a:lnTo>
                  <a:pt x="1074" y="249"/>
                </a:lnTo>
                <a:lnTo>
                  <a:pt x="1082" y="263"/>
                </a:lnTo>
                <a:lnTo>
                  <a:pt x="1091" y="277"/>
                </a:lnTo>
                <a:lnTo>
                  <a:pt x="1097" y="291"/>
                </a:lnTo>
                <a:lnTo>
                  <a:pt x="1102" y="305"/>
                </a:lnTo>
                <a:lnTo>
                  <a:pt x="1107" y="319"/>
                </a:lnTo>
                <a:lnTo>
                  <a:pt x="1110" y="334"/>
                </a:lnTo>
                <a:lnTo>
                  <a:pt x="1111" y="348"/>
                </a:lnTo>
                <a:lnTo>
                  <a:pt x="1112" y="362"/>
                </a:lnTo>
                <a:lnTo>
                  <a:pt x="1111" y="376"/>
                </a:lnTo>
                <a:lnTo>
                  <a:pt x="1109" y="391"/>
                </a:lnTo>
                <a:lnTo>
                  <a:pt x="1106" y="405"/>
                </a:lnTo>
                <a:lnTo>
                  <a:pt x="1100" y="419"/>
                </a:lnTo>
                <a:lnTo>
                  <a:pt x="1094" y="433"/>
                </a:lnTo>
                <a:lnTo>
                  <a:pt x="1088" y="447"/>
                </a:lnTo>
                <a:lnTo>
                  <a:pt x="1079" y="460"/>
                </a:lnTo>
                <a:lnTo>
                  <a:pt x="1070" y="474"/>
                </a:lnTo>
                <a:lnTo>
                  <a:pt x="1059" y="487"/>
                </a:lnTo>
                <a:lnTo>
                  <a:pt x="1047" y="500"/>
                </a:lnTo>
                <a:lnTo>
                  <a:pt x="1034" y="514"/>
                </a:lnTo>
                <a:lnTo>
                  <a:pt x="1019" y="526"/>
                </a:lnTo>
                <a:lnTo>
                  <a:pt x="1003" y="539"/>
                </a:lnTo>
                <a:lnTo>
                  <a:pt x="987" y="550"/>
                </a:lnTo>
                <a:lnTo>
                  <a:pt x="969" y="563"/>
                </a:lnTo>
                <a:lnTo>
                  <a:pt x="950" y="574"/>
                </a:lnTo>
                <a:lnTo>
                  <a:pt x="930" y="585"/>
                </a:lnTo>
                <a:lnTo>
                  <a:pt x="908" y="596"/>
                </a:lnTo>
                <a:lnTo>
                  <a:pt x="886" y="606"/>
                </a:lnTo>
                <a:lnTo>
                  <a:pt x="863" y="616"/>
                </a:lnTo>
                <a:lnTo>
                  <a:pt x="839" y="625"/>
                </a:lnTo>
                <a:lnTo>
                  <a:pt x="813" y="634"/>
                </a:lnTo>
                <a:lnTo>
                  <a:pt x="788" y="642"/>
                </a:lnTo>
                <a:lnTo>
                  <a:pt x="761" y="650"/>
                </a:lnTo>
                <a:lnTo>
                  <a:pt x="735" y="656"/>
                </a:lnTo>
                <a:lnTo>
                  <a:pt x="709" y="663"/>
                </a:lnTo>
                <a:lnTo>
                  <a:pt x="681" y="669"/>
                </a:lnTo>
                <a:lnTo>
                  <a:pt x="653" y="674"/>
                </a:lnTo>
                <a:lnTo>
                  <a:pt x="625" y="678"/>
                </a:lnTo>
                <a:lnTo>
                  <a:pt x="597" y="682"/>
                </a:lnTo>
                <a:lnTo>
                  <a:pt x="567" y="685"/>
                </a:lnTo>
                <a:lnTo>
                  <a:pt x="539" y="688"/>
                </a:lnTo>
                <a:lnTo>
                  <a:pt x="509" y="690"/>
                </a:lnTo>
                <a:lnTo>
                  <a:pt x="481" y="692"/>
                </a:lnTo>
                <a:lnTo>
                  <a:pt x="451" y="693"/>
                </a:lnTo>
                <a:lnTo>
                  <a:pt x="422" y="693"/>
                </a:lnTo>
                <a:lnTo>
                  <a:pt x="392" y="693"/>
                </a:lnTo>
                <a:lnTo>
                  <a:pt x="362" y="692"/>
                </a:lnTo>
                <a:lnTo>
                  <a:pt x="333" y="690"/>
                </a:lnTo>
                <a:lnTo>
                  <a:pt x="303" y="688"/>
                </a:lnTo>
                <a:lnTo>
                  <a:pt x="275" y="685"/>
                </a:lnTo>
                <a:lnTo>
                  <a:pt x="245" y="682"/>
                </a:lnTo>
                <a:lnTo>
                  <a:pt x="217" y="678"/>
                </a:lnTo>
                <a:lnTo>
                  <a:pt x="188" y="673"/>
                </a:lnTo>
                <a:lnTo>
                  <a:pt x="160" y="668"/>
                </a:lnTo>
                <a:lnTo>
                  <a:pt x="132" y="662"/>
                </a:lnTo>
                <a:lnTo>
                  <a:pt x="105" y="656"/>
                </a:lnTo>
                <a:lnTo>
                  <a:pt x="78" y="649"/>
                </a:lnTo>
                <a:lnTo>
                  <a:pt x="52" y="641"/>
                </a:lnTo>
                <a:lnTo>
                  <a:pt x="26" y="633"/>
                </a:lnTo>
                <a:lnTo>
                  <a:pt x="0" y="624"/>
                </a:lnTo>
                <a:lnTo>
                  <a:pt x="1" y="628"/>
                </a:lnTo>
                <a:lnTo>
                  <a:pt x="2" y="632"/>
                </a:lnTo>
                <a:lnTo>
                  <a:pt x="2" y="636"/>
                </a:lnTo>
                <a:lnTo>
                  <a:pt x="3" y="640"/>
                </a:lnTo>
                <a:lnTo>
                  <a:pt x="4" y="644"/>
                </a:lnTo>
                <a:lnTo>
                  <a:pt x="6" y="648"/>
                </a:lnTo>
                <a:lnTo>
                  <a:pt x="6" y="652"/>
                </a:lnTo>
                <a:lnTo>
                  <a:pt x="7" y="656"/>
                </a:lnTo>
                <a:lnTo>
                  <a:pt x="34" y="664"/>
                </a:lnTo>
                <a:lnTo>
                  <a:pt x="63" y="673"/>
                </a:lnTo>
                <a:lnTo>
                  <a:pt x="90" y="680"/>
                </a:lnTo>
                <a:lnTo>
                  <a:pt x="120" y="686"/>
                </a:lnTo>
                <a:lnTo>
                  <a:pt x="148" y="692"/>
                </a:lnTo>
                <a:lnTo>
                  <a:pt x="178" y="697"/>
                </a:lnTo>
                <a:lnTo>
                  <a:pt x="208" y="702"/>
                </a:lnTo>
                <a:lnTo>
                  <a:pt x="238" y="706"/>
                </a:lnTo>
                <a:lnTo>
                  <a:pt x="268" y="709"/>
                </a:lnTo>
                <a:lnTo>
                  <a:pt x="299" y="712"/>
                </a:lnTo>
                <a:lnTo>
                  <a:pt x="330" y="714"/>
                </a:lnTo>
                <a:lnTo>
                  <a:pt x="360" y="716"/>
                </a:lnTo>
                <a:lnTo>
                  <a:pt x="391" y="717"/>
                </a:lnTo>
                <a:lnTo>
                  <a:pt x="422" y="717"/>
                </a:lnTo>
                <a:lnTo>
                  <a:pt x="452" y="717"/>
                </a:lnTo>
                <a:lnTo>
                  <a:pt x="483" y="716"/>
                </a:lnTo>
                <a:lnTo>
                  <a:pt x="513" y="714"/>
                </a:lnTo>
                <a:lnTo>
                  <a:pt x="543" y="712"/>
                </a:lnTo>
                <a:lnTo>
                  <a:pt x="574" y="709"/>
                </a:lnTo>
                <a:lnTo>
                  <a:pt x="603" y="706"/>
                </a:lnTo>
                <a:lnTo>
                  <a:pt x="633" y="702"/>
                </a:lnTo>
                <a:lnTo>
                  <a:pt x="662" y="698"/>
                </a:lnTo>
                <a:lnTo>
                  <a:pt x="692" y="693"/>
                </a:lnTo>
                <a:lnTo>
                  <a:pt x="720" y="686"/>
                </a:lnTo>
                <a:lnTo>
                  <a:pt x="748" y="680"/>
                </a:lnTo>
                <a:lnTo>
                  <a:pt x="776" y="673"/>
                </a:lnTo>
                <a:lnTo>
                  <a:pt x="803" y="666"/>
                </a:lnTo>
                <a:lnTo>
                  <a:pt x="829" y="658"/>
                </a:lnTo>
                <a:lnTo>
                  <a:pt x="855" y="649"/>
                </a:lnTo>
                <a:lnTo>
                  <a:pt x="881" y="640"/>
                </a:lnTo>
                <a:lnTo>
                  <a:pt x="905" y="630"/>
                </a:lnTo>
                <a:lnTo>
                  <a:pt x="929" y="619"/>
                </a:lnTo>
                <a:lnTo>
                  <a:pt x="953" y="609"/>
                </a:lnTo>
                <a:lnTo>
                  <a:pt x="974" y="597"/>
                </a:lnTo>
                <a:lnTo>
                  <a:pt x="995" y="586"/>
                </a:lnTo>
                <a:lnTo>
                  <a:pt x="1014" y="573"/>
                </a:lnTo>
                <a:lnTo>
                  <a:pt x="1033" y="561"/>
                </a:lnTo>
                <a:lnTo>
                  <a:pt x="1050" y="548"/>
                </a:lnTo>
                <a:lnTo>
                  <a:pt x="1066" y="536"/>
                </a:lnTo>
                <a:lnTo>
                  <a:pt x="1080" y="522"/>
                </a:lnTo>
                <a:lnTo>
                  <a:pt x="1094" y="509"/>
                </a:lnTo>
                <a:lnTo>
                  <a:pt x="1106" y="495"/>
                </a:lnTo>
                <a:lnTo>
                  <a:pt x="1117" y="481"/>
                </a:lnTo>
                <a:lnTo>
                  <a:pt x="1127" y="467"/>
                </a:lnTo>
                <a:lnTo>
                  <a:pt x="1135" y="453"/>
                </a:lnTo>
                <a:lnTo>
                  <a:pt x="1143" y="438"/>
                </a:lnTo>
                <a:lnTo>
                  <a:pt x="1149" y="424"/>
                </a:lnTo>
                <a:lnTo>
                  <a:pt x="1154" y="409"/>
                </a:lnTo>
                <a:lnTo>
                  <a:pt x="1157" y="394"/>
                </a:lnTo>
                <a:lnTo>
                  <a:pt x="1161" y="380"/>
                </a:lnTo>
                <a:lnTo>
                  <a:pt x="1162" y="365"/>
                </a:lnTo>
                <a:lnTo>
                  <a:pt x="1162" y="350"/>
                </a:lnTo>
                <a:lnTo>
                  <a:pt x="1159" y="335"/>
                </a:lnTo>
                <a:lnTo>
                  <a:pt x="1157" y="320"/>
                </a:lnTo>
                <a:lnTo>
                  <a:pt x="1153" y="305"/>
                </a:lnTo>
                <a:lnTo>
                  <a:pt x="1148" y="291"/>
                </a:lnTo>
                <a:lnTo>
                  <a:pt x="1142" y="276"/>
                </a:lnTo>
                <a:lnTo>
                  <a:pt x="1134" y="261"/>
                </a:lnTo>
                <a:lnTo>
                  <a:pt x="1125" y="247"/>
                </a:lnTo>
                <a:lnTo>
                  <a:pt x="1114" y="233"/>
                </a:lnTo>
                <a:lnTo>
                  <a:pt x="1102" y="218"/>
                </a:lnTo>
                <a:lnTo>
                  <a:pt x="1090" y="205"/>
                </a:lnTo>
                <a:lnTo>
                  <a:pt x="1075" y="191"/>
                </a:lnTo>
                <a:lnTo>
                  <a:pt x="1059" y="177"/>
                </a:lnTo>
                <a:lnTo>
                  <a:pt x="1042" y="164"/>
                </a:lnTo>
                <a:lnTo>
                  <a:pt x="1024" y="151"/>
                </a:lnTo>
                <a:lnTo>
                  <a:pt x="1005" y="139"/>
                </a:lnTo>
                <a:lnTo>
                  <a:pt x="985" y="127"/>
                </a:lnTo>
                <a:lnTo>
                  <a:pt x="965" y="115"/>
                </a:lnTo>
                <a:lnTo>
                  <a:pt x="943" y="104"/>
                </a:lnTo>
                <a:lnTo>
                  <a:pt x="921" y="94"/>
                </a:lnTo>
                <a:lnTo>
                  <a:pt x="898" y="84"/>
                </a:lnTo>
                <a:lnTo>
                  <a:pt x="873" y="75"/>
                </a:lnTo>
                <a:lnTo>
                  <a:pt x="849" y="66"/>
                </a:lnTo>
                <a:lnTo>
                  <a:pt x="823" y="57"/>
                </a:lnTo>
                <a:lnTo>
                  <a:pt x="797" y="50"/>
                </a:lnTo>
                <a:lnTo>
                  <a:pt x="770" y="43"/>
                </a:lnTo>
                <a:lnTo>
                  <a:pt x="742" y="36"/>
                </a:lnTo>
                <a:lnTo>
                  <a:pt x="715" y="30"/>
                </a:lnTo>
                <a:lnTo>
                  <a:pt x="687" y="24"/>
                </a:lnTo>
                <a:lnTo>
                  <a:pt x="658" y="19"/>
                </a:lnTo>
                <a:lnTo>
                  <a:pt x="628" y="14"/>
                </a:lnTo>
                <a:lnTo>
                  <a:pt x="599" y="11"/>
                </a:lnTo>
                <a:lnTo>
                  <a:pt x="568" y="7"/>
                </a:lnTo>
                <a:lnTo>
                  <a:pt x="538" y="5"/>
                </a:lnTo>
                <a:lnTo>
                  <a:pt x="507" y="3"/>
                </a:lnTo>
                <a:lnTo>
                  <a:pt x="476" y="1"/>
                </a:lnTo>
                <a:lnTo>
                  <a:pt x="446" y="0"/>
                </a:lnTo>
                <a:lnTo>
                  <a:pt x="414" y="0"/>
                </a:lnTo>
                <a:lnTo>
                  <a:pt x="382" y="1"/>
                </a:lnTo>
                <a:lnTo>
                  <a:pt x="351" y="2"/>
                </a:lnTo>
                <a:lnTo>
                  <a:pt x="319" y="3"/>
                </a:lnTo>
                <a:lnTo>
                  <a:pt x="288" y="6"/>
                </a:lnTo>
                <a:lnTo>
                  <a:pt x="257" y="9"/>
                </a:lnTo>
                <a:lnTo>
                  <a:pt x="225" y="12"/>
                </a:lnTo>
                <a:lnTo>
                  <a:pt x="193" y="17"/>
                </a:lnTo>
              </a:path>
            </a:pathLst>
          </a:cu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625840" y="3695760"/>
            <a:ext cx="1774800" cy="1063440"/>
          </a:xfrm>
          <a:custGeom>
            <a:avLst/>
            <a:gdLst/>
            <a:ahLst/>
            <a:rect l="l" t="t" r="r" b="b"/>
            <a:pathLst>
              <a:path w="1118" h="670">
                <a:moveTo>
                  <a:pt x="169" y="24"/>
                </a:moveTo>
                <a:lnTo>
                  <a:pt x="165" y="28"/>
                </a:lnTo>
                <a:lnTo>
                  <a:pt x="161" y="32"/>
                </a:lnTo>
                <a:lnTo>
                  <a:pt x="157" y="36"/>
                </a:lnTo>
                <a:lnTo>
                  <a:pt x="154" y="40"/>
                </a:lnTo>
                <a:lnTo>
                  <a:pt x="151" y="44"/>
                </a:lnTo>
                <a:lnTo>
                  <a:pt x="148" y="48"/>
                </a:lnTo>
                <a:lnTo>
                  <a:pt x="144" y="52"/>
                </a:lnTo>
                <a:lnTo>
                  <a:pt x="140" y="56"/>
                </a:lnTo>
                <a:lnTo>
                  <a:pt x="168" y="50"/>
                </a:lnTo>
                <a:lnTo>
                  <a:pt x="196" y="45"/>
                </a:lnTo>
                <a:lnTo>
                  <a:pt x="224" y="40"/>
                </a:lnTo>
                <a:lnTo>
                  <a:pt x="252" y="36"/>
                </a:lnTo>
                <a:lnTo>
                  <a:pt x="281" y="32"/>
                </a:lnTo>
                <a:lnTo>
                  <a:pt x="309" y="29"/>
                </a:lnTo>
                <a:lnTo>
                  <a:pt x="338" y="27"/>
                </a:lnTo>
                <a:lnTo>
                  <a:pt x="367" y="26"/>
                </a:lnTo>
                <a:lnTo>
                  <a:pt x="396" y="25"/>
                </a:lnTo>
                <a:lnTo>
                  <a:pt x="424" y="24"/>
                </a:lnTo>
                <a:lnTo>
                  <a:pt x="453" y="25"/>
                </a:lnTo>
                <a:lnTo>
                  <a:pt x="481" y="26"/>
                </a:lnTo>
                <a:lnTo>
                  <a:pt x="510" y="27"/>
                </a:lnTo>
                <a:lnTo>
                  <a:pt x="537" y="29"/>
                </a:lnTo>
                <a:lnTo>
                  <a:pt x="566" y="32"/>
                </a:lnTo>
                <a:lnTo>
                  <a:pt x="593" y="35"/>
                </a:lnTo>
                <a:lnTo>
                  <a:pt x="621" y="39"/>
                </a:lnTo>
                <a:lnTo>
                  <a:pt x="647" y="43"/>
                </a:lnTo>
                <a:lnTo>
                  <a:pt x="674" y="48"/>
                </a:lnTo>
                <a:lnTo>
                  <a:pt x="700" y="54"/>
                </a:lnTo>
                <a:lnTo>
                  <a:pt x="725" y="60"/>
                </a:lnTo>
                <a:lnTo>
                  <a:pt x="751" y="67"/>
                </a:lnTo>
                <a:lnTo>
                  <a:pt x="775" y="74"/>
                </a:lnTo>
                <a:lnTo>
                  <a:pt x="798" y="81"/>
                </a:lnTo>
                <a:lnTo>
                  <a:pt x="821" y="90"/>
                </a:lnTo>
                <a:lnTo>
                  <a:pt x="844" y="99"/>
                </a:lnTo>
                <a:lnTo>
                  <a:pt x="866" y="108"/>
                </a:lnTo>
                <a:lnTo>
                  <a:pt x="886" y="118"/>
                </a:lnTo>
                <a:lnTo>
                  <a:pt x="906" y="128"/>
                </a:lnTo>
                <a:lnTo>
                  <a:pt x="925" y="139"/>
                </a:lnTo>
                <a:lnTo>
                  <a:pt x="944" y="151"/>
                </a:lnTo>
                <a:lnTo>
                  <a:pt x="961" y="163"/>
                </a:lnTo>
                <a:lnTo>
                  <a:pt x="977" y="175"/>
                </a:lnTo>
                <a:lnTo>
                  <a:pt x="991" y="188"/>
                </a:lnTo>
                <a:lnTo>
                  <a:pt x="1005" y="201"/>
                </a:lnTo>
                <a:lnTo>
                  <a:pt x="1017" y="213"/>
                </a:lnTo>
                <a:lnTo>
                  <a:pt x="1027" y="226"/>
                </a:lnTo>
                <a:lnTo>
                  <a:pt x="1037" y="239"/>
                </a:lnTo>
                <a:lnTo>
                  <a:pt x="1045" y="253"/>
                </a:lnTo>
                <a:lnTo>
                  <a:pt x="1052" y="267"/>
                </a:lnTo>
                <a:lnTo>
                  <a:pt x="1058" y="280"/>
                </a:lnTo>
                <a:lnTo>
                  <a:pt x="1062" y="294"/>
                </a:lnTo>
                <a:lnTo>
                  <a:pt x="1065" y="307"/>
                </a:lnTo>
                <a:lnTo>
                  <a:pt x="1066" y="321"/>
                </a:lnTo>
                <a:lnTo>
                  <a:pt x="1067" y="335"/>
                </a:lnTo>
                <a:lnTo>
                  <a:pt x="1066" y="349"/>
                </a:lnTo>
                <a:lnTo>
                  <a:pt x="1064" y="363"/>
                </a:lnTo>
                <a:lnTo>
                  <a:pt x="1061" y="376"/>
                </a:lnTo>
                <a:lnTo>
                  <a:pt x="1057" y="390"/>
                </a:lnTo>
                <a:lnTo>
                  <a:pt x="1052" y="403"/>
                </a:lnTo>
                <a:lnTo>
                  <a:pt x="1044" y="416"/>
                </a:lnTo>
                <a:lnTo>
                  <a:pt x="1037" y="430"/>
                </a:lnTo>
                <a:lnTo>
                  <a:pt x="1027" y="443"/>
                </a:lnTo>
                <a:lnTo>
                  <a:pt x="1017" y="455"/>
                </a:lnTo>
                <a:lnTo>
                  <a:pt x="1005" y="468"/>
                </a:lnTo>
                <a:lnTo>
                  <a:pt x="992" y="480"/>
                </a:lnTo>
                <a:lnTo>
                  <a:pt x="978" y="493"/>
                </a:lnTo>
                <a:lnTo>
                  <a:pt x="963" y="504"/>
                </a:lnTo>
                <a:lnTo>
                  <a:pt x="946" y="516"/>
                </a:lnTo>
                <a:lnTo>
                  <a:pt x="929" y="527"/>
                </a:lnTo>
                <a:lnTo>
                  <a:pt x="910" y="538"/>
                </a:lnTo>
                <a:lnTo>
                  <a:pt x="890" y="549"/>
                </a:lnTo>
                <a:lnTo>
                  <a:pt x="869" y="559"/>
                </a:lnTo>
                <a:lnTo>
                  <a:pt x="847" y="569"/>
                </a:lnTo>
                <a:lnTo>
                  <a:pt x="823" y="578"/>
                </a:lnTo>
                <a:lnTo>
                  <a:pt x="800" y="587"/>
                </a:lnTo>
                <a:lnTo>
                  <a:pt x="776" y="595"/>
                </a:lnTo>
                <a:lnTo>
                  <a:pt x="751" y="603"/>
                </a:lnTo>
                <a:lnTo>
                  <a:pt x="725" y="609"/>
                </a:lnTo>
                <a:lnTo>
                  <a:pt x="699" y="615"/>
                </a:lnTo>
                <a:lnTo>
                  <a:pt x="672" y="621"/>
                </a:lnTo>
                <a:lnTo>
                  <a:pt x="646" y="626"/>
                </a:lnTo>
                <a:lnTo>
                  <a:pt x="619" y="631"/>
                </a:lnTo>
                <a:lnTo>
                  <a:pt x="591" y="634"/>
                </a:lnTo>
                <a:lnTo>
                  <a:pt x="564" y="638"/>
                </a:lnTo>
                <a:lnTo>
                  <a:pt x="536" y="640"/>
                </a:lnTo>
                <a:lnTo>
                  <a:pt x="508" y="642"/>
                </a:lnTo>
                <a:lnTo>
                  <a:pt x="479" y="644"/>
                </a:lnTo>
                <a:lnTo>
                  <a:pt x="451" y="645"/>
                </a:lnTo>
                <a:lnTo>
                  <a:pt x="423" y="645"/>
                </a:lnTo>
                <a:lnTo>
                  <a:pt x="395" y="645"/>
                </a:lnTo>
                <a:lnTo>
                  <a:pt x="366" y="643"/>
                </a:lnTo>
                <a:lnTo>
                  <a:pt x="338" y="642"/>
                </a:lnTo>
                <a:lnTo>
                  <a:pt x="310" y="640"/>
                </a:lnTo>
                <a:lnTo>
                  <a:pt x="282" y="637"/>
                </a:lnTo>
                <a:lnTo>
                  <a:pt x="254" y="633"/>
                </a:lnTo>
                <a:lnTo>
                  <a:pt x="227" y="630"/>
                </a:lnTo>
                <a:lnTo>
                  <a:pt x="201" y="625"/>
                </a:lnTo>
                <a:lnTo>
                  <a:pt x="173" y="619"/>
                </a:lnTo>
                <a:lnTo>
                  <a:pt x="147" y="614"/>
                </a:lnTo>
                <a:lnTo>
                  <a:pt x="121" y="607"/>
                </a:lnTo>
                <a:lnTo>
                  <a:pt x="96" y="601"/>
                </a:lnTo>
                <a:lnTo>
                  <a:pt x="71" y="593"/>
                </a:lnTo>
                <a:lnTo>
                  <a:pt x="46" y="585"/>
                </a:lnTo>
                <a:lnTo>
                  <a:pt x="23" y="575"/>
                </a:lnTo>
                <a:lnTo>
                  <a:pt x="0" y="566"/>
                </a:lnTo>
                <a:lnTo>
                  <a:pt x="1" y="570"/>
                </a:lnTo>
                <a:lnTo>
                  <a:pt x="1" y="574"/>
                </a:lnTo>
                <a:lnTo>
                  <a:pt x="2" y="579"/>
                </a:lnTo>
                <a:lnTo>
                  <a:pt x="3" y="583"/>
                </a:lnTo>
                <a:lnTo>
                  <a:pt x="3" y="587"/>
                </a:lnTo>
                <a:lnTo>
                  <a:pt x="4" y="591"/>
                </a:lnTo>
                <a:lnTo>
                  <a:pt x="4" y="596"/>
                </a:lnTo>
                <a:lnTo>
                  <a:pt x="5" y="600"/>
                </a:lnTo>
                <a:lnTo>
                  <a:pt x="31" y="609"/>
                </a:lnTo>
                <a:lnTo>
                  <a:pt x="57" y="617"/>
                </a:lnTo>
                <a:lnTo>
                  <a:pt x="83" y="625"/>
                </a:lnTo>
                <a:lnTo>
                  <a:pt x="110" y="632"/>
                </a:lnTo>
                <a:lnTo>
                  <a:pt x="137" y="638"/>
                </a:lnTo>
                <a:lnTo>
                  <a:pt x="165" y="644"/>
                </a:lnTo>
                <a:lnTo>
                  <a:pt x="193" y="649"/>
                </a:lnTo>
                <a:lnTo>
                  <a:pt x="222" y="654"/>
                </a:lnTo>
                <a:lnTo>
                  <a:pt x="250" y="658"/>
                </a:lnTo>
                <a:lnTo>
                  <a:pt x="280" y="661"/>
                </a:lnTo>
                <a:lnTo>
                  <a:pt x="308" y="664"/>
                </a:lnTo>
                <a:lnTo>
                  <a:pt x="338" y="666"/>
                </a:lnTo>
                <a:lnTo>
                  <a:pt x="367" y="668"/>
                </a:lnTo>
                <a:lnTo>
                  <a:pt x="397" y="669"/>
                </a:lnTo>
                <a:lnTo>
                  <a:pt x="427" y="669"/>
                </a:lnTo>
                <a:lnTo>
                  <a:pt x="456" y="669"/>
                </a:lnTo>
                <a:lnTo>
                  <a:pt x="486" y="668"/>
                </a:lnTo>
                <a:lnTo>
                  <a:pt x="514" y="666"/>
                </a:lnTo>
                <a:lnTo>
                  <a:pt x="544" y="664"/>
                </a:lnTo>
                <a:lnTo>
                  <a:pt x="572" y="661"/>
                </a:lnTo>
                <a:lnTo>
                  <a:pt x="602" y="658"/>
                </a:lnTo>
                <a:lnTo>
                  <a:pt x="630" y="654"/>
                </a:lnTo>
                <a:lnTo>
                  <a:pt x="658" y="650"/>
                </a:lnTo>
                <a:lnTo>
                  <a:pt x="686" y="645"/>
                </a:lnTo>
                <a:lnTo>
                  <a:pt x="714" y="639"/>
                </a:lnTo>
                <a:lnTo>
                  <a:pt x="740" y="632"/>
                </a:lnTo>
                <a:lnTo>
                  <a:pt x="766" y="626"/>
                </a:lnTo>
                <a:lnTo>
                  <a:pt x="793" y="618"/>
                </a:lnTo>
                <a:lnTo>
                  <a:pt x="818" y="610"/>
                </a:lnTo>
                <a:lnTo>
                  <a:pt x="844" y="601"/>
                </a:lnTo>
                <a:lnTo>
                  <a:pt x="868" y="592"/>
                </a:lnTo>
                <a:lnTo>
                  <a:pt x="891" y="582"/>
                </a:lnTo>
                <a:lnTo>
                  <a:pt x="913" y="572"/>
                </a:lnTo>
                <a:lnTo>
                  <a:pt x="935" y="561"/>
                </a:lnTo>
                <a:lnTo>
                  <a:pt x="955" y="550"/>
                </a:lnTo>
                <a:lnTo>
                  <a:pt x="974" y="539"/>
                </a:lnTo>
                <a:lnTo>
                  <a:pt x="992" y="526"/>
                </a:lnTo>
                <a:lnTo>
                  <a:pt x="1008" y="515"/>
                </a:lnTo>
                <a:lnTo>
                  <a:pt x="1024" y="502"/>
                </a:lnTo>
                <a:lnTo>
                  <a:pt x="1039" y="490"/>
                </a:lnTo>
                <a:lnTo>
                  <a:pt x="1052" y="476"/>
                </a:lnTo>
                <a:lnTo>
                  <a:pt x="1064" y="463"/>
                </a:lnTo>
                <a:lnTo>
                  <a:pt x="1075" y="450"/>
                </a:lnTo>
                <a:lnTo>
                  <a:pt x="1084" y="436"/>
                </a:lnTo>
                <a:lnTo>
                  <a:pt x="1093" y="423"/>
                </a:lnTo>
                <a:lnTo>
                  <a:pt x="1099" y="409"/>
                </a:lnTo>
                <a:lnTo>
                  <a:pt x="1105" y="395"/>
                </a:lnTo>
                <a:lnTo>
                  <a:pt x="1111" y="381"/>
                </a:lnTo>
                <a:lnTo>
                  <a:pt x="1114" y="367"/>
                </a:lnTo>
                <a:lnTo>
                  <a:pt x="1116" y="352"/>
                </a:lnTo>
                <a:lnTo>
                  <a:pt x="1117" y="338"/>
                </a:lnTo>
                <a:lnTo>
                  <a:pt x="1116" y="324"/>
                </a:lnTo>
                <a:lnTo>
                  <a:pt x="1115" y="310"/>
                </a:lnTo>
                <a:lnTo>
                  <a:pt x="1112" y="295"/>
                </a:lnTo>
                <a:lnTo>
                  <a:pt x="1107" y="281"/>
                </a:lnTo>
                <a:lnTo>
                  <a:pt x="1102" y="267"/>
                </a:lnTo>
                <a:lnTo>
                  <a:pt x="1096" y="253"/>
                </a:lnTo>
                <a:lnTo>
                  <a:pt x="1087" y="239"/>
                </a:lnTo>
                <a:lnTo>
                  <a:pt x="1079" y="225"/>
                </a:lnTo>
                <a:lnTo>
                  <a:pt x="1068" y="211"/>
                </a:lnTo>
                <a:lnTo>
                  <a:pt x="1056" y="198"/>
                </a:lnTo>
                <a:lnTo>
                  <a:pt x="1043" y="184"/>
                </a:lnTo>
                <a:lnTo>
                  <a:pt x="1028" y="171"/>
                </a:lnTo>
                <a:lnTo>
                  <a:pt x="1012" y="158"/>
                </a:lnTo>
                <a:lnTo>
                  <a:pt x="996" y="145"/>
                </a:lnTo>
                <a:lnTo>
                  <a:pt x="978" y="133"/>
                </a:lnTo>
                <a:lnTo>
                  <a:pt x="959" y="122"/>
                </a:lnTo>
                <a:lnTo>
                  <a:pt x="939" y="111"/>
                </a:lnTo>
                <a:lnTo>
                  <a:pt x="918" y="100"/>
                </a:lnTo>
                <a:lnTo>
                  <a:pt x="896" y="90"/>
                </a:lnTo>
                <a:lnTo>
                  <a:pt x="874" y="80"/>
                </a:lnTo>
                <a:lnTo>
                  <a:pt x="851" y="71"/>
                </a:lnTo>
                <a:lnTo>
                  <a:pt x="827" y="62"/>
                </a:lnTo>
                <a:lnTo>
                  <a:pt x="802" y="54"/>
                </a:lnTo>
                <a:lnTo>
                  <a:pt x="777" y="47"/>
                </a:lnTo>
                <a:lnTo>
                  <a:pt x="752" y="40"/>
                </a:lnTo>
                <a:lnTo>
                  <a:pt x="725" y="33"/>
                </a:lnTo>
                <a:lnTo>
                  <a:pt x="698" y="27"/>
                </a:lnTo>
                <a:lnTo>
                  <a:pt x="670" y="22"/>
                </a:lnTo>
                <a:lnTo>
                  <a:pt x="643" y="17"/>
                </a:lnTo>
                <a:lnTo>
                  <a:pt x="614" y="13"/>
                </a:lnTo>
                <a:lnTo>
                  <a:pt x="586" y="9"/>
                </a:lnTo>
                <a:lnTo>
                  <a:pt x="557" y="6"/>
                </a:lnTo>
                <a:lnTo>
                  <a:pt x="528" y="4"/>
                </a:lnTo>
                <a:lnTo>
                  <a:pt x="498" y="2"/>
                </a:lnTo>
                <a:lnTo>
                  <a:pt x="469" y="1"/>
                </a:lnTo>
                <a:lnTo>
                  <a:pt x="439" y="0"/>
                </a:lnTo>
                <a:lnTo>
                  <a:pt x="409" y="0"/>
                </a:lnTo>
                <a:lnTo>
                  <a:pt x="379" y="1"/>
                </a:lnTo>
                <a:lnTo>
                  <a:pt x="348" y="2"/>
                </a:lnTo>
                <a:lnTo>
                  <a:pt x="319" y="4"/>
                </a:lnTo>
                <a:lnTo>
                  <a:pt x="288" y="7"/>
                </a:lnTo>
                <a:lnTo>
                  <a:pt x="259" y="10"/>
                </a:lnTo>
                <a:lnTo>
                  <a:pt x="228" y="14"/>
                </a:lnTo>
                <a:lnTo>
                  <a:pt x="198" y="19"/>
                </a:lnTo>
                <a:lnTo>
                  <a:pt x="169" y="24"/>
                </a:lnTo>
              </a:path>
            </a:pathLst>
          </a:cu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620800" y="3733920"/>
            <a:ext cx="1700280" cy="987480"/>
          </a:xfrm>
          <a:custGeom>
            <a:avLst/>
            <a:gdLst/>
            <a:ahLst/>
            <a:rect l="l" t="t" r="r" b="b"/>
            <a:pathLst>
              <a:path w="1071" h="622">
                <a:moveTo>
                  <a:pt x="143" y="32"/>
                </a:moveTo>
                <a:lnTo>
                  <a:pt x="140" y="36"/>
                </a:lnTo>
                <a:lnTo>
                  <a:pt x="137" y="41"/>
                </a:lnTo>
                <a:lnTo>
                  <a:pt x="134" y="45"/>
                </a:lnTo>
                <a:lnTo>
                  <a:pt x="131" y="49"/>
                </a:lnTo>
                <a:lnTo>
                  <a:pt x="128" y="53"/>
                </a:lnTo>
                <a:lnTo>
                  <a:pt x="124" y="57"/>
                </a:lnTo>
                <a:lnTo>
                  <a:pt x="122" y="62"/>
                </a:lnTo>
                <a:lnTo>
                  <a:pt x="119" y="66"/>
                </a:lnTo>
                <a:lnTo>
                  <a:pt x="144" y="58"/>
                </a:lnTo>
                <a:lnTo>
                  <a:pt x="171" y="52"/>
                </a:lnTo>
                <a:lnTo>
                  <a:pt x="196" y="47"/>
                </a:lnTo>
                <a:lnTo>
                  <a:pt x="224" y="42"/>
                </a:lnTo>
                <a:lnTo>
                  <a:pt x="250" y="37"/>
                </a:lnTo>
                <a:lnTo>
                  <a:pt x="277" y="33"/>
                </a:lnTo>
                <a:lnTo>
                  <a:pt x="304" y="30"/>
                </a:lnTo>
                <a:lnTo>
                  <a:pt x="331" y="28"/>
                </a:lnTo>
                <a:lnTo>
                  <a:pt x="359" y="26"/>
                </a:lnTo>
                <a:lnTo>
                  <a:pt x="386" y="25"/>
                </a:lnTo>
                <a:lnTo>
                  <a:pt x="414" y="24"/>
                </a:lnTo>
                <a:lnTo>
                  <a:pt x="441" y="24"/>
                </a:lnTo>
                <a:lnTo>
                  <a:pt x="469" y="25"/>
                </a:lnTo>
                <a:lnTo>
                  <a:pt x="496" y="26"/>
                </a:lnTo>
                <a:lnTo>
                  <a:pt x="522" y="27"/>
                </a:lnTo>
                <a:lnTo>
                  <a:pt x="550" y="30"/>
                </a:lnTo>
                <a:lnTo>
                  <a:pt x="576" y="33"/>
                </a:lnTo>
                <a:lnTo>
                  <a:pt x="603" y="36"/>
                </a:lnTo>
                <a:lnTo>
                  <a:pt x="628" y="41"/>
                </a:lnTo>
                <a:lnTo>
                  <a:pt x="654" y="45"/>
                </a:lnTo>
                <a:lnTo>
                  <a:pt x="679" y="50"/>
                </a:lnTo>
                <a:lnTo>
                  <a:pt x="704" y="56"/>
                </a:lnTo>
                <a:lnTo>
                  <a:pt x="727" y="63"/>
                </a:lnTo>
                <a:lnTo>
                  <a:pt x="752" y="70"/>
                </a:lnTo>
                <a:lnTo>
                  <a:pt x="774" y="77"/>
                </a:lnTo>
                <a:lnTo>
                  <a:pt x="796" y="85"/>
                </a:lnTo>
                <a:lnTo>
                  <a:pt x="818" y="94"/>
                </a:lnTo>
                <a:lnTo>
                  <a:pt x="838" y="103"/>
                </a:lnTo>
                <a:lnTo>
                  <a:pt x="858" y="113"/>
                </a:lnTo>
                <a:lnTo>
                  <a:pt x="877" y="123"/>
                </a:lnTo>
                <a:lnTo>
                  <a:pt x="896" y="134"/>
                </a:lnTo>
                <a:lnTo>
                  <a:pt x="913" y="145"/>
                </a:lnTo>
                <a:lnTo>
                  <a:pt x="929" y="157"/>
                </a:lnTo>
                <a:lnTo>
                  <a:pt x="944" y="168"/>
                </a:lnTo>
                <a:lnTo>
                  <a:pt x="957" y="181"/>
                </a:lnTo>
                <a:lnTo>
                  <a:pt x="970" y="193"/>
                </a:lnTo>
                <a:lnTo>
                  <a:pt x="981" y="205"/>
                </a:lnTo>
                <a:lnTo>
                  <a:pt x="990" y="218"/>
                </a:lnTo>
                <a:lnTo>
                  <a:pt x="999" y="231"/>
                </a:lnTo>
                <a:lnTo>
                  <a:pt x="1006" y="244"/>
                </a:lnTo>
                <a:lnTo>
                  <a:pt x="1011" y="257"/>
                </a:lnTo>
                <a:lnTo>
                  <a:pt x="1015" y="270"/>
                </a:lnTo>
                <a:lnTo>
                  <a:pt x="1019" y="283"/>
                </a:lnTo>
                <a:lnTo>
                  <a:pt x="1021" y="296"/>
                </a:lnTo>
                <a:lnTo>
                  <a:pt x="1022" y="310"/>
                </a:lnTo>
                <a:lnTo>
                  <a:pt x="1021" y="323"/>
                </a:lnTo>
                <a:lnTo>
                  <a:pt x="1020" y="336"/>
                </a:lnTo>
                <a:lnTo>
                  <a:pt x="1017" y="349"/>
                </a:lnTo>
                <a:lnTo>
                  <a:pt x="1012" y="362"/>
                </a:lnTo>
                <a:lnTo>
                  <a:pt x="1007" y="375"/>
                </a:lnTo>
                <a:lnTo>
                  <a:pt x="1000" y="388"/>
                </a:lnTo>
                <a:lnTo>
                  <a:pt x="992" y="400"/>
                </a:lnTo>
                <a:lnTo>
                  <a:pt x="983" y="413"/>
                </a:lnTo>
                <a:lnTo>
                  <a:pt x="972" y="425"/>
                </a:lnTo>
                <a:lnTo>
                  <a:pt x="962" y="437"/>
                </a:lnTo>
                <a:lnTo>
                  <a:pt x="949" y="449"/>
                </a:lnTo>
                <a:lnTo>
                  <a:pt x="934" y="460"/>
                </a:lnTo>
                <a:lnTo>
                  <a:pt x="919" y="472"/>
                </a:lnTo>
                <a:lnTo>
                  <a:pt x="904" y="483"/>
                </a:lnTo>
                <a:lnTo>
                  <a:pt x="887" y="494"/>
                </a:lnTo>
                <a:lnTo>
                  <a:pt x="868" y="504"/>
                </a:lnTo>
                <a:lnTo>
                  <a:pt x="848" y="514"/>
                </a:lnTo>
                <a:lnTo>
                  <a:pt x="828" y="523"/>
                </a:lnTo>
                <a:lnTo>
                  <a:pt x="805" y="533"/>
                </a:lnTo>
                <a:lnTo>
                  <a:pt x="782" y="541"/>
                </a:lnTo>
                <a:lnTo>
                  <a:pt x="759" y="549"/>
                </a:lnTo>
                <a:lnTo>
                  <a:pt x="735" y="557"/>
                </a:lnTo>
                <a:lnTo>
                  <a:pt x="710" y="563"/>
                </a:lnTo>
                <a:lnTo>
                  <a:pt x="685" y="569"/>
                </a:lnTo>
                <a:lnTo>
                  <a:pt x="660" y="575"/>
                </a:lnTo>
                <a:lnTo>
                  <a:pt x="634" y="580"/>
                </a:lnTo>
                <a:lnTo>
                  <a:pt x="608" y="584"/>
                </a:lnTo>
                <a:lnTo>
                  <a:pt x="582" y="588"/>
                </a:lnTo>
                <a:lnTo>
                  <a:pt x="555" y="591"/>
                </a:lnTo>
                <a:lnTo>
                  <a:pt x="528" y="593"/>
                </a:lnTo>
                <a:lnTo>
                  <a:pt x="501" y="595"/>
                </a:lnTo>
                <a:lnTo>
                  <a:pt x="474" y="596"/>
                </a:lnTo>
                <a:lnTo>
                  <a:pt x="446" y="597"/>
                </a:lnTo>
                <a:lnTo>
                  <a:pt x="419" y="598"/>
                </a:lnTo>
                <a:lnTo>
                  <a:pt x="393" y="596"/>
                </a:lnTo>
                <a:lnTo>
                  <a:pt x="365" y="595"/>
                </a:lnTo>
                <a:lnTo>
                  <a:pt x="339" y="594"/>
                </a:lnTo>
                <a:lnTo>
                  <a:pt x="311" y="591"/>
                </a:lnTo>
                <a:lnTo>
                  <a:pt x="285" y="589"/>
                </a:lnTo>
                <a:lnTo>
                  <a:pt x="258" y="585"/>
                </a:lnTo>
                <a:lnTo>
                  <a:pt x="233" y="581"/>
                </a:lnTo>
                <a:lnTo>
                  <a:pt x="207" y="576"/>
                </a:lnTo>
                <a:lnTo>
                  <a:pt x="181" y="571"/>
                </a:lnTo>
                <a:lnTo>
                  <a:pt x="157" y="565"/>
                </a:lnTo>
                <a:lnTo>
                  <a:pt x="133" y="559"/>
                </a:lnTo>
                <a:lnTo>
                  <a:pt x="109" y="551"/>
                </a:lnTo>
                <a:lnTo>
                  <a:pt x="85" y="544"/>
                </a:lnTo>
                <a:lnTo>
                  <a:pt x="63" y="536"/>
                </a:lnTo>
                <a:lnTo>
                  <a:pt x="41" y="527"/>
                </a:lnTo>
                <a:lnTo>
                  <a:pt x="20" y="517"/>
                </a:lnTo>
                <a:lnTo>
                  <a:pt x="0" y="507"/>
                </a:lnTo>
                <a:lnTo>
                  <a:pt x="0" y="512"/>
                </a:lnTo>
                <a:lnTo>
                  <a:pt x="1" y="516"/>
                </a:lnTo>
                <a:lnTo>
                  <a:pt x="1" y="521"/>
                </a:lnTo>
                <a:lnTo>
                  <a:pt x="2" y="525"/>
                </a:lnTo>
                <a:lnTo>
                  <a:pt x="2" y="529"/>
                </a:lnTo>
                <a:lnTo>
                  <a:pt x="2" y="534"/>
                </a:lnTo>
                <a:lnTo>
                  <a:pt x="3" y="538"/>
                </a:lnTo>
                <a:lnTo>
                  <a:pt x="3" y="542"/>
                </a:lnTo>
                <a:lnTo>
                  <a:pt x="26" y="551"/>
                </a:lnTo>
                <a:lnTo>
                  <a:pt x="49" y="561"/>
                </a:lnTo>
                <a:lnTo>
                  <a:pt x="74" y="569"/>
                </a:lnTo>
                <a:lnTo>
                  <a:pt x="99" y="577"/>
                </a:lnTo>
                <a:lnTo>
                  <a:pt x="124" y="583"/>
                </a:lnTo>
                <a:lnTo>
                  <a:pt x="150" y="590"/>
                </a:lnTo>
                <a:lnTo>
                  <a:pt x="176" y="595"/>
                </a:lnTo>
                <a:lnTo>
                  <a:pt x="204" y="601"/>
                </a:lnTo>
                <a:lnTo>
                  <a:pt x="230" y="606"/>
                </a:lnTo>
                <a:lnTo>
                  <a:pt x="257" y="609"/>
                </a:lnTo>
                <a:lnTo>
                  <a:pt x="285" y="613"/>
                </a:lnTo>
                <a:lnTo>
                  <a:pt x="313" y="616"/>
                </a:lnTo>
                <a:lnTo>
                  <a:pt x="341" y="618"/>
                </a:lnTo>
                <a:lnTo>
                  <a:pt x="369" y="619"/>
                </a:lnTo>
                <a:lnTo>
                  <a:pt x="398" y="621"/>
                </a:lnTo>
                <a:lnTo>
                  <a:pt x="426" y="621"/>
                </a:lnTo>
                <a:lnTo>
                  <a:pt x="454" y="621"/>
                </a:lnTo>
                <a:lnTo>
                  <a:pt x="482" y="620"/>
                </a:lnTo>
                <a:lnTo>
                  <a:pt x="511" y="618"/>
                </a:lnTo>
                <a:lnTo>
                  <a:pt x="539" y="616"/>
                </a:lnTo>
                <a:lnTo>
                  <a:pt x="567" y="614"/>
                </a:lnTo>
                <a:lnTo>
                  <a:pt x="594" y="610"/>
                </a:lnTo>
                <a:lnTo>
                  <a:pt x="622" y="607"/>
                </a:lnTo>
                <a:lnTo>
                  <a:pt x="649" y="602"/>
                </a:lnTo>
                <a:lnTo>
                  <a:pt x="675" y="597"/>
                </a:lnTo>
                <a:lnTo>
                  <a:pt x="702" y="591"/>
                </a:lnTo>
                <a:lnTo>
                  <a:pt x="728" y="585"/>
                </a:lnTo>
                <a:lnTo>
                  <a:pt x="754" y="579"/>
                </a:lnTo>
                <a:lnTo>
                  <a:pt x="779" y="571"/>
                </a:lnTo>
                <a:lnTo>
                  <a:pt x="803" y="563"/>
                </a:lnTo>
                <a:lnTo>
                  <a:pt x="826" y="554"/>
                </a:lnTo>
                <a:lnTo>
                  <a:pt x="850" y="545"/>
                </a:lnTo>
                <a:lnTo>
                  <a:pt x="872" y="535"/>
                </a:lnTo>
                <a:lnTo>
                  <a:pt x="893" y="525"/>
                </a:lnTo>
                <a:lnTo>
                  <a:pt x="913" y="514"/>
                </a:lnTo>
                <a:lnTo>
                  <a:pt x="932" y="503"/>
                </a:lnTo>
                <a:lnTo>
                  <a:pt x="949" y="492"/>
                </a:lnTo>
                <a:lnTo>
                  <a:pt x="966" y="480"/>
                </a:lnTo>
                <a:lnTo>
                  <a:pt x="981" y="469"/>
                </a:lnTo>
                <a:lnTo>
                  <a:pt x="995" y="456"/>
                </a:lnTo>
                <a:lnTo>
                  <a:pt x="1008" y="444"/>
                </a:lnTo>
                <a:lnTo>
                  <a:pt x="1020" y="431"/>
                </a:lnTo>
                <a:lnTo>
                  <a:pt x="1030" y="419"/>
                </a:lnTo>
                <a:lnTo>
                  <a:pt x="1040" y="406"/>
                </a:lnTo>
                <a:lnTo>
                  <a:pt x="1047" y="392"/>
                </a:lnTo>
                <a:lnTo>
                  <a:pt x="1055" y="379"/>
                </a:lnTo>
                <a:lnTo>
                  <a:pt x="1060" y="366"/>
                </a:lnTo>
                <a:lnTo>
                  <a:pt x="1064" y="352"/>
                </a:lnTo>
                <a:lnTo>
                  <a:pt x="1067" y="339"/>
                </a:lnTo>
                <a:lnTo>
                  <a:pt x="1069" y="325"/>
                </a:lnTo>
                <a:lnTo>
                  <a:pt x="1070" y="311"/>
                </a:lnTo>
                <a:lnTo>
                  <a:pt x="1069" y="297"/>
                </a:lnTo>
                <a:lnTo>
                  <a:pt x="1068" y="283"/>
                </a:lnTo>
                <a:lnTo>
                  <a:pt x="1065" y="270"/>
                </a:lnTo>
                <a:lnTo>
                  <a:pt x="1061" y="256"/>
                </a:lnTo>
                <a:lnTo>
                  <a:pt x="1055" y="243"/>
                </a:lnTo>
                <a:lnTo>
                  <a:pt x="1048" y="229"/>
                </a:lnTo>
                <a:lnTo>
                  <a:pt x="1040" y="215"/>
                </a:lnTo>
                <a:lnTo>
                  <a:pt x="1030" y="202"/>
                </a:lnTo>
                <a:lnTo>
                  <a:pt x="1020" y="189"/>
                </a:lnTo>
                <a:lnTo>
                  <a:pt x="1008" y="177"/>
                </a:lnTo>
                <a:lnTo>
                  <a:pt x="994" y="164"/>
                </a:lnTo>
                <a:lnTo>
                  <a:pt x="980" y="151"/>
                </a:lnTo>
                <a:lnTo>
                  <a:pt x="964" y="139"/>
                </a:lnTo>
                <a:lnTo>
                  <a:pt x="947" y="127"/>
                </a:lnTo>
                <a:lnTo>
                  <a:pt x="928" y="115"/>
                </a:lnTo>
                <a:lnTo>
                  <a:pt x="909" y="104"/>
                </a:lnTo>
                <a:lnTo>
                  <a:pt x="889" y="94"/>
                </a:lnTo>
                <a:lnTo>
                  <a:pt x="869" y="84"/>
                </a:lnTo>
                <a:lnTo>
                  <a:pt x="847" y="75"/>
                </a:lnTo>
                <a:lnTo>
                  <a:pt x="824" y="66"/>
                </a:lnTo>
                <a:lnTo>
                  <a:pt x="801" y="57"/>
                </a:lnTo>
                <a:lnTo>
                  <a:pt x="778" y="50"/>
                </a:lnTo>
                <a:lnTo>
                  <a:pt x="754" y="43"/>
                </a:lnTo>
                <a:lnTo>
                  <a:pt x="728" y="36"/>
                </a:lnTo>
                <a:lnTo>
                  <a:pt x="703" y="30"/>
                </a:lnTo>
                <a:lnTo>
                  <a:pt x="677" y="24"/>
                </a:lnTo>
                <a:lnTo>
                  <a:pt x="650" y="19"/>
                </a:lnTo>
                <a:lnTo>
                  <a:pt x="624" y="15"/>
                </a:lnTo>
                <a:lnTo>
                  <a:pt x="596" y="11"/>
                </a:lnTo>
                <a:lnTo>
                  <a:pt x="569" y="8"/>
                </a:lnTo>
                <a:lnTo>
                  <a:pt x="540" y="5"/>
                </a:lnTo>
                <a:lnTo>
                  <a:pt x="513" y="3"/>
                </a:lnTo>
                <a:lnTo>
                  <a:pt x="484" y="2"/>
                </a:lnTo>
                <a:lnTo>
                  <a:pt x="456" y="1"/>
                </a:lnTo>
                <a:lnTo>
                  <a:pt x="427" y="0"/>
                </a:lnTo>
                <a:lnTo>
                  <a:pt x="399" y="1"/>
                </a:lnTo>
                <a:lnTo>
                  <a:pt x="370" y="2"/>
                </a:lnTo>
                <a:lnTo>
                  <a:pt x="341" y="3"/>
                </a:lnTo>
                <a:lnTo>
                  <a:pt x="312" y="5"/>
                </a:lnTo>
                <a:lnTo>
                  <a:pt x="284" y="8"/>
                </a:lnTo>
                <a:lnTo>
                  <a:pt x="255" y="12"/>
                </a:lnTo>
                <a:lnTo>
                  <a:pt x="227" y="16"/>
                </a:lnTo>
                <a:lnTo>
                  <a:pt x="199" y="21"/>
                </a:lnTo>
                <a:lnTo>
                  <a:pt x="171" y="26"/>
                </a:lnTo>
                <a:lnTo>
                  <a:pt x="143" y="32"/>
                </a:lnTo>
              </a:path>
            </a:pathLst>
          </a:cu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617920" y="3772080"/>
            <a:ext cx="1627200" cy="912600"/>
          </a:xfrm>
          <a:custGeom>
            <a:avLst/>
            <a:gdLst/>
            <a:ahLst/>
            <a:rect l="l" t="t" r="r" b="b"/>
            <a:pathLst>
              <a:path w="1025" h="575">
                <a:moveTo>
                  <a:pt x="121" y="42"/>
                </a:moveTo>
                <a:lnTo>
                  <a:pt x="118" y="46"/>
                </a:lnTo>
                <a:lnTo>
                  <a:pt x="115" y="51"/>
                </a:lnTo>
                <a:lnTo>
                  <a:pt x="112" y="55"/>
                </a:lnTo>
                <a:lnTo>
                  <a:pt x="108" y="61"/>
                </a:lnTo>
                <a:lnTo>
                  <a:pt x="105" y="65"/>
                </a:lnTo>
                <a:lnTo>
                  <a:pt x="102" y="70"/>
                </a:lnTo>
                <a:lnTo>
                  <a:pt x="99" y="75"/>
                </a:lnTo>
                <a:lnTo>
                  <a:pt x="96" y="79"/>
                </a:lnTo>
                <a:lnTo>
                  <a:pt x="130" y="68"/>
                </a:lnTo>
                <a:lnTo>
                  <a:pt x="164" y="57"/>
                </a:lnTo>
                <a:lnTo>
                  <a:pt x="200" y="48"/>
                </a:lnTo>
                <a:lnTo>
                  <a:pt x="237" y="41"/>
                </a:lnTo>
                <a:lnTo>
                  <a:pt x="275" y="34"/>
                </a:lnTo>
                <a:lnTo>
                  <a:pt x="314" y="30"/>
                </a:lnTo>
                <a:lnTo>
                  <a:pt x="353" y="26"/>
                </a:lnTo>
                <a:lnTo>
                  <a:pt x="392" y="24"/>
                </a:lnTo>
                <a:lnTo>
                  <a:pt x="432" y="24"/>
                </a:lnTo>
                <a:lnTo>
                  <a:pt x="472" y="24"/>
                </a:lnTo>
                <a:lnTo>
                  <a:pt x="511" y="26"/>
                </a:lnTo>
                <a:lnTo>
                  <a:pt x="550" y="30"/>
                </a:lnTo>
                <a:lnTo>
                  <a:pt x="589" y="35"/>
                </a:lnTo>
                <a:lnTo>
                  <a:pt x="627" y="42"/>
                </a:lnTo>
                <a:lnTo>
                  <a:pt x="665" y="49"/>
                </a:lnTo>
                <a:lnTo>
                  <a:pt x="701" y="59"/>
                </a:lnTo>
                <a:lnTo>
                  <a:pt x="736" y="69"/>
                </a:lnTo>
                <a:lnTo>
                  <a:pt x="768" y="80"/>
                </a:lnTo>
                <a:lnTo>
                  <a:pt x="799" y="93"/>
                </a:lnTo>
                <a:lnTo>
                  <a:pt x="827" y="107"/>
                </a:lnTo>
                <a:lnTo>
                  <a:pt x="854" y="121"/>
                </a:lnTo>
                <a:lnTo>
                  <a:pt x="877" y="137"/>
                </a:lnTo>
                <a:lnTo>
                  <a:pt x="899" y="153"/>
                </a:lnTo>
                <a:lnTo>
                  <a:pt x="918" y="169"/>
                </a:lnTo>
                <a:lnTo>
                  <a:pt x="934" y="187"/>
                </a:lnTo>
                <a:lnTo>
                  <a:pt x="948" y="205"/>
                </a:lnTo>
                <a:lnTo>
                  <a:pt x="958" y="224"/>
                </a:lnTo>
                <a:lnTo>
                  <a:pt x="967" y="243"/>
                </a:lnTo>
                <a:lnTo>
                  <a:pt x="972" y="262"/>
                </a:lnTo>
                <a:lnTo>
                  <a:pt x="974" y="281"/>
                </a:lnTo>
                <a:lnTo>
                  <a:pt x="974" y="300"/>
                </a:lnTo>
                <a:lnTo>
                  <a:pt x="970" y="320"/>
                </a:lnTo>
                <a:lnTo>
                  <a:pt x="964" y="340"/>
                </a:lnTo>
                <a:lnTo>
                  <a:pt x="953" y="359"/>
                </a:lnTo>
                <a:lnTo>
                  <a:pt x="940" y="378"/>
                </a:lnTo>
                <a:lnTo>
                  <a:pt x="926" y="396"/>
                </a:lnTo>
                <a:lnTo>
                  <a:pt x="908" y="413"/>
                </a:lnTo>
                <a:lnTo>
                  <a:pt x="888" y="429"/>
                </a:lnTo>
                <a:lnTo>
                  <a:pt x="864" y="445"/>
                </a:lnTo>
                <a:lnTo>
                  <a:pt x="840" y="460"/>
                </a:lnTo>
                <a:lnTo>
                  <a:pt x="813" y="474"/>
                </a:lnTo>
                <a:lnTo>
                  <a:pt x="783" y="487"/>
                </a:lnTo>
                <a:lnTo>
                  <a:pt x="752" y="499"/>
                </a:lnTo>
                <a:lnTo>
                  <a:pt x="719" y="510"/>
                </a:lnTo>
                <a:lnTo>
                  <a:pt x="685" y="519"/>
                </a:lnTo>
                <a:lnTo>
                  <a:pt x="648" y="527"/>
                </a:lnTo>
                <a:lnTo>
                  <a:pt x="610" y="535"/>
                </a:lnTo>
                <a:lnTo>
                  <a:pt x="571" y="541"/>
                </a:lnTo>
                <a:lnTo>
                  <a:pt x="531" y="545"/>
                </a:lnTo>
                <a:lnTo>
                  <a:pt x="491" y="548"/>
                </a:lnTo>
                <a:lnTo>
                  <a:pt x="451" y="549"/>
                </a:lnTo>
                <a:lnTo>
                  <a:pt x="410" y="549"/>
                </a:lnTo>
                <a:lnTo>
                  <a:pt x="371" y="548"/>
                </a:lnTo>
                <a:lnTo>
                  <a:pt x="332" y="545"/>
                </a:lnTo>
                <a:lnTo>
                  <a:pt x="293" y="541"/>
                </a:lnTo>
                <a:lnTo>
                  <a:pt x="255" y="535"/>
                </a:lnTo>
                <a:lnTo>
                  <a:pt x="218" y="528"/>
                </a:lnTo>
                <a:lnTo>
                  <a:pt x="183" y="520"/>
                </a:lnTo>
                <a:lnTo>
                  <a:pt x="149" y="511"/>
                </a:lnTo>
                <a:lnTo>
                  <a:pt x="115" y="500"/>
                </a:lnTo>
                <a:lnTo>
                  <a:pt x="83" y="489"/>
                </a:lnTo>
                <a:lnTo>
                  <a:pt x="54" y="475"/>
                </a:lnTo>
                <a:lnTo>
                  <a:pt x="26" y="462"/>
                </a:lnTo>
                <a:lnTo>
                  <a:pt x="0" y="446"/>
                </a:lnTo>
                <a:lnTo>
                  <a:pt x="0" y="451"/>
                </a:lnTo>
                <a:lnTo>
                  <a:pt x="0" y="455"/>
                </a:lnTo>
                <a:lnTo>
                  <a:pt x="0" y="460"/>
                </a:lnTo>
                <a:lnTo>
                  <a:pt x="1" y="465"/>
                </a:lnTo>
                <a:lnTo>
                  <a:pt x="1" y="470"/>
                </a:lnTo>
                <a:lnTo>
                  <a:pt x="1" y="474"/>
                </a:lnTo>
                <a:lnTo>
                  <a:pt x="2" y="479"/>
                </a:lnTo>
                <a:lnTo>
                  <a:pt x="2" y="483"/>
                </a:lnTo>
                <a:lnTo>
                  <a:pt x="22" y="493"/>
                </a:lnTo>
                <a:lnTo>
                  <a:pt x="43" y="503"/>
                </a:lnTo>
                <a:lnTo>
                  <a:pt x="65" y="512"/>
                </a:lnTo>
                <a:lnTo>
                  <a:pt x="87" y="520"/>
                </a:lnTo>
                <a:lnTo>
                  <a:pt x="111" y="527"/>
                </a:lnTo>
                <a:lnTo>
                  <a:pt x="135" y="535"/>
                </a:lnTo>
                <a:lnTo>
                  <a:pt x="159" y="541"/>
                </a:lnTo>
                <a:lnTo>
                  <a:pt x="183" y="547"/>
                </a:lnTo>
                <a:lnTo>
                  <a:pt x="209" y="552"/>
                </a:lnTo>
                <a:lnTo>
                  <a:pt x="235" y="557"/>
                </a:lnTo>
                <a:lnTo>
                  <a:pt x="260" y="561"/>
                </a:lnTo>
                <a:lnTo>
                  <a:pt x="287" y="565"/>
                </a:lnTo>
                <a:lnTo>
                  <a:pt x="313" y="567"/>
                </a:lnTo>
                <a:lnTo>
                  <a:pt x="341" y="570"/>
                </a:lnTo>
                <a:lnTo>
                  <a:pt x="367" y="571"/>
                </a:lnTo>
                <a:lnTo>
                  <a:pt x="395" y="572"/>
                </a:lnTo>
                <a:lnTo>
                  <a:pt x="421" y="574"/>
                </a:lnTo>
                <a:lnTo>
                  <a:pt x="448" y="573"/>
                </a:lnTo>
                <a:lnTo>
                  <a:pt x="476" y="572"/>
                </a:lnTo>
                <a:lnTo>
                  <a:pt x="503" y="571"/>
                </a:lnTo>
                <a:lnTo>
                  <a:pt x="530" y="569"/>
                </a:lnTo>
                <a:lnTo>
                  <a:pt x="557" y="567"/>
                </a:lnTo>
                <a:lnTo>
                  <a:pt x="584" y="564"/>
                </a:lnTo>
                <a:lnTo>
                  <a:pt x="610" y="560"/>
                </a:lnTo>
                <a:lnTo>
                  <a:pt x="636" y="556"/>
                </a:lnTo>
                <a:lnTo>
                  <a:pt x="662" y="551"/>
                </a:lnTo>
                <a:lnTo>
                  <a:pt x="687" y="545"/>
                </a:lnTo>
                <a:lnTo>
                  <a:pt x="712" y="539"/>
                </a:lnTo>
                <a:lnTo>
                  <a:pt x="737" y="533"/>
                </a:lnTo>
                <a:lnTo>
                  <a:pt x="761" y="525"/>
                </a:lnTo>
                <a:lnTo>
                  <a:pt x="784" y="517"/>
                </a:lnTo>
                <a:lnTo>
                  <a:pt x="807" y="509"/>
                </a:lnTo>
                <a:lnTo>
                  <a:pt x="830" y="499"/>
                </a:lnTo>
                <a:lnTo>
                  <a:pt x="850" y="490"/>
                </a:lnTo>
                <a:lnTo>
                  <a:pt x="870" y="480"/>
                </a:lnTo>
                <a:lnTo>
                  <a:pt x="889" y="470"/>
                </a:lnTo>
                <a:lnTo>
                  <a:pt x="906" y="459"/>
                </a:lnTo>
                <a:lnTo>
                  <a:pt x="921" y="448"/>
                </a:lnTo>
                <a:lnTo>
                  <a:pt x="936" y="436"/>
                </a:lnTo>
                <a:lnTo>
                  <a:pt x="951" y="425"/>
                </a:lnTo>
                <a:lnTo>
                  <a:pt x="964" y="413"/>
                </a:lnTo>
                <a:lnTo>
                  <a:pt x="974" y="401"/>
                </a:lnTo>
                <a:lnTo>
                  <a:pt x="985" y="389"/>
                </a:lnTo>
                <a:lnTo>
                  <a:pt x="994" y="376"/>
                </a:lnTo>
                <a:lnTo>
                  <a:pt x="1002" y="364"/>
                </a:lnTo>
                <a:lnTo>
                  <a:pt x="1009" y="351"/>
                </a:lnTo>
                <a:lnTo>
                  <a:pt x="1014" y="338"/>
                </a:lnTo>
                <a:lnTo>
                  <a:pt x="1019" y="325"/>
                </a:lnTo>
                <a:lnTo>
                  <a:pt x="1022" y="312"/>
                </a:lnTo>
                <a:lnTo>
                  <a:pt x="1023" y="299"/>
                </a:lnTo>
                <a:lnTo>
                  <a:pt x="1024" y="286"/>
                </a:lnTo>
                <a:lnTo>
                  <a:pt x="1023" y="272"/>
                </a:lnTo>
                <a:lnTo>
                  <a:pt x="1021" y="259"/>
                </a:lnTo>
                <a:lnTo>
                  <a:pt x="1017" y="246"/>
                </a:lnTo>
                <a:lnTo>
                  <a:pt x="1013" y="233"/>
                </a:lnTo>
                <a:lnTo>
                  <a:pt x="1008" y="220"/>
                </a:lnTo>
                <a:lnTo>
                  <a:pt x="1001" y="207"/>
                </a:lnTo>
                <a:lnTo>
                  <a:pt x="992" y="194"/>
                </a:lnTo>
                <a:lnTo>
                  <a:pt x="983" y="181"/>
                </a:lnTo>
                <a:lnTo>
                  <a:pt x="972" y="169"/>
                </a:lnTo>
                <a:lnTo>
                  <a:pt x="959" y="157"/>
                </a:lnTo>
                <a:lnTo>
                  <a:pt x="946" y="144"/>
                </a:lnTo>
                <a:lnTo>
                  <a:pt x="931" y="133"/>
                </a:lnTo>
                <a:lnTo>
                  <a:pt x="915" y="121"/>
                </a:lnTo>
                <a:lnTo>
                  <a:pt x="898" y="110"/>
                </a:lnTo>
                <a:lnTo>
                  <a:pt x="879" y="99"/>
                </a:lnTo>
                <a:lnTo>
                  <a:pt x="860" y="89"/>
                </a:lnTo>
                <a:lnTo>
                  <a:pt x="840" y="79"/>
                </a:lnTo>
                <a:lnTo>
                  <a:pt x="820" y="70"/>
                </a:lnTo>
                <a:lnTo>
                  <a:pt x="798" y="61"/>
                </a:lnTo>
                <a:lnTo>
                  <a:pt x="776" y="53"/>
                </a:lnTo>
                <a:lnTo>
                  <a:pt x="754" y="46"/>
                </a:lnTo>
                <a:lnTo>
                  <a:pt x="729" y="39"/>
                </a:lnTo>
                <a:lnTo>
                  <a:pt x="706" y="32"/>
                </a:lnTo>
                <a:lnTo>
                  <a:pt x="681" y="26"/>
                </a:lnTo>
                <a:lnTo>
                  <a:pt x="656" y="21"/>
                </a:lnTo>
                <a:lnTo>
                  <a:pt x="630" y="17"/>
                </a:lnTo>
                <a:lnTo>
                  <a:pt x="605" y="12"/>
                </a:lnTo>
                <a:lnTo>
                  <a:pt x="578" y="9"/>
                </a:lnTo>
                <a:lnTo>
                  <a:pt x="552" y="6"/>
                </a:lnTo>
                <a:lnTo>
                  <a:pt x="524" y="3"/>
                </a:lnTo>
                <a:lnTo>
                  <a:pt x="498" y="2"/>
                </a:lnTo>
                <a:lnTo>
                  <a:pt x="471" y="1"/>
                </a:lnTo>
                <a:lnTo>
                  <a:pt x="443" y="0"/>
                </a:lnTo>
                <a:lnTo>
                  <a:pt x="416" y="0"/>
                </a:lnTo>
                <a:lnTo>
                  <a:pt x="388" y="1"/>
                </a:lnTo>
                <a:lnTo>
                  <a:pt x="361" y="2"/>
                </a:lnTo>
                <a:lnTo>
                  <a:pt x="333" y="4"/>
                </a:lnTo>
                <a:lnTo>
                  <a:pt x="306" y="6"/>
                </a:lnTo>
                <a:lnTo>
                  <a:pt x="279" y="9"/>
                </a:lnTo>
                <a:lnTo>
                  <a:pt x="252" y="13"/>
                </a:lnTo>
                <a:lnTo>
                  <a:pt x="226" y="18"/>
                </a:lnTo>
                <a:lnTo>
                  <a:pt x="198" y="23"/>
                </a:lnTo>
                <a:lnTo>
                  <a:pt x="173" y="28"/>
                </a:lnTo>
                <a:lnTo>
                  <a:pt x="146" y="34"/>
                </a:lnTo>
                <a:lnTo>
                  <a:pt x="121" y="42"/>
                </a:lnTo>
              </a:path>
            </a:pathLst>
          </a:cu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617920" y="3809880"/>
            <a:ext cx="1547640" cy="835200"/>
          </a:xfrm>
          <a:custGeom>
            <a:avLst/>
            <a:gdLst/>
            <a:ahLst/>
            <a:rect l="l" t="t" r="r" b="b"/>
            <a:pathLst>
              <a:path w="975" h="526">
                <a:moveTo>
                  <a:pt x="96" y="55"/>
                </a:moveTo>
                <a:lnTo>
                  <a:pt x="93" y="61"/>
                </a:lnTo>
                <a:lnTo>
                  <a:pt x="89" y="66"/>
                </a:lnTo>
                <a:lnTo>
                  <a:pt x="86" y="72"/>
                </a:lnTo>
                <a:lnTo>
                  <a:pt x="84" y="77"/>
                </a:lnTo>
                <a:lnTo>
                  <a:pt x="81" y="83"/>
                </a:lnTo>
                <a:lnTo>
                  <a:pt x="78" y="88"/>
                </a:lnTo>
                <a:lnTo>
                  <a:pt x="75" y="94"/>
                </a:lnTo>
                <a:lnTo>
                  <a:pt x="71" y="99"/>
                </a:lnTo>
                <a:lnTo>
                  <a:pt x="100" y="86"/>
                </a:lnTo>
                <a:lnTo>
                  <a:pt x="130" y="74"/>
                </a:lnTo>
                <a:lnTo>
                  <a:pt x="161" y="63"/>
                </a:lnTo>
                <a:lnTo>
                  <a:pt x="195" y="53"/>
                </a:lnTo>
                <a:lnTo>
                  <a:pt x="229" y="45"/>
                </a:lnTo>
                <a:lnTo>
                  <a:pt x="265" y="38"/>
                </a:lnTo>
                <a:lnTo>
                  <a:pt x="301" y="32"/>
                </a:lnTo>
                <a:lnTo>
                  <a:pt x="338" y="28"/>
                </a:lnTo>
                <a:lnTo>
                  <a:pt x="376" y="25"/>
                </a:lnTo>
                <a:lnTo>
                  <a:pt x="414" y="24"/>
                </a:lnTo>
                <a:lnTo>
                  <a:pt x="452" y="24"/>
                </a:lnTo>
                <a:lnTo>
                  <a:pt x="491" y="25"/>
                </a:lnTo>
                <a:lnTo>
                  <a:pt x="529" y="28"/>
                </a:lnTo>
                <a:lnTo>
                  <a:pt x="567" y="33"/>
                </a:lnTo>
                <a:lnTo>
                  <a:pt x="604" y="39"/>
                </a:lnTo>
                <a:lnTo>
                  <a:pt x="641" y="46"/>
                </a:lnTo>
                <a:lnTo>
                  <a:pt x="675" y="55"/>
                </a:lnTo>
                <a:lnTo>
                  <a:pt x="709" y="65"/>
                </a:lnTo>
                <a:lnTo>
                  <a:pt x="741" y="76"/>
                </a:lnTo>
                <a:lnTo>
                  <a:pt x="769" y="89"/>
                </a:lnTo>
                <a:lnTo>
                  <a:pt x="797" y="102"/>
                </a:lnTo>
                <a:lnTo>
                  <a:pt x="821" y="116"/>
                </a:lnTo>
                <a:lnTo>
                  <a:pt x="843" y="131"/>
                </a:lnTo>
                <a:lnTo>
                  <a:pt x="863" y="147"/>
                </a:lnTo>
                <a:lnTo>
                  <a:pt x="880" y="164"/>
                </a:lnTo>
                <a:lnTo>
                  <a:pt x="895" y="181"/>
                </a:lnTo>
                <a:lnTo>
                  <a:pt x="907" y="199"/>
                </a:lnTo>
                <a:lnTo>
                  <a:pt x="915" y="217"/>
                </a:lnTo>
                <a:lnTo>
                  <a:pt x="921" y="235"/>
                </a:lnTo>
                <a:lnTo>
                  <a:pt x="925" y="254"/>
                </a:lnTo>
                <a:lnTo>
                  <a:pt x="923" y="273"/>
                </a:lnTo>
                <a:lnTo>
                  <a:pt x="920" y="292"/>
                </a:lnTo>
                <a:lnTo>
                  <a:pt x="914" y="311"/>
                </a:lnTo>
                <a:lnTo>
                  <a:pt x="904" y="330"/>
                </a:lnTo>
                <a:lnTo>
                  <a:pt x="892" y="347"/>
                </a:lnTo>
                <a:lnTo>
                  <a:pt x="877" y="365"/>
                </a:lnTo>
                <a:lnTo>
                  <a:pt x="859" y="381"/>
                </a:lnTo>
                <a:lnTo>
                  <a:pt x="839" y="397"/>
                </a:lnTo>
                <a:lnTo>
                  <a:pt x="816" y="412"/>
                </a:lnTo>
                <a:lnTo>
                  <a:pt x="790" y="426"/>
                </a:lnTo>
                <a:lnTo>
                  <a:pt x="764" y="439"/>
                </a:lnTo>
                <a:lnTo>
                  <a:pt x="735" y="451"/>
                </a:lnTo>
                <a:lnTo>
                  <a:pt x="703" y="462"/>
                </a:lnTo>
                <a:lnTo>
                  <a:pt x="670" y="472"/>
                </a:lnTo>
                <a:lnTo>
                  <a:pt x="635" y="480"/>
                </a:lnTo>
                <a:lnTo>
                  <a:pt x="599" y="487"/>
                </a:lnTo>
                <a:lnTo>
                  <a:pt x="562" y="493"/>
                </a:lnTo>
                <a:lnTo>
                  <a:pt x="523" y="497"/>
                </a:lnTo>
                <a:lnTo>
                  <a:pt x="484" y="500"/>
                </a:lnTo>
                <a:lnTo>
                  <a:pt x="445" y="501"/>
                </a:lnTo>
                <a:lnTo>
                  <a:pt x="406" y="501"/>
                </a:lnTo>
                <a:lnTo>
                  <a:pt x="367" y="499"/>
                </a:lnTo>
                <a:lnTo>
                  <a:pt x="329" y="496"/>
                </a:lnTo>
                <a:lnTo>
                  <a:pt x="292" y="492"/>
                </a:lnTo>
                <a:lnTo>
                  <a:pt x="256" y="486"/>
                </a:lnTo>
                <a:lnTo>
                  <a:pt x="221" y="479"/>
                </a:lnTo>
                <a:lnTo>
                  <a:pt x="188" y="470"/>
                </a:lnTo>
                <a:lnTo>
                  <a:pt x="155" y="461"/>
                </a:lnTo>
                <a:lnTo>
                  <a:pt x="124" y="449"/>
                </a:lnTo>
                <a:lnTo>
                  <a:pt x="96" y="438"/>
                </a:lnTo>
                <a:lnTo>
                  <a:pt x="68" y="424"/>
                </a:lnTo>
                <a:lnTo>
                  <a:pt x="44" y="409"/>
                </a:lnTo>
                <a:lnTo>
                  <a:pt x="21" y="394"/>
                </a:lnTo>
                <a:lnTo>
                  <a:pt x="1" y="378"/>
                </a:lnTo>
                <a:lnTo>
                  <a:pt x="1" y="381"/>
                </a:lnTo>
                <a:lnTo>
                  <a:pt x="0" y="385"/>
                </a:lnTo>
                <a:lnTo>
                  <a:pt x="0" y="388"/>
                </a:lnTo>
                <a:lnTo>
                  <a:pt x="0" y="392"/>
                </a:lnTo>
                <a:lnTo>
                  <a:pt x="0" y="396"/>
                </a:lnTo>
                <a:lnTo>
                  <a:pt x="0" y="399"/>
                </a:lnTo>
                <a:lnTo>
                  <a:pt x="0" y="403"/>
                </a:lnTo>
                <a:lnTo>
                  <a:pt x="0" y="406"/>
                </a:lnTo>
                <a:lnTo>
                  <a:pt x="0" y="408"/>
                </a:lnTo>
                <a:lnTo>
                  <a:pt x="0" y="410"/>
                </a:lnTo>
                <a:lnTo>
                  <a:pt x="0" y="412"/>
                </a:lnTo>
                <a:lnTo>
                  <a:pt x="0" y="414"/>
                </a:lnTo>
                <a:lnTo>
                  <a:pt x="0" y="416"/>
                </a:lnTo>
                <a:lnTo>
                  <a:pt x="0" y="418"/>
                </a:lnTo>
                <a:lnTo>
                  <a:pt x="0" y="420"/>
                </a:lnTo>
                <a:lnTo>
                  <a:pt x="0" y="422"/>
                </a:lnTo>
                <a:lnTo>
                  <a:pt x="26" y="438"/>
                </a:lnTo>
                <a:lnTo>
                  <a:pt x="54" y="451"/>
                </a:lnTo>
                <a:lnTo>
                  <a:pt x="83" y="465"/>
                </a:lnTo>
                <a:lnTo>
                  <a:pt x="115" y="476"/>
                </a:lnTo>
                <a:lnTo>
                  <a:pt x="149" y="487"/>
                </a:lnTo>
                <a:lnTo>
                  <a:pt x="183" y="496"/>
                </a:lnTo>
                <a:lnTo>
                  <a:pt x="218" y="504"/>
                </a:lnTo>
                <a:lnTo>
                  <a:pt x="255" y="511"/>
                </a:lnTo>
                <a:lnTo>
                  <a:pt x="293" y="517"/>
                </a:lnTo>
                <a:lnTo>
                  <a:pt x="332" y="521"/>
                </a:lnTo>
                <a:lnTo>
                  <a:pt x="371" y="524"/>
                </a:lnTo>
                <a:lnTo>
                  <a:pt x="410" y="525"/>
                </a:lnTo>
                <a:lnTo>
                  <a:pt x="451" y="525"/>
                </a:lnTo>
                <a:lnTo>
                  <a:pt x="491" y="524"/>
                </a:lnTo>
                <a:lnTo>
                  <a:pt x="531" y="521"/>
                </a:lnTo>
                <a:lnTo>
                  <a:pt x="571" y="517"/>
                </a:lnTo>
                <a:lnTo>
                  <a:pt x="610" y="511"/>
                </a:lnTo>
                <a:lnTo>
                  <a:pt x="648" y="503"/>
                </a:lnTo>
                <a:lnTo>
                  <a:pt x="685" y="495"/>
                </a:lnTo>
                <a:lnTo>
                  <a:pt x="719" y="486"/>
                </a:lnTo>
                <a:lnTo>
                  <a:pt x="752" y="475"/>
                </a:lnTo>
                <a:lnTo>
                  <a:pt x="783" y="463"/>
                </a:lnTo>
                <a:lnTo>
                  <a:pt x="813" y="450"/>
                </a:lnTo>
                <a:lnTo>
                  <a:pt x="840" y="436"/>
                </a:lnTo>
                <a:lnTo>
                  <a:pt x="864" y="421"/>
                </a:lnTo>
                <a:lnTo>
                  <a:pt x="888" y="405"/>
                </a:lnTo>
                <a:lnTo>
                  <a:pt x="908" y="389"/>
                </a:lnTo>
                <a:lnTo>
                  <a:pt x="926" y="372"/>
                </a:lnTo>
                <a:lnTo>
                  <a:pt x="940" y="354"/>
                </a:lnTo>
                <a:lnTo>
                  <a:pt x="953" y="335"/>
                </a:lnTo>
                <a:lnTo>
                  <a:pt x="964" y="316"/>
                </a:lnTo>
                <a:lnTo>
                  <a:pt x="970" y="296"/>
                </a:lnTo>
                <a:lnTo>
                  <a:pt x="974" y="276"/>
                </a:lnTo>
                <a:lnTo>
                  <a:pt x="974" y="257"/>
                </a:lnTo>
                <a:lnTo>
                  <a:pt x="972" y="238"/>
                </a:lnTo>
                <a:lnTo>
                  <a:pt x="967" y="219"/>
                </a:lnTo>
                <a:lnTo>
                  <a:pt x="958" y="200"/>
                </a:lnTo>
                <a:lnTo>
                  <a:pt x="948" y="181"/>
                </a:lnTo>
                <a:lnTo>
                  <a:pt x="934" y="163"/>
                </a:lnTo>
                <a:lnTo>
                  <a:pt x="918" y="145"/>
                </a:lnTo>
                <a:lnTo>
                  <a:pt x="899" y="129"/>
                </a:lnTo>
                <a:lnTo>
                  <a:pt x="877" y="113"/>
                </a:lnTo>
                <a:lnTo>
                  <a:pt x="854" y="97"/>
                </a:lnTo>
                <a:lnTo>
                  <a:pt x="827" y="83"/>
                </a:lnTo>
                <a:lnTo>
                  <a:pt x="799" y="69"/>
                </a:lnTo>
                <a:lnTo>
                  <a:pt x="768" y="56"/>
                </a:lnTo>
                <a:lnTo>
                  <a:pt x="736" y="45"/>
                </a:lnTo>
                <a:lnTo>
                  <a:pt x="701" y="35"/>
                </a:lnTo>
                <a:lnTo>
                  <a:pt x="665" y="25"/>
                </a:lnTo>
                <a:lnTo>
                  <a:pt x="627" y="18"/>
                </a:lnTo>
                <a:lnTo>
                  <a:pt x="589" y="11"/>
                </a:lnTo>
                <a:lnTo>
                  <a:pt x="550" y="6"/>
                </a:lnTo>
                <a:lnTo>
                  <a:pt x="511" y="2"/>
                </a:lnTo>
                <a:lnTo>
                  <a:pt x="472" y="0"/>
                </a:lnTo>
                <a:lnTo>
                  <a:pt x="432" y="0"/>
                </a:lnTo>
                <a:lnTo>
                  <a:pt x="392" y="0"/>
                </a:lnTo>
                <a:lnTo>
                  <a:pt x="353" y="2"/>
                </a:lnTo>
                <a:lnTo>
                  <a:pt x="314" y="6"/>
                </a:lnTo>
                <a:lnTo>
                  <a:pt x="275" y="10"/>
                </a:lnTo>
                <a:lnTo>
                  <a:pt x="237" y="17"/>
                </a:lnTo>
                <a:lnTo>
                  <a:pt x="200" y="24"/>
                </a:lnTo>
                <a:lnTo>
                  <a:pt x="164" y="33"/>
                </a:lnTo>
                <a:lnTo>
                  <a:pt x="130" y="44"/>
                </a:lnTo>
                <a:lnTo>
                  <a:pt x="96" y="55"/>
                </a:lnTo>
              </a:path>
            </a:pathLst>
          </a:cu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619360" y="3848040"/>
            <a:ext cx="1468440" cy="758880"/>
          </a:xfrm>
          <a:custGeom>
            <a:avLst/>
            <a:gdLst/>
            <a:ahLst/>
            <a:rect l="l" t="t" r="r" b="b"/>
            <a:pathLst>
              <a:path w="925" h="478">
                <a:moveTo>
                  <a:pt x="70" y="75"/>
                </a:moveTo>
                <a:lnTo>
                  <a:pt x="67" y="83"/>
                </a:lnTo>
                <a:lnTo>
                  <a:pt x="64" y="89"/>
                </a:lnTo>
                <a:lnTo>
                  <a:pt x="61" y="96"/>
                </a:lnTo>
                <a:lnTo>
                  <a:pt x="58" y="104"/>
                </a:lnTo>
                <a:lnTo>
                  <a:pt x="55" y="111"/>
                </a:lnTo>
                <a:lnTo>
                  <a:pt x="51" y="118"/>
                </a:lnTo>
                <a:lnTo>
                  <a:pt x="48" y="125"/>
                </a:lnTo>
                <a:lnTo>
                  <a:pt x="45" y="132"/>
                </a:lnTo>
                <a:lnTo>
                  <a:pt x="65" y="116"/>
                </a:lnTo>
                <a:lnTo>
                  <a:pt x="88" y="102"/>
                </a:lnTo>
                <a:lnTo>
                  <a:pt x="115" y="88"/>
                </a:lnTo>
                <a:lnTo>
                  <a:pt x="142" y="75"/>
                </a:lnTo>
                <a:lnTo>
                  <a:pt x="172" y="64"/>
                </a:lnTo>
                <a:lnTo>
                  <a:pt x="202" y="54"/>
                </a:lnTo>
                <a:lnTo>
                  <a:pt x="236" y="45"/>
                </a:lnTo>
                <a:lnTo>
                  <a:pt x="270" y="38"/>
                </a:lnTo>
                <a:lnTo>
                  <a:pt x="306" y="32"/>
                </a:lnTo>
                <a:lnTo>
                  <a:pt x="342" y="28"/>
                </a:lnTo>
                <a:lnTo>
                  <a:pt x="379" y="25"/>
                </a:lnTo>
                <a:lnTo>
                  <a:pt x="417" y="24"/>
                </a:lnTo>
                <a:lnTo>
                  <a:pt x="455" y="24"/>
                </a:lnTo>
                <a:lnTo>
                  <a:pt x="493" y="26"/>
                </a:lnTo>
                <a:lnTo>
                  <a:pt x="531" y="29"/>
                </a:lnTo>
                <a:lnTo>
                  <a:pt x="569" y="35"/>
                </a:lnTo>
                <a:lnTo>
                  <a:pt x="606" y="41"/>
                </a:lnTo>
                <a:lnTo>
                  <a:pt x="641" y="49"/>
                </a:lnTo>
                <a:lnTo>
                  <a:pt x="673" y="59"/>
                </a:lnTo>
                <a:lnTo>
                  <a:pt x="704" y="69"/>
                </a:lnTo>
                <a:lnTo>
                  <a:pt x="732" y="82"/>
                </a:lnTo>
                <a:lnTo>
                  <a:pt x="759" y="94"/>
                </a:lnTo>
                <a:lnTo>
                  <a:pt x="783" y="109"/>
                </a:lnTo>
                <a:lnTo>
                  <a:pt x="804" y="124"/>
                </a:lnTo>
                <a:lnTo>
                  <a:pt x="823" y="139"/>
                </a:lnTo>
                <a:lnTo>
                  <a:pt x="839" y="156"/>
                </a:lnTo>
                <a:lnTo>
                  <a:pt x="853" y="173"/>
                </a:lnTo>
                <a:lnTo>
                  <a:pt x="862" y="190"/>
                </a:lnTo>
                <a:lnTo>
                  <a:pt x="870" y="208"/>
                </a:lnTo>
                <a:lnTo>
                  <a:pt x="873" y="227"/>
                </a:lnTo>
                <a:lnTo>
                  <a:pt x="874" y="246"/>
                </a:lnTo>
                <a:lnTo>
                  <a:pt x="871" y="265"/>
                </a:lnTo>
                <a:lnTo>
                  <a:pt x="864" y="284"/>
                </a:lnTo>
                <a:lnTo>
                  <a:pt x="855" y="302"/>
                </a:lnTo>
                <a:lnTo>
                  <a:pt x="842" y="319"/>
                </a:lnTo>
                <a:lnTo>
                  <a:pt x="826" y="336"/>
                </a:lnTo>
                <a:lnTo>
                  <a:pt x="807" y="352"/>
                </a:lnTo>
                <a:lnTo>
                  <a:pt x="786" y="367"/>
                </a:lnTo>
                <a:lnTo>
                  <a:pt x="763" y="381"/>
                </a:lnTo>
                <a:lnTo>
                  <a:pt x="737" y="394"/>
                </a:lnTo>
                <a:lnTo>
                  <a:pt x="708" y="406"/>
                </a:lnTo>
                <a:lnTo>
                  <a:pt x="679" y="417"/>
                </a:lnTo>
                <a:lnTo>
                  <a:pt x="646" y="426"/>
                </a:lnTo>
                <a:lnTo>
                  <a:pt x="612" y="434"/>
                </a:lnTo>
                <a:lnTo>
                  <a:pt x="577" y="442"/>
                </a:lnTo>
                <a:lnTo>
                  <a:pt x="540" y="447"/>
                </a:lnTo>
                <a:lnTo>
                  <a:pt x="502" y="451"/>
                </a:lnTo>
                <a:lnTo>
                  <a:pt x="463" y="453"/>
                </a:lnTo>
                <a:lnTo>
                  <a:pt x="424" y="453"/>
                </a:lnTo>
                <a:lnTo>
                  <a:pt x="385" y="452"/>
                </a:lnTo>
                <a:lnTo>
                  <a:pt x="347" y="450"/>
                </a:lnTo>
                <a:lnTo>
                  <a:pt x="310" y="446"/>
                </a:lnTo>
                <a:lnTo>
                  <a:pt x="274" y="440"/>
                </a:lnTo>
                <a:lnTo>
                  <a:pt x="239" y="432"/>
                </a:lnTo>
                <a:lnTo>
                  <a:pt x="207" y="424"/>
                </a:lnTo>
                <a:lnTo>
                  <a:pt x="175" y="415"/>
                </a:lnTo>
                <a:lnTo>
                  <a:pt x="145" y="403"/>
                </a:lnTo>
                <a:lnTo>
                  <a:pt x="118" y="391"/>
                </a:lnTo>
                <a:lnTo>
                  <a:pt x="93" y="378"/>
                </a:lnTo>
                <a:lnTo>
                  <a:pt x="69" y="363"/>
                </a:lnTo>
                <a:lnTo>
                  <a:pt x="49" y="348"/>
                </a:lnTo>
                <a:lnTo>
                  <a:pt x="31" y="332"/>
                </a:lnTo>
                <a:lnTo>
                  <a:pt x="16" y="315"/>
                </a:lnTo>
                <a:lnTo>
                  <a:pt x="4" y="297"/>
                </a:lnTo>
                <a:lnTo>
                  <a:pt x="3" y="304"/>
                </a:lnTo>
                <a:lnTo>
                  <a:pt x="3" y="311"/>
                </a:lnTo>
                <a:lnTo>
                  <a:pt x="2" y="318"/>
                </a:lnTo>
                <a:lnTo>
                  <a:pt x="1" y="325"/>
                </a:lnTo>
                <a:lnTo>
                  <a:pt x="1" y="332"/>
                </a:lnTo>
                <a:lnTo>
                  <a:pt x="0" y="339"/>
                </a:lnTo>
                <a:lnTo>
                  <a:pt x="0" y="347"/>
                </a:lnTo>
                <a:lnTo>
                  <a:pt x="0" y="354"/>
                </a:lnTo>
                <a:lnTo>
                  <a:pt x="20" y="370"/>
                </a:lnTo>
                <a:lnTo>
                  <a:pt x="43" y="385"/>
                </a:lnTo>
                <a:lnTo>
                  <a:pt x="67" y="400"/>
                </a:lnTo>
                <a:lnTo>
                  <a:pt x="95" y="414"/>
                </a:lnTo>
                <a:lnTo>
                  <a:pt x="123" y="425"/>
                </a:lnTo>
                <a:lnTo>
                  <a:pt x="154" y="437"/>
                </a:lnTo>
                <a:lnTo>
                  <a:pt x="187" y="446"/>
                </a:lnTo>
                <a:lnTo>
                  <a:pt x="220" y="455"/>
                </a:lnTo>
                <a:lnTo>
                  <a:pt x="255" y="462"/>
                </a:lnTo>
                <a:lnTo>
                  <a:pt x="291" y="468"/>
                </a:lnTo>
                <a:lnTo>
                  <a:pt x="328" y="472"/>
                </a:lnTo>
                <a:lnTo>
                  <a:pt x="366" y="475"/>
                </a:lnTo>
                <a:lnTo>
                  <a:pt x="405" y="477"/>
                </a:lnTo>
                <a:lnTo>
                  <a:pt x="444" y="477"/>
                </a:lnTo>
                <a:lnTo>
                  <a:pt x="483" y="476"/>
                </a:lnTo>
                <a:lnTo>
                  <a:pt x="522" y="473"/>
                </a:lnTo>
                <a:lnTo>
                  <a:pt x="561" y="469"/>
                </a:lnTo>
                <a:lnTo>
                  <a:pt x="598" y="463"/>
                </a:lnTo>
                <a:lnTo>
                  <a:pt x="634" y="456"/>
                </a:lnTo>
                <a:lnTo>
                  <a:pt x="669" y="448"/>
                </a:lnTo>
                <a:lnTo>
                  <a:pt x="702" y="438"/>
                </a:lnTo>
                <a:lnTo>
                  <a:pt x="734" y="427"/>
                </a:lnTo>
                <a:lnTo>
                  <a:pt x="763" y="415"/>
                </a:lnTo>
                <a:lnTo>
                  <a:pt x="789" y="402"/>
                </a:lnTo>
                <a:lnTo>
                  <a:pt x="815" y="388"/>
                </a:lnTo>
                <a:lnTo>
                  <a:pt x="838" y="373"/>
                </a:lnTo>
                <a:lnTo>
                  <a:pt x="858" y="357"/>
                </a:lnTo>
                <a:lnTo>
                  <a:pt x="876" y="341"/>
                </a:lnTo>
                <a:lnTo>
                  <a:pt x="891" y="323"/>
                </a:lnTo>
                <a:lnTo>
                  <a:pt x="903" y="306"/>
                </a:lnTo>
                <a:lnTo>
                  <a:pt x="913" y="287"/>
                </a:lnTo>
                <a:lnTo>
                  <a:pt x="919" y="268"/>
                </a:lnTo>
                <a:lnTo>
                  <a:pt x="922" y="249"/>
                </a:lnTo>
                <a:lnTo>
                  <a:pt x="924" y="230"/>
                </a:lnTo>
                <a:lnTo>
                  <a:pt x="920" y="211"/>
                </a:lnTo>
                <a:lnTo>
                  <a:pt x="914" y="193"/>
                </a:lnTo>
                <a:lnTo>
                  <a:pt x="906" y="175"/>
                </a:lnTo>
                <a:lnTo>
                  <a:pt x="894" y="157"/>
                </a:lnTo>
                <a:lnTo>
                  <a:pt x="879" y="140"/>
                </a:lnTo>
                <a:lnTo>
                  <a:pt x="862" y="123"/>
                </a:lnTo>
                <a:lnTo>
                  <a:pt x="842" y="107"/>
                </a:lnTo>
                <a:lnTo>
                  <a:pt x="820" y="92"/>
                </a:lnTo>
                <a:lnTo>
                  <a:pt x="796" y="78"/>
                </a:lnTo>
                <a:lnTo>
                  <a:pt x="768" y="65"/>
                </a:lnTo>
                <a:lnTo>
                  <a:pt x="740" y="52"/>
                </a:lnTo>
                <a:lnTo>
                  <a:pt x="708" y="41"/>
                </a:lnTo>
                <a:lnTo>
                  <a:pt x="674" y="31"/>
                </a:lnTo>
                <a:lnTo>
                  <a:pt x="640" y="22"/>
                </a:lnTo>
                <a:lnTo>
                  <a:pt x="603" y="15"/>
                </a:lnTo>
                <a:lnTo>
                  <a:pt x="566" y="9"/>
                </a:lnTo>
                <a:lnTo>
                  <a:pt x="528" y="4"/>
                </a:lnTo>
                <a:lnTo>
                  <a:pt x="490" y="1"/>
                </a:lnTo>
                <a:lnTo>
                  <a:pt x="451" y="0"/>
                </a:lnTo>
                <a:lnTo>
                  <a:pt x="413" y="0"/>
                </a:lnTo>
                <a:lnTo>
                  <a:pt x="375" y="1"/>
                </a:lnTo>
                <a:lnTo>
                  <a:pt x="337" y="4"/>
                </a:lnTo>
                <a:lnTo>
                  <a:pt x="300" y="8"/>
                </a:lnTo>
                <a:lnTo>
                  <a:pt x="264" y="14"/>
                </a:lnTo>
                <a:lnTo>
                  <a:pt x="228" y="21"/>
                </a:lnTo>
                <a:lnTo>
                  <a:pt x="194" y="29"/>
                </a:lnTo>
                <a:lnTo>
                  <a:pt x="160" y="39"/>
                </a:lnTo>
                <a:lnTo>
                  <a:pt x="129" y="50"/>
                </a:lnTo>
                <a:lnTo>
                  <a:pt x="99" y="62"/>
                </a:lnTo>
                <a:lnTo>
                  <a:pt x="70" y="75"/>
                </a:lnTo>
              </a:path>
            </a:pathLst>
          </a:cu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625840" y="3886200"/>
            <a:ext cx="1382760" cy="682560"/>
          </a:xfrm>
          <a:custGeom>
            <a:avLst/>
            <a:gdLst/>
            <a:ahLst/>
            <a:rect l="l" t="t" r="r" b="b"/>
            <a:pathLst>
              <a:path w="871" h="430">
                <a:moveTo>
                  <a:pt x="821" y="215"/>
                </a:moveTo>
                <a:lnTo>
                  <a:pt x="819" y="195"/>
                </a:lnTo>
                <a:lnTo>
                  <a:pt x="813" y="176"/>
                </a:lnTo>
                <a:lnTo>
                  <a:pt x="803" y="158"/>
                </a:lnTo>
                <a:lnTo>
                  <a:pt x="791" y="140"/>
                </a:lnTo>
                <a:lnTo>
                  <a:pt x="774" y="124"/>
                </a:lnTo>
                <a:lnTo>
                  <a:pt x="754" y="108"/>
                </a:lnTo>
                <a:lnTo>
                  <a:pt x="731" y="93"/>
                </a:lnTo>
                <a:lnTo>
                  <a:pt x="705" y="80"/>
                </a:lnTo>
                <a:lnTo>
                  <a:pt x="678" y="67"/>
                </a:lnTo>
                <a:lnTo>
                  <a:pt x="647" y="56"/>
                </a:lnTo>
                <a:lnTo>
                  <a:pt x="614" y="46"/>
                </a:lnTo>
                <a:lnTo>
                  <a:pt x="580" y="38"/>
                </a:lnTo>
                <a:lnTo>
                  <a:pt x="544" y="32"/>
                </a:lnTo>
                <a:lnTo>
                  <a:pt x="506" y="27"/>
                </a:lnTo>
                <a:lnTo>
                  <a:pt x="467" y="24"/>
                </a:lnTo>
                <a:lnTo>
                  <a:pt x="427" y="23"/>
                </a:lnTo>
                <a:lnTo>
                  <a:pt x="386" y="24"/>
                </a:lnTo>
                <a:lnTo>
                  <a:pt x="347" y="27"/>
                </a:lnTo>
                <a:lnTo>
                  <a:pt x="309" y="32"/>
                </a:lnTo>
                <a:lnTo>
                  <a:pt x="273" y="38"/>
                </a:lnTo>
                <a:lnTo>
                  <a:pt x="239" y="46"/>
                </a:lnTo>
                <a:lnTo>
                  <a:pt x="206" y="56"/>
                </a:lnTo>
                <a:lnTo>
                  <a:pt x="175" y="67"/>
                </a:lnTo>
                <a:lnTo>
                  <a:pt x="148" y="80"/>
                </a:lnTo>
                <a:lnTo>
                  <a:pt x="122" y="93"/>
                </a:lnTo>
                <a:lnTo>
                  <a:pt x="99" y="108"/>
                </a:lnTo>
                <a:lnTo>
                  <a:pt x="79" y="124"/>
                </a:lnTo>
                <a:lnTo>
                  <a:pt x="62" y="140"/>
                </a:lnTo>
                <a:lnTo>
                  <a:pt x="50" y="158"/>
                </a:lnTo>
                <a:lnTo>
                  <a:pt x="40" y="176"/>
                </a:lnTo>
                <a:lnTo>
                  <a:pt x="34" y="195"/>
                </a:lnTo>
                <a:lnTo>
                  <a:pt x="32" y="215"/>
                </a:lnTo>
                <a:lnTo>
                  <a:pt x="34" y="234"/>
                </a:lnTo>
                <a:lnTo>
                  <a:pt x="40" y="253"/>
                </a:lnTo>
                <a:lnTo>
                  <a:pt x="50" y="271"/>
                </a:lnTo>
                <a:lnTo>
                  <a:pt x="62" y="289"/>
                </a:lnTo>
                <a:lnTo>
                  <a:pt x="79" y="306"/>
                </a:lnTo>
                <a:lnTo>
                  <a:pt x="99" y="321"/>
                </a:lnTo>
                <a:lnTo>
                  <a:pt x="122" y="336"/>
                </a:lnTo>
                <a:lnTo>
                  <a:pt x="148" y="350"/>
                </a:lnTo>
                <a:lnTo>
                  <a:pt x="175" y="362"/>
                </a:lnTo>
                <a:lnTo>
                  <a:pt x="206" y="373"/>
                </a:lnTo>
                <a:lnTo>
                  <a:pt x="239" y="383"/>
                </a:lnTo>
                <a:lnTo>
                  <a:pt x="273" y="391"/>
                </a:lnTo>
                <a:lnTo>
                  <a:pt x="309" y="397"/>
                </a:lnTo>
                <a:lnTo>
                  <a:pt x="347" y="402"/>
                </a:lnTo>
                <a:lnTo>
                  <a:pt x="386" y="405"/>
                </a:lnTo>
                <a:lnTo>
                  <a:pt x="427" y="406"/>
                </a:lnTo>
                <a:lnTo>
                  <a:pt x="467" y="405"/>
                </a:lnTo>
                <a:lnTo>
                  <a:pt x="506" y="402"/>
                </a:lnTo>
                <a:lnTo>
                  <a:pt x="544" y="397"/>
                </a:lnTo>
                <a:lnTo>
                  <a:pt x="580" y="391"/>
                </a:lnTo>
                <a:lnTo>
                  <a:pt x="614" y="383"/>
                </a:lnTo>
                <a:lnTo>
                  <a:pt x="647" y="373"/>
                </a:lnTo>
                <a:lnTo>
                  <a:pt x="678" y="362"/>
                </a:lnTo>
                <a:lnTo>
                  <a:pt x="705" y="350"/>
                </a:lnTo>
                <a:lnTo>
                  <a:pt x="731" y="336"/>
                </a:lnTo>
                <a:lnTo>
                  <a:pt x="754" y="321"/>
                </a:lnTo>
                <a:lnTo>
                  <a:pt x="774" y="306"/>
                </a:lnTo>
                <a:lnTo>
                  <a:pt x="791" y="289"/>
                </a:lnTo>
                <a:lnTo>
                  <a:pt x="803" y="271"/>
                </a:lnTo>
                <a:lnTo>
                  <a:pt x="813" y="253"/>
                </a:lnTo>
                <a:lnTo>
                  <a:pt x="819" y="234"/>
                </a:lnTo>
                <a:lnTo>
                  <a:pt x="821" y="215"/>
                </a:lnTo>
                <a:lnTo>
                  <a:pt x="41" y="108"/>
                </a:lnTo>
                <a:lnTo>
                  <a:pt x="38" y="118"/>
                </a:lnTo>
                <a:lnTo>
                  <a:pt x="34" y="128"/>
                </a:lnTo>
                <a:lnTo>
                  <a:pt x="31" y="138"/>
                </a:lnTo>
                <a:lnTo>
                  <a:pt x="27" y="148"/>
                </a:lnTo>
                <a:lnTo>
                  <a:pt x="24" y="158"/>
                </a:lnTo>
                <a:lnTo>
                  <a:pt x="21" y="168"/>
                </a:lnTo>
                <a:lnTo>
                  <a:pt x="19" y="178"/>
                </a:lnTo>
                <a:lnTo>
                  <a:pt x="16" y="189"/>
                </a:lnTo>
                <a:lnTo>
                  <a:pt x="14" y="199"/>
                </a:lnTo>
                <a:lnTo>
                  <a:pt x="11" y="209"/>
                </a:lnTo>
                <a:lnTo>
                  <a:pt x="8" y="220"/>
                </a:lnTo>
                <a:lnTo>
                  <a:pt x="6" y="230"/>
                </a:lnTo>
                <a:lnTo>
                  <a:pt x="5" y="241"/>
                </a:lnTo>
                <a:lnTo>
                  <a:pt x="3" y="251"/>
                </a:lnTo>
                <a:lnTo>
                  <a:pt x="1" y="262"/>
                </a:lnTo>
                <a:lnTo>
                  <a:pt x="0" y="273"/>
                </a:lnTo>
                <a:lnTo>
                  <a:pt x="12" y="291"/>
                </a:lnTo>
                <a:lnTo>
                  <a:pt x="27" y="308"/>
                </a:lnTo>
                <a:lnTo>
                  <a:pt x="45" y="324"/>
                </a:lnTo>
                <a:lnTo>
                  <a:pt x="65" y="339"/>
                </a:lnTo>
                <a:lnTo>
                  <a:pt x="89" y="354"/>
                </a:lnTo>
                <a:lnTo>
                  <a:pt x="114" y="367"/>
                </a:lnTo>
                <a:lnTo>
                  <a:pt x="141" y="379"/>
                </a:lnTo>
                <a:lnTo>
                  <a:pt x="171" y="391"/>
                </a:lnTo>
                <a:lnTo>
                  <a:pt x="203" y="400"/>
                </a:lnTo>
                <a:lnTo>
                  <a:pt x="235" y="408"/>
                </a:lnTo>
                <a:lnTo>
                  <a:pt x="270" y="416"/>
                </a:lnTo>
                <a:lnTo>
                  <a:pt x="306" y="422"/>
                </a:lnTo>
                <a:lnTo>
                  <a:pt x="343" y="426"/>
                </a:lnTo>
                <a:lnTo>
                  <a:pt x="381" y="428"/>
                </a:lnTo>
                <a:lnTo>
                  <a:pt x="420" y="429"/>
                </a:lnTo>
                <a:lnTo>
                  <a:pt x="459" y="429"/>
                </a:lnTo>
                <a:lnTo>
                  <a:pt x="498" y="427"/>
                </a:lnTo>
                <a:lnTo>
                  <a:pt x="536" y="423"/>
                </a:lnTo>
                <a:lnTo>
                  <a:pt x="573" y="418"/>
                </a:lnTo>
                <a:lnTo>
                  <a:pt x="608" y="410"/>
                </a:lnTo>
                <a:lnTo>
                  <a:pt x="642" y="402"/>
                </a:lnTo>
                <a:lnTo>
                  <a:pt x="675" y="393"/>
                </a:lnTo>
                <a:lnTo>
                  <a:pt x="704" y="382"/>
                </a:lnTo>
                <a:lnTo>
                  <a:pt x="733" y="370"/>
                </a:lnTo>
                <a:lnTo>
                  <a:pt x="759" y="357"/>
                </a:lnTo>
                <a:lnTo>
                  <a:pt x="782" y="343"/>
                </a:lnTo>
                <a:lnTo>
                  <a:pt x="803" y="328"/>
                </a:lnTo>
                <a:lnTo>
                  <a:pt x="822" y="312"/>
                </a:lnTo>
                <a:lnTo>
                  <a:pt x="838" y="295"/>
                </a:lnTo>
                <a:lnTo>
                  <a:pt x="851" y="278"/>
                </a:lnTo>
                <a:lnTo>
                  <a:pt x="860" y="260"/>
                </a:lnTo>
                <a:lnTo>
                  <a:pt x="867" y="241"/>
                </a:lnTo>
                <a:lnTo>
                  <a:pt x="870" y="222"/>
                </a:lnTo>
                <a:lnTo>
                  <a:pt x="869" y="203"/>
                </a:lnTo>
                <a:lnTo>
                  <a:pt x="866" y="184"/>
                </a:lnTo>
                <a:lnTo>
                  <a:pt x="858" y="166"/>
                </a:lnTo>
                <a:lnTo>
                  <a:pt x="849" y="149"/>
                </a:lnTo>
                <a:lnTo>
                  <a:pt x="835" y="132"/>
                </a:lnTo>
                <a:lnTo>
                  <a:pt x="819" y="115"/>
                </a:lnTo>
                <a:lnTo>
                  <a:pt x="800" y="100"/>
                </a:lnTo>
                <a:lnTo>
                  <a:pt x="779" y="85"/>
                </a:lnTo>
                <a:lnTo>
                  <a:pt x="755" y="70"/>
                </a:lnTo>
                <a:lnTo>
                  <a:pt x="728" y="58"/>
                </a:lnTo>
                <a:lnTo>
                  <a:pt x="700" y="45"/>
                </a:lnTo>
                <a:lnTo>
                  <a:pt x="669" y="35"/>
                </a:lnTo>
                <a:lnTo>
                  <a:pt x="637" y="25"/>
                </a:lnTo>
                <a:lnTo>
                  <a:pt x="602" y="17"/>
                </a:lnTo>
                <a:lnTo>
                  <a:pt x="565" y="11"/>
                </a:lnTo>
                <a:lnTo>
                  <a:pt x="527" y="5"/>
                </a:lnTo>
                <a:lnTo>
                  <a:pt x="489" y="2"/>
                </a:lnTo>
                <a:lnTo>
                  <a:pt x="451" y="0"/>
                </a:lnTo>
                <a:lnTo>
                  <a:pt x="413" y="0"/>
                </a:lnTo>
                <a:lnTo>
                  <a:pt x="375" y="1"/>
                </a:lnTo>
                <a:lnTo>
                  <a:pt x="338" y="4"/>
                </a:lnTo>
                <a:lnTo>
                  <a:pt x="302" y="8"/>
                </a:lnTo>
                <a:lnTo>
                  <a:pt x="266" y="14"/>
                </a:lnTo>
                <a:lnTo>
                  <a:pt x="232" y="21"/>
                </a:lnTo>
                <a:lnTo>
                  <a:pt x="198" y="30"/>
                </a:lnTo>
                <a:lnTo>
                  <a:pt x="168" y="40"/>
                </a:lnTo>
                <a:lnTo>
                  <a:pt x="138" y="51"/>
                </a:lnTo>
                <a:lnTo>
                  <a:pt x="111" y="64"/>
                </a:lnTo>
                <a:lnTo>
                  <a:pt x="84" y="78"/>
                </a:lnTo>
                <a:lnTo>
                  <a:pt x="61" y="92"/>
                </a:lnTo>
                <a:lnTo>
                  <a:pt x="41" y="108"/>
                </a:lnTo>
                <a:lnTo>
                  <a:pt x="821" y="215"/>
                </a:lnTo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676600" y="3922560"/>
            <a:ext cx="1253880" cy="609840"/>
          </a:xfrm>
          <a:custGeom>
            <a:avLst/>
            <a:gdLst/>
            <a:ahLst/>
            <a:rect l="l" t="t" r="r" b="b"/>
            <a:pathLst>
              <a:path w="790" h="384">
                <a:moveTo>
                  <a:pt x="789" y="192"/>
                </a:moveTo>
                <a:lnTo>
                  <a:pt x="787" y="172"/>
                </a:lnTo>
                <a:lnTo>
                  <a:pt x="781" y="153"/>
                </a:lnTo>
                <a:lnTo>
                  <a:pt x="771" y="135"/>
                </a:lnTo>
                <a:lnTo>
                  <a:pt x="759" y="117"/>
                </a:lnTo>
                <a:lnTo>
                  <a:pt x="742" y="101"/>
                </a:lnTo>
                <a:lnTo>
                  <a:pt x="722" y="85"/>
                </a:lnTo>
                <a:lnTo>
                  <a:pt x="699" y="70"/>
                </a:lnTo>
                <a:lnTo>
                  <a:pt x="673" y="57"/>
                </a:lnTo>
                <a:lnTo>
                  <a:pt x="646" y="44"/>
                </a:lnTo>
                <a:lnTo>
                  <a:pt x="615" y="33"/>
                </a:lnTo>
                <a:lnTo>
                  <a:pt x="582" y="23"/>
                </a:lnTo>
                <a:lnTo>
                  <a:pt x="548" y="15"/>
                </a:lnTo>
                <a:lnTo>
                  <a:pt x="512" y="9"/>
                </a:lnTo>
                <a:lnTo>
                  <a:pt x="474" y="4"/>
                </a:lnTo>
                <a:lnTo>
                  <a:pt x="435" y="1"/>
                </a:lnTo>
                <a:lnTo>
                  <a:pt x="395" y="0"/>
                </a:lnTo>
                <a:lnTo>
                  <a:pt x="354" y="1"/>
                </a:lnTo>
                <a:lnTo>
                  <a:pt x="315" y="4"/>
                </a:lnTo>
                <a:lnTo>
                  <a:pt x="277" y="9"/>
                </a:lnTo>
                <a:lnTo>
                  <a:pt x="241" y="15"/>
                </a:lnTo>
                <a:lnTo>
                  <a:pt x="207" y="23"/>
                </a:lnTo>
                <a:lnTo>
                  <a:pt x="174" y="33"/>
                </a:lnTo>
                <a:lnTo>
                  <a:pt x="143" y="44"/>
                </a:lnTo>
                <a:lnTo>
                  <a:pt x="116" y="57"/>
                </a:lnTo>
                <a:lnTo>
                  <a:pt x="90" y="70"/>
                </a:lnTo>
                <a:lnTo>
                  <a:pt x="67" y="85"/>
                </a:lnTo>
                <a:lnTo>
                  <a:pt x="47" y="101"/>
                </a:lnTo>
                <a:lnTo>
                  <a:pt x="30" y="117"/>
                </a:lnTo>
                <a:lnTo>
                  <a:pt x="18" y="135"/>
                </a:lnTo>
                <a:lnTo>
                  <a:pt x="8" y="153"/>
                </a:lnTo>
                <a:lnTo>
                  <a:pt x="2" y="172"/>
                </a:lnTo>
                <a:lnTo>
                  <a:pt x="0" y="192"/>
                </a:lnTo>
                <a:lnTo>
                  <a:pt x="2" y="211"/>
                </a:lnTo>
                <a:lnTo>
                  <a:pt x="8" y="230"/>
                </a:lnTo>
                <a:lnTo>
                  <a:pt x="18" y="248"/>
                </a:lnTo>
                <a:lnTo>
                  <a:pt x="30" y="266"/>
                </a:lnTo>
                <a:lnTo>
                  <a:pt x="47" y="283"/>
                </a:lnTo>
                <a:lnTo>
                  <a:pt x="67" y="298"/>
                </a:lnTo>
                <a:lnTo>
                  <a:pt x="90" y="313"/>
                </a:lnTo>
                <a:lnTo>
                  <a:pt x="116" y="327"/>
                </a:lnTo>
                <a:lnTo>
                  <a:pt x="143" y="339"/>
                </a:lnTo>
                <a:lnTo>
                  <a:pt x="174" y="350"/>
                </a:lnTo>
                <a:lnTo>
                  <a:pt x="207" y="360"/>
                </a:lnTo>
                <a:lnTo>
                  <a:pt x="241" y="368"/>
                </a:lnTo>
                <a:lnTo>
                  <a:pt x="277" y="374"/>
                </a:lnTo>
                <a:lnTo>
                  <a:pt x="315" y="379"/>
                </a:lnTo>
                <a:lnTo>
                  <a:pt x="354" y="382"/>
                </a:lnTo>
                <a:lnTo>
                  <a:pt x="395" y="383"/>
                </a:lnTo>
                <a:lnTo>
                  <a:pt x="435" y="382"/>
                </a:lnTo>
                <a:lnTo>
                  <a:pt x="474" y="379"/>
                </a:lnTo>
                <a:lnTo>
                  <a:pt x="512" y="374"/>
                </a:lnTo>
                <a:lnTo>
                  <a:pt x="548" y="368"/>
                </a:lnTo>
                <a:lnTo>
                  <a:pt x="582" y="360"/>
                </a:lnTo>
                <a:lnTo>
                  <a:pt x="615" y="350"/>
                </a:lnTo>
                <a:lnTo>
                  <a:pt x="646" y="339"/>
                </a:lnTo>
                <a:lnTo>
                  <a:pt x="673" y="327"/>
                </a:lnTo>
                <a:lnTo>
                  <a:pt x="699" y="313"/>
                </a:lnTo>
                <a:lnTo>
                  <a:pt x="722" y="298"/>
                </a:lnTo>
                <a:lnTo>
                  <a:pt x="742" y="283"/>
                </a:lnTo>
                <a:lnTo>
                  <a:pt x="759" y="266"/>
                </a:lnTo>
                <a:lnTo>
                  <a:pt x="771" y="248"/>
                </a:lnTo>
                <a:lnTo>
                  <a:pt x="781" y="230"/>
                </a:lnTo>
                <a:lnTo>
                  <a:pt x="787" y="211"/>
                </a:lnTo>
                <a:lnTo>
                  <a:pt x="789" y="192"/>
                </a:lnTo>
                <a:lnTo>
                  <a:pt x="740" y="192"/>
                </a:lnTo>
                <a:lnTo>
                  <a:pt x="738" y="175"/>
                </a:lnTo>
                <a:lnTo>
                  <a:pt x="732" y="158"/>
                </a:lnTo>
                <a:lnTo>
                  <a:pt x="724" y="142"/>
                </a:lnTo>
                <a:lnTo>
                  <a:pt x="712" y="127"/>
                </a:lnTo>
                <a:lnTo>
                  <a:pt x="698" y="112"/>
                </a:lnTo>
                <a:lnTo>
                  <a:pt x="681" y="98"/>
                </a:lnTo>
                <a:lnTo>
                  <a:pt x="661" y="85"/>
                </a:lnTo>
                <a:lnTo>
                  <a:pt x="638" y="73"/>
                </a:lnTo>
                <a:lnTo>
                  <a:pt x="614" y="63"/>
                </a:lnTo>
                <a:lnTo>
                  <a:pt x="588" y="53"/>
                </a:lnTo>
                <a:lnTo>
                  <a:pt x="559" y="45"/>
                </a:lnTo>
                <a:lnTo>
                  <a:pt x="529" y="38"/>
                </a:lnTo>
                <a:lnTo>
                  <a:pt x="497" y="32"/>
                </a:lnTo>
                <a:lnTo>
                  <a:pt x="464" y="28"/>
                </a:lnTo>
                <a:lnTo>
                  <a:pt x="429" y="25"/>
                </a:lnTo>
                <a:lnTo>
                  <a:pt x="395" y="24"/>
                </a:lnTo>
                <a:lnTo>
                  <a:pt x="360" y="25"/>
                </a:lnTo>
                <a:lnTo>
                  <a:pt x="325" y="28"/>
                </a:lnTo>
                <a:lnTo>
                  <a:pt x="292" y="32"/>
                </a:lnTo>
                <a:lnTo>
                  <a:pt x="260" y="38"/>
                </a:lnTo>
                <a:lnTo>
                  <a:pt x="230" y="45"/>
                </a:lnTo>
                <a:lnTo>
                  <a:pt x="201" y="53"/>
                </a:lnTo>
                <a:lnTo>
                  <a:pt x="175" y="63"/>
                </a:lnTo>
                <a:lnTo>
                  <a:pt x="151" y="73"/>
                </a:lnTo>
                <a:lnTo>
                  <a:pt x="128" y="85"/>
                </a:lnTo>
                <a:lnTo>
                  <a:pt x="108" y="98"/>
                </a:lnTo>
                <a:lnTo>
                  <a:pt x="91" y="112"/>
                </a:lnTo>
                <a:lnTo>
                  <a:pt x="77" y="127"/>
                </a:lnTo>
                <a:lnTo>
                  <a:pt x="65" y="142"/>
                </a:lnTo>
                <a:lnTo>
                  <a:pt x="57" y="158"/>
                </a:lnTo>
                <a:lnTo>
                  <a:pt x="51" y="175"/>
                </a:lnTo>
                <a:lnTo>
                  <a:pt x="49" y="192"/>
                </a:lnTo>
                <a:lnTo>
                  <a:pt x="51" y="208"/>
                </a:lnTo>
                <a:lnTo>
                  <a:pt x="57" y="225"/>
                </a:lnTo>
                <a:lnTo>
                  <a:pt x="65" y="241"/>
                </a:lnTo>
                <a:lnTo>
                  <a:pt x="77" y="257"/>
                </a:lnTo>
                <a:lnTo>
                  <a:pt x="91" y="271"/>
                </a:lnTo>
                <a:lnTo>
                  <a:pt x="108" y="285"/>
                </a:lnTo>
                <a:lnTo>
                  <a:pt x="128" y="298"/>
                </a:lnTo>
                <a:lnTo>
                  <a:pt x="151" y="310"/>
                </a:lnTo>
                <a:lnTo>
                  <a:pt x="175" y="320"/>
                </a:lnTo>
                <a:lnTo>
                  <a:pt x="201" y="330"/>
                </a:lnTo>
                <a:lnTo>
                  <a:pt x="230" y="338"/>
                </a:lnTo>
                <a:lnTo>
                  <a:pt x="260" y="346"/>
                </a:lnTo>
                <a:lnTo>
                  <a:pt x="292" y="351"/>
                </a:lnTo>
                <a:lnTo>
                  <a:pt x="325" y="355"/>
                </a:lnTo>
                <a:lnTo>
                  <a:pt x="360" y="358"/>
                </a:lnTo>
                <a:lnTo>
                  <a:pt x="395" y="359"/>
                </a:lnTo>
                <a:lnTo>
                  <a:pt x="429" y="358"/>
                </a:lnTo>
                <a:lnTo>
                  <a:pt x="464" y="355"/>
                </a:lnTo>
                <a:lnTo>
                  <a:pt x="497" y="351"/>
                </a:lnTo>
                <a:lnTo>
                  <a:pt x="529" y="346"/>
                </a:lnTo>
                <a:lnTo>
                  <a:pt x="559" y="338"/>
                </a:lnTo>
                <a:lnTo>
                  <a:pt x="588" y="330"/>
                </a:lnTo>
                <a:lnTo>
                  <a:pt x="614" y="320"/>
                </a:lnTo>
                <a:lnTo>
                  <a:pt x="638" y="310"/>
                </a:lnTo>
                <a:lnTo>
                  <a:pt x="661" y="298"/>
                </a:lnTo>
                <a:lnTo>
                  <a:pt x="681" y="285"/>
                </a:lnTo>
                <a:lnTo>
                  <a:pt x="698" y="271"/>
                </a:lnTo>
                <a:lnTo>
                  <a:pt x="712" y="257"/>
                </a:lnTo>
                <a:lnTo>
                  <a:pt x="724" y="241"/>
                </a:lnTo>
                <a:lnTo>
                  <a:pt x="732" y="225"/>
                </a:lnTo>
                <a:lnTo>
                  <a:pt x="738" y="208"/>
                </a:lnTo>
                <a:lnTo>
                  <a:pt x="740" y="192"/>
                </a:lnTo>
                <a:lnTo>
                  <a:pt x="789" y="192"/>
                </a:lnTo>
              </a:path>
            </a:pathLst>
          </a:cu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754360" y="3960720"/>
            <a:ext cx="1098360" cy="533520"/>
          </a:xfrm>
          <a:custGeom>
            <a:avLst/>
            <a:gdLst/>
            <a:ahLst/>
            <a:rect l="l" t="t" r="r" b="b"/>
            <a:pathLst>
              <a:path w="692" h="336">
                <a:moveTo>
                  <a:pt x="691" y="168"/>
                </a:moveTo>
                <a:lnTo>
                  <a:pt x="689" y="151"/>
                </a:lnTo>
                <a:lnTo>
                  <a:pt x="683" y="134"/>
                </a:lnTo>
                <a:lnTo>
                  <a:pt x="675" y="118"/>
                </a:lnTo>
                <a:lnTo>
                  <a:pt x="663" y="103"/>
                </a:lnTo>
                <a:lnTo>
                  <a:pt x="649" y="88"/>
                </a:lnTo>
                <a:lnTo>
                  <a:pt x="632" y="74"/>
                </a:lnTo>
                <a:lnTo>
                  <a:pt x="612" y="61"/>
                </a:lnTo>
                <a:lnTo>
                  <a:pt x="589" y="49"/>
                </a:lnTo>
                <a:lnTo>
                  <a:pt x="565" y="39"/>
                </a:lnTo>
                <a:lnTo>
                  <a:pt x="539" y="29"/>
                </a:lnTo>
                <a:lnTo>
                  <a:pt x="510" y="21"/>
                </a:lnTo>
                <a:lnTo>
                  <a:pt x="480" y="14"/>
                </a:lnTo>
                <a:lnTo>
                  <a:pt x="448" y="8"/>
                </a:lnTo>
                <a:lnTo>
                  <a:pt x="415" y="4"/>
                </a:lnTo>
                <a:lnTo>
                  <a:pt x="380" y="1"/>
                </a:lnTo>
                <a:lnTo>
                  <a:pt x="346" y="0"/>
                </a:lnTo>
                <a:lnTo>
                  <a:pt x="311" y="1"/>
                </a:lnTo>
                <a:lnTo>
                  <a:pt x="276" y="4"/>
                </a:lnTo>
                <a:lnTo>
                  <a:pt x="243" y="8"/>
                </a:lnTo>
                <a:lnTo>
                  <a:pt x="211" y="14"/>
                </a:lnTo>
                <a:lnTo>
                  <a:pt x="181" y="21"/>
                </a:lnTo>
                <a:lnTo>
                  <a:pt x="152" y="29"/>
                </a:lnTo>
                <a:lnTo>
                  <a:pt x="126" y="39"/>
                </a:lnTo>
                <a:lnTo>
                  <a:pt x="102" y="49"/>
                </a:lnTo>
                <a:lnTo>
                  <a:pt x="79" y="61"/>
                </a:lnTo>
                <a:lnTo>
                  <a:pt x="59" y="74"/>
                </a:lnTo>
                <a:lnTo>
                  <a:pt x="42" y="88"/>
                </a:lnTo>
                <a:lnTo>
                  <a:pt x="28" y="103"/>
                </a:lnTo>
                <a:lnTo>
                  <a:pt x="16" y="118"/>
                </a:lnTo>
                <a:lnTo>
                  <a:pt x="8" y="134"/>
                </a:lnTo>
                <a:lnTo>
                  <a:pt x="2" y="151"/>
                </a:lnTo>
                <a:lnTo>
                  <a:pt x="0" y="168"/>
                </a:lnTo>
                <a:lnTo>
                  <a:pt x="2" y="184"/>
                </a:lnTo>
                <a:lnTo>
                  <a:pt x="8" y="201"/>
                </a:lnTo>
                <a:lnTo>
                  <a:pt x="16" y="217"/>
                </a:lnTo>
                <a:lnTo>
                  <a:pt x="28" y="233"/>
                </a:lnTo>
                <a:lnTo>
                  <a:pt x="42" y="247"/>
                </a:lnTo>
                <a:lnTo>
                  <a:pt x="59" y="261"/>
                </a:lnTo>
                <a:lnTo>
                  <a:pt x="79" y="274"/>
                </a:lnTo>
                <a:lnTo>
                  <a:pt x="102" y="286"/>
                </a:lnTo>
                <a:lnTo>
                  <a:pt x="126" y="296"/>
                </a:lnTo>
                <a:lnTo>
                  <a:pt x="152" y="306"/>
                </a:lnTo>
                <a:lnTo>
                  <a:pt x="181" y="314"/>
                </a:lnTo>
                <a:lnTo>
                  <a:pt x="211" y="322"/>
                </a:lnTo>
                <a:lnTo>
                  <a:pt x="243" y="327"/>
                </a:lnTo>
                <a:lnTo>
                  <a:pt x="276" y="331"/>
                </a:lnTo>
                <a:lnTo>
                  <a:pt x="311" y="334"/>
                </a:lnTo>
                <a:lnTo>
                  <a:pt x="346" y="335"/>
                </a:lnTo>
                <a:lnTo>
                  <a:pt x="380" y="334"/>
                </a:lnTo>
                <a:lnTo>
                  <a:pt x="415" y="331"/>
                </a:lnTo>
                <a:lnTo>
                  <a:pt x="448" y="327"/>
                </a:lnTo>
                <a:lnTo>
                  <a:pt x="480" y="322"/>
                </a:lnTo>
                <a:lnTo>
                  <a:pt x="510" y="314"/>
                </a:lnTo>
                <a:lnTo>
                  <a:pt x="539" y="306"/>
                </a:lnTo>
                <a:lnTo>
                  <a:pt x="565" y="296"/>
                </a:lnTo>
                <a:lnTo>
                  <a:pt x="589" y="286"/>
                </a:lnTo>
                <a:lnTo>
                  <a:pt x="612" y="274"/>
                </a:lnTo>
                <a:lnTo>
                  <a:pt x="632" y="261"/>
                </a:lnTo>
                <a:lnTo>
                  <a:pt x="649" y="247"/>
                </a:lnTo>
                <a:lnTo>
                  <a:pt x="663" y="233"/>
                </a:lnTo>
                <a:lnTo>
                  <a:pt x="675" y="217"/>
                </a:lnTo>
                <a:lnTo>
                  <a:pt x="683" y="201"/>
                </a:lnTo>
                <a:lnTo>
                  <a:pt x="689" y="184"/>
                </a:lnTo>
                <a:lnTo>
                  <a:pt x="691" y="168"/>
                </a:lnTo>
                <a:lnTo>
                  <a:pt x="641" y="168"/>
                </a:lnTo>
                <a:lnTo>
                  <a:pt x="640" y="153"/>
                </a:lnTo>
                <a:lnTo>
                  <a:pt x="635" y="139"/>
                </a:lnTo>
                <a:lnTo>
                  <a:pt x="627" y="125"/>
                </a:lnTo>
                <a:lnTo>
                  <a:pt x="618" y="112"/>
                </a:lnTo>
                <a:lnTo>
                  <a:pt x="605" y="100"/>
                </a:lnTo>
                <a:lnTo>
                  <a:pt x="590" y="88"/>
                </a:lnTo>
                <a:lnTo>
                  <a:pt x="574" y="77"/>
                </a:lnTo>
                <a:lnTo>
                  <a:pt x="555" y="66"/>
                </a:lnTo>
                <a:lnTo>
                  <a:pt x="533" y="57"/>
                </a:lnTo>
                <a:lnTo>
                  <a:pt x="510" y="49"/>
                </a:lnTo>
                <a:lnTo>
                  <a:pt x="486" y="42"/>
                </a:lnTo>
                <a:lnTo>
                  <a:pt x="461" y="36"/>
                </a:lnTo>
                <a:lnTo>
                  <a:pt x="433" y="31"/>
                </a:lnTo>
                <a:lnTo>
                  <a:pt x="405" y="27"/>
                </a:lnTo>
                <a:lnTo>
                  <a:pt x="376" y="25"/>
                </a:lnTo>
                <a:lnTo>
                  <a:pt x="346" y="24"/>
                </a:lnTo>
                <a:lnTo>
                  <a:pt x="315" y="25"/>
                </a:lnTo>
                <a:lnTo>
                  <a:pt x="286" y="27"/>
                </a:lnTo>
                <a:lnTo>
                  <a:pt x="258" y="31"/>
                </a:lnTo>
                <a:lnTo>
                  <a:pt x="230" y="36"/>
                </a:lnTo>
                <a:lnTo>
                  <a:pt x="205" y="42"/>
                </a:lnTo>
                <a:lnTo>
                  <a:pt x="181" y="49"/>
                </a:lnTo>
                <a:lnTo>
                  <a:pt x="158" y="57"/>
                </a:lnTo>
                <a:lnTo>
                  <a:pt x="136" y="66"/>
                </a:lnTo>
                <a:lnTo>
                  <a:pt x="117" y="77"/>
                </a:lnTo>
                <a:lnTo>
                  <a:pt x="101" y="88"/>
                </a:lnTo>
                <a:lnTo>
                  <a:pt x="86" y="100"/>
                </a:lnTo>
                <a:lnTo>
                  <a:pt x="73" y="112"/>
                </a:lnTo>
                <a:lnTo>
                  <a:pt x="64" y="125"/>
                </a:lnTo>
                <a:lnTo>
                  <a:pt x="56" y="139"/>
                </a:lnTo>
                <a:lnTo>
                  <a:pt x="51" y="153"/>
                </a:lnTo>
                <a:lnTo>
                  <a:pt x="50" y="168"/>
                </a:lnTo>
                <a:lnTo>
                  <a:pt x="51" y="182"/>
                </a:lnTo>
                <a:lnTo>
                  <a:pt x="56" y="196"/>
                </a:lnTo>
                <a:lnTo>
                  <a:pt x="64" y="210"/>
                </a:lnTo>
                <a:lnTo>
                  <a:pt x="73" y="223"/>
                </a:lnTo>
                <a:lnTo>
                  <a:pt x="86" y="236"/>
                </a:lnTo>
                <a:lnTo>
                  <a:pt x="101" y="247"/>
                </a:lnTo>
                <a:lnTo>
                  <a:pt x="117" y="259"/>
                </a:lnTo>
                <a:lnTo>
                  <a:pt x="136" y="269"/>
                </a:lnTo>
                <a:lnTo>
                  <a:pt x="158" y="278"/>
                </a:lnTo>
                <a:lnTo>
                  <a:pt x="181" y="286"/>
                </a:lnTo>
                <a:lnTo>
                  <a:pt x="205" y="293"/>
                </a:lnTo>
                <a:lnTo>
                  <a:pt x="230" y="300"/>
                </a:lnTo>
                <a:lnTo>
                  <a:pt x="258" y="304"/>
                </a:lnTo>
                <a:lnTo>
                  <a:pt x="286" y="308"/>
                </a:lnTo>
                <a:lnTo>
                  <a:pt x="315" y="310"/>
                </a:lnTo>
                <a:lnTo>
                  <a:pt x="346" y="311"/>
                </a:lnTo>
                <a:lnTo>
                  <a:pt x="376" y="310"/>
                </a:lnTo>
                <a:lnTo>
                  <a:pt x="405" y="308"/>
                </a:lnTo>
                <a:lnTo>
                  <a:pt x="433" y="304"/>
                </a:lnTo>
                <a:lnTo>
                  <a:pt x="461" y="300"/>
                </a:lnTo>
                <a:lnTo>
                  <a:pt x="486" y="293"/>
                </a:lnTo>
                <a:lnTo>
                  <a:pt x="510" y="286"/>
                </a:lnTo>
                <a:lnTo>
                  <a:pt x="533" y="278"/>
                </a:lnTo>
                <a:lnTo>
                  <a:pt x="555" y="269"/>
                </a:lnTo>
                <a:lnTo>
                  <a:pt x="574" y="259"/>
                </a:lnTo>
                <a:lnTo>
                  <a:pt x="590" y="247"/>
                </a:lnTo>
                <a:lnTo>
                  <a:pt x="605" y="236"/>
                </a:lnTo>
                <a:lnTo>
                  <a:pt x="618" y="223"/>
                </a:lnTo>
                <a:lnTo>
                  <a:pt x="627" y="210"/>
                </a:lnTo>
                <a:lnTo>
                  <a:pt x="635" y="196"/>
                </a:lnTo>
                <a:lnTo>
                  <a:pt x="640" y="182"/>
                </a:lnTo>
                <a:lnTo>
                  <a:pt x="641" y="168"/>
                </a:lnTo>
                <a:lnTo>
                  <a:pt x="691" y="168"/>
                </a:lnTo>
              </a:path>
            </a:pathLst>
          </a:cu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33560" y="3998880"/>
            <a:ext cx="939960" cy="457200"/>
          </a:xfrm>
          <a:custGeom>
            <a:avLst/>
            <a:gdLst/>
            <a:ahLst/>
            <a:rect l="l" t="t" r="r" b="b"/>
            <a:pathLst>
              <a:path w="592" h="288">
                <a:moveTo>
                  <a:pt x="591" y="144"/>
                </a:moveTo>
                <a:lnTo>
                  <a:pt x="590" y="129"/>
                </a:lnTo>
                <a:lnTo>
                  <a:pt x="585" y="115"/>
                </a:lnTo>
                <a:lnTo>
                  <a:pt x="577" y="101"/>
                </a:lnTo>
                <a:lnTo>
                  <a:pt x="568" y="88"/>
                </a:lnTo>
                <a:lnTo>
                  <a:pt x="555" y="76"/>
                </a:lnTo>
                <a:lnTo>
                  <a:pt x="540" y="64"/>
                </a:lnTo>
                <a:lnTo>
                  <a:pt x="524" y="53"/>
                </a:lnTo>
                <a:lnTo>
                  <a:pt x="505" y="42"/>
                </a:lnTo>
                <a:lnTo>
                  <a:pt x="483" y="33"/>
                </a:lnTo>
                <a:lnTo>
                  <a:pt x="460" y="25"/>
                </a:lnTo>
                <a:lnTo>
                  <a:pt x="436" y="18"/>
                </a:lnTo>
                <a:lnTo>
                  <a:pt x="411" y="12"/>
                </a:lnTo>
                <a:lnTo>
                  <a:pt x="383" y="7"/>
                </a:lnTo>
                <a:lnTo>
                  <a:pt x="355" y="3"/>
                </a:lnTo>
                <a:lnTo>
                  <a:pt x="326" y="1"/>
                </a:lnTo>
                <a:lnTo>
                  <a:pt x="296" y="0"/>
                </a:lnTo>
                <a:lnTo>
                  <a:pt x="265" y="1"/>
                </a:lnTo>
                <a:lnTo>
                  <a:pt x="236" y="3"/>
                </a:lnTo>
                <a:lnTo>
                  <a:pt x="208" y="7"/>
                </a:lnTo>
                <a:lnTo>
                  <a:pt x="180" y="12"/>
                </a:lnTo>
                <a:lnTo>
                  <a:pt x="155" y="18"/>
                </a:lnTo>
                <a:lnTo>
                  <a:pt x="131" y="25"/>
                </a:lnTo>
                <a:lnTo>
                  <a:pt x="108" y="33"/>
                </a:lnTo>
                <a:lnTo>
                  <a:pt x="86" y="42"/>
                </a:lnTo>
                <a:lnTo>
                  <a:pt x="67" y="53"/>
                </a:lnTo>
                <a:lnTo>
                  <a:pt x="51" y="64"/>
                </a:lnTo>
                <a:lnTo>
                  <a:pt x="36" y="76"/>
                </a:lnTo>
                <a:lnTo>
                  <a:pt x="23" y="88"/>
                </a:lnTo>
                <a:lnTo>
                  <a:pt x="14" y="101"/>
                </a:lnTo>
                <a:lnTo>
                  <a:pt x="6" y="115"/>
                </a:lnTo>
                <a:lnTo>
                  <a:pt x="1" y="129"/>
                </a:lnTo>
                <a:lnTo>
                  <a:pt x="0" y="144"/>
                </a:lnTo>
                <a:lnTo>
                  <a:pt x="1" y="158"/>
                </a:lnTo>
                <a:lnTo>
                  <a:pt x="6" y="172"/>
                </a:lnTo>
                <a:lnTo>
                  <a:pt x="14" y="186"/>
                </a:lnTo>
                <a:lnTo>
                  <a:pt x="23" y="199"/>
                </a:lnTo>
                <a:lnTo>
                  <a:pt x="36" y="212"/>
                </a:lnTo>
                <a:lnTo>
                  <a:pt x="51" y="223"/>
                </a:lnTo>
                <a:lnTo>
                  <a:pt x="67" y="235"/>
                </a:lnTo>
                <a:lnTo>
                  <a:pt x="86" y="245"/>
                </a:lnTo>
                <a:lnTo>
                  <a:pt x="108" y="254"/>
                </a:lnTo>
                <a:lnTo>
                  <a:pt x="131" y="262"/>
                </a:lnTo>
                <a:lnTo>
                  <a:pt x="155" y="269"/>
                </a:lnTo>
                <a:lnTo>
                  <a:pt x="180" y="276"/>
                </a:lnTo>
                <a:lnTo>
                  <a:pt x="208" y="280"/>
                </a:lnTo>
                <a:lnTo>
                  <a:pt x="236" y="284"/>
                </a:lnTo>
                <a:lnTo>
                  <a:pt x="265" y="286"/>
                </a:lnTo>
                <a:lnTo>
                  <a:pt x="296" y="287"/>
                </a:lnTo>
                <a:lnTo>
                  <a:pt x="326" y="286"/>
                </a:lnTo>
                <a:lnTo>
                  <a:pt x="355" y="284"/>
                </a:lnTo>
                <a:lnTo>
                  <a:pt x="383" y="280"/>
                </a:lnTo>
                <a:lnTo>
                  <a:pt x="411" y="276"/>
                </a:lnTo>
                <a:lnTo>
                  <a:pt x="436" y="269"/>
                </a:lnTo>
                <a:lnTo>
                  <a:pt x="460" y="262"/>
                </a:lnTo>
                <a:lnTo>
                  <a:pt x="483" y="254"/>
                </a:lnTo>
                <a:lnTo>
                  <a:pt x="505" y="245"/>
                </a:lnTo>
                <a:lnTo>
                  <a:pt x="524" y="235"/>
                </a:lnTo>
                <a:lnTo>
                  <a:pt x="540" y="223"/>
                </a:lnTo>
                <a:lnTo>
                  <a:pt x="555" y="212"/>
                </a:lnTo>
                <a:lnTo>
                  <a:pt x="568" y="199"/>
                </a:lnTo>
                <a:lnTo>
                  <a:pt x="577" y="186"/>
                </a:lnTo>
                <a:lnTo>
                  <a:pt x="585" y="172"/>
                </a:lnTo>
                <a:lnTo>
                  <a:pt x="590" y="158"/>
                </a:lnTo>
                <a:lnTo>
                  <a:pt x="591" y="144"/>
                </a:lnTo>
                <a:lnTo>
                  <a:pt x="541" y="144"/>
                </a:lnTo>
                <a:lnTo>
                  <a:pt x="540" y="131"/>
                </a:lnTo>
                <a:lnTo>
                  <a:pt x="536" y="120"/>
                </a:lnTo>
                <a:lnTo>
                  <a:pt x="530" y="108"/>
                </a:lnTo>
                <a:lnTo>
                  <a:pt x="522" y="98"/>
                </a:lnTo>
                <a:lnTo>
                  <a:pt x="512" y="87"/>
                </a:lnTo>
                <a:lnTo>
                  <a:pt x="499" y="77"/>
                </a:lnTo>
                <a:lnTo>
                  <a:pt x="486" y="68"/>
                </a:lnTo>
                <a:lnTo>
                  <a:pt x="470" y="59"/>
                </a:lnTo>
                <a:lnTo>
                  <a:pt x="452" y="52"/>
                </a:lnTo>
                <a:lnTo>
                  <a:pt x="433" y="45"/>
                </a:lnTo>
                <a:lnTo>
                  <a:pt x="413" y="39"/>
                </a:lnTo>
                <a:lnTo>
                  <a:pt x="391" y="34"/>
                </a:lnTo>
                <a:lnTo>
                  <a:pt x="368" y="30"/>
                </a:lnTo>
                <a:lnTo>
                  <a:pt x="345" y="27"/>
                </a:lnTo>
                <a:lnTo>
                  <a:pt x="321" y="25"/>
                </a:lnTo>
                <a:lnTo>
                  <a:pt x="296" y="24"/>
                </a:lnTo>
                <a:lnTo>
                  <a:pt x="270" y="25"/>
                </a:lnTo>
                <a:lnTo>
                  <a:pt x="246" y="27"/>
                </a:lnTo>
                <a:lnTo>
                  <a:pt x="223" y="30"/>
                </a:lnTo>
                <a:lnTo>
                  <a:pt x="200" y="34"/>
                </a:lnTo>
                <a:lnTo>
                  <a:pt x="178" y="39"/>
                </a:lnTo>
                <a:lnTo>
                  <a:pt x="158" y="45"/>
                </a:lnTo>
                <a:lnTo>
                  <a:pt x="139" y="52"/>
                </a:lnTo>
                <a:lnTo>
                  <a:pt x="122" y="59"/>
                </a:lnTo>
                <a:lnTo>
                  <a:pt x="105" y="68"/>
                </a:lnTo>
                <a:lnTo>
                  <a:pt x="92" y="77"/>
                </a:lnTo>
                <a:lnTo>
                  <a:pt x="79" y="87"/>
                </a:lnTo>
                <a:lnTo>
                  <a:pt x="69" y="98"/>
                </a:lnTo>
                <a:lnTo>
                  <a:pt x="61" y="108"/>
                </a:lnTo>
                <a:lnTo>
                  <a:pt x="55" y="120"/>
                </a:lnTo>
                <a:lnTo>
                  <a:pt x="51" y="131"/>
                </a:lnTo>
                <a:lnTo>
                  <a:pt x="50" y="144"/>
                </a:lnTo>
                <a:lnTo>
                  <a:pt x="51" y="156"/>
                </a:lnTo>
                <a:lnTo>
                  <a:pt x="55" y="168"/>
                </a:lnTo>
                <a:lnTo>
                  <a:pt x="61" y="179"/>
                </a:lnTo>
                <a:lnTo>
                  <a:pt x="69" y="190"/>
                </a:lnTo>
                <a:lnTo>
                  <a:pt x="79" y="200"/>
                </a:lnTo>
                <a:lnTo>
                  <a:pt x="92" y="210"/>
                </a:lnTo>
                <a:lnTo>
                  <a:pt x="105" y="219"/>
                </a:lnTo>
                <a:lnTo>
                  <a:pt x="122" y="227"/>
                </a:lnTo>
                <a:lnTo>
                  <a:pt x="139" y="236"/>
                </a:lnTo>
                <a:lnTo>
                  <a:pt x="158" y="242"/>
                </a:lnTo>
                <a:lnTo>
                  <a:pt x="178" y="248"/>
                </a:lnTo>
                <a:lnTo>
                  <a:pt x="200" y="254"/>
                </a:lnTo>
                <a:lnTo>
                  <a:pt x="223" y="257"/>
                </a:lnTo>
                <a:lnTo>
                  <a:pt x="246" y="260"/>
                </a:lnTo>
                <a:lnTo>
                  <a:pt x="270" y="262"/>
                </a:lnTo>
                <a:lnTo>
                  <a:pt x="296" y="263"/>
                </a:lnTo>
                <a:lnTo>
                  <a:pt x="321" y="262"/>
                </a:lnTo>
                <a:lnTo>
                  <a:pt x="345" y="260"/>
                </a:lnTo>
                <a:lnTo>
                  <a:pt x="368" y="257"/>
                </a:lnTo>
                <a:lnTo>
                  <a:pt x="391" y="254"/>
                </a:lnTo>
                <a:lnTo>
                  <a:pt x="413" y="248"/>
                </a:lnTo>
                <a:lnTo>
                  <a:pt x="433" y="242"/>
                </a:lnTo>
                <a:lnTo>
                  <a:pt x="452" y="236"/>
                </a:lnTo>
                <a:lnTo>
                  <a:pt x="470" y="227"/>
                </a:lnTo>
                <a:lnTo>
                  <a:pt x="486" y="219"/>
                </a:lnTo>
                <a:lnTo>
                  <a:pt x="499" y="210"/>
                </a:lnTo>
                <a:lnTo>
                  <a:pt x="512" y="200"/>
                </a:lnTo>
                <a:lnTo>
                  <a:pt x="522" y="190"/>
                </a:lnTo>
                <a:lnTo>
                  <a:pt x="530" y="179"/>
                </a:lnTo>
                <a:lnTo>
                  <a:pt x="536" y="168"/>
                </a:lnTo>
                <a:lnTo>
                  <a:pt x="540" y="156"/>
                </a:lnTo>
                <a:lnTo>
                  <a:pt x="541" y="144"/>
                </a:lnTo>
                <a:lnTo>
                  <a:pt x="591" y="144"/>
                </a:lnTo>
              </a:path>
            </a:pathLst>
          </a:cu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913120" y="4037040"/>
            <a:ext cx="780840" cy="380880"/>
          </a:xfrm>
          <a:custGeom>
            <a:avLst/>
            <a:gdLst/>
            <a:ahLst/>
            <a:rect l="l" t="t" r="r" b="b"/>
            <a:pathLst>
              <a:path w="492" h="240">
                <a:moveTo>
                  <a:pt x="491" y="120"/>
                </a:moveTo>
                <a:lnTo>
                  <a:pt x="490" y="107"/>
                </a:lnTo>
                <a:lnTo>
                  <a:pt x="486" y="96"/>
                </a:lnTo>
                <a:lnTo>
                  <a:pt x="480" y="84"/>
                </a:lnTo>
                <a:lnTo>
                  <a:pt x="472" y="74"/>
                </a:lnTo>
                <a:lnTo>
                  <a:pt x="462" y="63"/>
                </a:lnTo>
                <a:lnTo>
                  <a:pt x="449" y="53"/>
                </a:lnTo>
                <a:lnTo>
                  <a:pt x="436" y="44"/>
                </a:lnTo>
                <a:lnTo>
                  <a:pt x="420" y="35"/>
                </a:lnTo>
                <a:lnTo>
                  <a:pt x="402" y="28"/>
                </a:lnTo>
                <a:lnTo>
                  <a:pt x="383" y="21"/>
                </a:lnTo>
                <a:lnTo>
                  <a:pt x="363" y="15"/>
                </a:lnTo>
                <a:lnTo>
                  <a:pt x="341" y="10"/>
                </a:lnTo>
                <a:lnTo>
                  <a:pt x="318" y="6"/>
                </a:lnTo>
                <a:lnTo>
                  <a:pt x="295" y="3"/>
                </a:lnTo>
                <a:lnTo>
                  <a:pt x="271" y="1"/>
                </a:lnTo>
                <a:lnTo>
                  <a:pt x="246" y="0"/>
                </a:lnTo>
                <a:lnTo>
                  <a:pt x="220" y="1"/>
                </a:lnTo>
                <a:lnTo>
                  <a:pt x="196" y="3"/>
                </a:lnTo>
                <a:lnTo>
                  <a:pt x="173" y="6"/>
                </a:lnTo>
                <a:lnTo>
                  <a:pt x="150" y="10"/>
                </a:lnTo>
                <a:lnTo>
                  <a:pt x="128" y="15"/>
                </a:lnTo>
                <a:lnTo>
                  <a:pt x="108" y="21"/>
                </a:lnTo>
                <a:lnTo>
                  <a:pt x="89" y="28"/>
                </a:lnTo>
                <a:lnTo>
                  <a:pt x="72" y="35"/>
                </a:lnTo>
                <a:lnTo>
                  <a:pt x="55" y="44"/>
                </a:lnTo>
                <a:lnTo>
                  <a:pt x="42" y="53"/>
                </a:lnTo>
                <a:lnTo>
                  <a:pt x="29" y="63"/>
                </a:lnTo>
                <a:lnTo>
                  <a:pt x="19" y="74"/>
                </a:lnTo>
                <a:lnTo>
                  <a:pt x="11" y="84"/>
                </a:lnTo>
                <a:lnTo>
                  <a:pt x="5" y="96"/>
                </a:lnTo>
                <a:lnTo>
                  <a:pt x="1" y="107"/>
                </a:lnTo>
                <a:lnTo>
                  <a:pt x="0" y="120"/>
                </a:lnTo>
                <a:lnTo>
                  <a:pt x="1" y="132"/>
                </a:lnTo>
                <a:lnTo>
                  <a:pt x="5" y="144"/>
                </a:lnTo>
                <a:lnTo>
                  <a:pt x="11" y="155"/>
                </a:lnTo>
                <a:lnTo>
                  <a:pt x="19" y="166"/>
                </a:lnTo>
                <a:lnTo>
                  <a:pt x="29" y="176"/>
                </a:lnTo>
                <a:lnTo>
                  <a:pt x="42" y="186"/>
                </a:lnTo>
                <a:lnTo>
                  <a:pt x="55" y="195"/>
                </a:lnTo>
                <a:lnTo>
                  <a:pt x="72" y="203"/>
                </a:lnTo>
                <a:lnTo>
                  <a:pt x="89" y="212"/>
                </a:lnTo>
                <a:lnTo>
                  <a:pt x="108" y="218"/>
                </a:lnTo>
                <a:lnTo>
                  <a:pt x="128" y="224"/>
                </a:lnTo>
                <a:lnTo>
                  <a:pt x="150" y="230"/>
                </a:lnTo>
                <a:lnTo>
                  <a:pt x="173" y="233"/>
                </a:lnTo>
                <a:lnTo>
                  <a:pt x="196" y="236"/>
                </a:lnTo>
                <a:lnTo>
                  <a:pt x="220" y="238"/>
                </a:lnTo>
                <a:lnTo>
                  <a:pt x="246" y="239"/>
                </a:lnTo>
                <a:lnTo>
                  <a:pt x="271" y="238"/>
                </a:lnTo>
                <a:lnTo>
                  <a:pt x="295" y="236"/>
                </a:lnTo>
                <a:lnTo>
                  <a:pt x="318" y="233"/>
                </a:lnTo>
                <a:lnTo>
                  <a:pt x="341" y="230"/>
                </a:lnTo>
                <a:lnTo>
                  <a:pt x="363" y="224"/>
                </a:lnTo>
                <a:lnTo>
                  <a:pt x="383" y="218"/>
                </a:lnTo>
                <a:lnTo>
                  <a:pt x="402" y="212"/>
                </a:lnTo>
                <a:lnTo>
                  <a:pt x="420" y="203"/>
                </a:lnTo>
                <a:lnTo>
                  <a:pt x="436" y="195"/>
                </a:lnTo>
                <a:lnTo>
                  <a:pt x="449" y="186"/>
                </a:lnTo>
                <a:lnTo>
                  <a:pt x="462" y="176"/>
                </a:lnTo>
                <a:lnTo>
                  <a:pt x="472" y="166"/>
                </a:lnTo>
                <a:lnTo>
                  <a:pt x="480" y="155"/>
                </a:lnTo>
                <a:lnTo>
                  <a:pt x="486" y="144"/>
                </a:lnTo>
                <a:lnTo>
                  <a:pt x="490" y="132"/>
                </a:lnTo>
                <a:lnTo>
                  <a:pt x="491" y="120"/>
                </a:lnTo>
                <a:lnTo>
                  <a:pt x="443" y="120"/>
                </a:lnTo>
                <a:lnTo>
                  <a:pt x="442" y="110"/>
                </a:lnTo>
                <a:lnTo>
                  <a:pt x="439" y="100"/>
                </a:lnTo>
                <a:lnTo>
                  <a:pt x="434" y="91"/>
                </a:lnTo>
                <a:lnTo>
                  <a:pt x="427" y="82"/>
                </a:lnTo>
                <a:lnTo>
                  <a:pt x="419" y="74"/>
                </a:lnTo>
                <a:lnTo>
                  <a:pt x="409" y="66"/>
                </a:lnTo>
                <a:lnTo>
                  <a:pt x="398" y="59"/>
                </a:lnTo>
                <a:lnTo>
                  <a:pt x="385" y="52"/>
                </a:lnTo>
                <a:lnTo>
                  <a:pt x="371" y="46"/>
                </a:lnTo>
                <a:lnTo>
                  <a:pt x="355" y="40"/>
                </a:lnTo>
                <a:lnTo>
                  <a:pt x="339" y="36"/>
                </a:lnTo>
                <a:lnTo>
                  <a:pt x="323" y="32"/>
                </a:lnTo>
                <a:lnTo>
                  <a:pt x="305" y="28"/>
                </a:lnTo>
                <a:lnTo>
                  <a:pt x="286" y="26"/>
                </a:lnTo>
                <a:lnTo>
                  <a:pt x="266" y="24"/>
                </a:lnTo>
                <a:lnTo>
                  <a:pt x="246" y="24"/>
                </a:lnTo>
                <a:lnTo>
                  <a:pt x="225" y="24"/>
                </a:lnTo>
                <a:lnTo>
                  <a:pt x="205" y="26"/>
                </a:lnTo>
                <a:lnTo>
                  <a:pt x="186" y="28"/>
                </a:lnTo>
                <a:lnTo>
                  <a:pt x="168" y="32"/>
                </a:lnTo>
                <a:lnTo>
                  <a:pt x="152" y="36"/>
                </a:lnTo>
                <a:lnTo>
                  <a:pt x="136" y="40"/>
                </a:lnTo>
                <a:lnTo>
                  <a:pt x="120" y="46"/>
                </a:lnTo>
                <a:lnTo>
                  <a:pt x="106" y="52"/>
                </a:lnTo>
                <a:lnTo>
                  <a:pt x="93" y="59"/>
                </a:lnTo>
                <a:lnTo>
                  <a:pt x="82" y="66"/>
                </a:lnTo>
                <a:lnTo>
                  <a:pt x="72" y="74"/>
                </a:lnTo>
                <a:lnTo>
                  <a:pt x="64" y="82"/>
                </a:lnTo>
                <a:lnTo>
                  <a:pt x="57" y="91"/>
                </a:lnTo>
                <a:lnTo>
                  <a:pt x="52" y="100"/>
                </a:lnTo>
                <a:lnTo>
                  <a:pt x="49" y="110"/>
                </a:lnTo>
                <a:lnTo>
                  <a:pt x="48" y="120"/>
                </a:lnTo>
                <a:lnTo>
                  <a:pt x="49" y="129"/>
                </a:lnTo>
                <a:lnTo>
                  <a:pt x="52" y="139"/>
                </a:lnTo>
                <a:lnTo>
                  <a:pt x="57" y="148"/>
                </a:lnTo>
                <a:lnTo>
                  <a:pt x="64" y="157"/>
                </a:lnTo>
                <a:lnTo>
                  <a:pt x="72" y="165"/>
                </a:lnTo>
                <a:lnTo>
                  <a:pt x="82" y="173"/>
                </a:lnTo>
                <a:lnTo>
                  <a:pt x="93" y="180"/>
                </a:lnTo>
                <a:lnTo>
                  <a:pt x="106" y="187"/>
                </a:lnTo>
                <a:lnTo>
                  <a:pt x="120" y="193"/>
                </a:lnTo>
                <a:lnTo>
                  <a:pt x="136" y="199"/>
                </a:lnTo>
                <a:lnTo>
                  <a:pt x="152" y="203"/>
                </a:lnTo>
                <a:lnTo>
                  <a:pt x="168" y="208"/>
                </a:lnTo>
                <a:lnTo>
                  <a:pt x="186" y="211"/>
                </a:lnTo>
                <a:lnTo>
                  <a:pt x="205" y="213"/>
                </a:lnTo>
                <a:lnTo>
                  <a:pt x="225" y="215"/>
                </a:lnTo>
                <a:lnTo>
                  <a:pt x="246" y="215"/>
                </a:lnTo>
                <a:lnTo>
                  <a:pt x="266" y="215"/>
                </a:lnTo>
                <a:lnTo>
                  <a:pt x="286" y="213"/>
                </a:lnTo>
                <a:lnTo>
                  <a:pt x="305" y="211"/>
                </a:lnTo>
                <a:lnTo>
                  <a:pt x="323" y="208"/>
                </a:lnTo>
                <a:lnTo>
                  <a:pt x="339" y="203"/>
                </a:lnTo>
                <a:lnTo>
                  <a:pt x="355" y="199"/>
                </a:lnTo>
                <a:lnTo>
                  <a:pt x="371" y="193"/>
                </a:lnTo>
                <a:lnTo>
                  <a:pt x="385" y="187"/>
                </a:lnTo>
                <a:lnTo>
                  <a:pt x="398" y="180"/>
                </a:lnTo>
                <a:lnTo>
                  <a:pt x="409" y="173"/>
                </a:lnTo>
                <a:lnTo>
                  <a:pt x="419" y="165"/>
                </a:lnTo>
                <a:lnTo>
                  <a:pt x="427" y="157"/>
                </a:lnTo>
                <a:lnTo>
                  <a:pt x="434" y="148"/>
                </a:lnTo>
                <a:lnTo>
                  <a:pt x="439" y="139"/>
                </a:lnTo>
                <a:lnTo>
                  <a:pt x="442" y="129"/>
                </a:lnTo>
                <a:lnTo>
                  <a:pt x="443" y="120"/>
                </a:lnTo>
                <a:lnTo>
                  <a:pt x="491" y="120"/>
                </a:lnTo>
              </a:path>
            </a:pathLst>
          </a:cu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989440" y="4075200"/>
            <a:ext cx="628560" cy="304560"/>
          </a:xfrm>
          <a:custGeom>
            <a:avLst/>
            <a:gdLst/>
            <a:ahLst/>
            <a:rect l="l" t="t" r="r" b="b"/>
            <a:pathLst>
              <a:path w="396" h="192">
                <a:moveTo>
                  <a:pt x="395" y="96"/>
                </a:moveTo>
                <a:lnTo>
                  <a:pt x="394" y="86"/>
                </a:lnTo>
                <a:lnTo>
                  <a:pt x="391" y="76"/>
                </a:lnTo>
                <a:lnTo>
                  <a:pt x="386" y="67"/>
                </a:lnTo>
                <a:lnTo>
                  <a:pt x="379" y="58"/>
                </a:lnTo>
                <a:lnTo>
                  <a:pt x="371" y="50"/>
                </a:lnTo>
                <a:lnTo>
                  <a:pt x="361" y="42"/>
                </a:lnTo>
                <a:lnTo>
                  <a:pt x="350" y="35"/>
                </a:lnTo>
                <a:lnTo>
                  <a:pt x="337" y="28"/>
                </a:lnTo>
                <a:lnTo>
                  <a:pt x="323" y="22"/>
                </a:lnTo>
                <a:lnTo>
                  <a:pt x="307" y="16"/>
                </a:lnTo>
                <a:lnTo>
                  <a:pt x="291" y="12"/>
                </a:lnTo>
                <a:lnTo>
                  <a:pt x="275" y="8"/>
                </a:lnTo>
                <a:lnTo>
                  <a:pt x="257" y="4"/>
                </a:lnTo>
                <a:lnTo>
                  <a:pt x="238" y="2"/>
                </a:lnTo>
                <a:lnTo>
                  <a:pt x="218" y="0"/>
                </a:lnTo>
                <a:lnTo>
                  <a:pt x="198" y="0"/>
                </a:lnTo>
                <a:lnTo>
                  <a:pt x="177" y="0"/>
                </a:lnTo>
                <a:lnTo>
                  <a:pt x="157" y="2"/>
                </a:lnTo>
                <a:lnTo>
                  <a:pt x="138" y="4"/>
                </a:lnTo>
                <a:lnTo>
                  <a:pt x="120" y="8"/>
                </a:lnTo>
                <a:lnTo>
                  <a:pt x="104" y="12"/>
                </a:lnTo>
                <a:lnTo>
                  <a:pt x="88" y="16"/>
                </a:lnTo>
                <a:lnTo>
                  <a:pt x="72" y="22"/>
                </a:lnTo>
                <a:lnTo>
                  <a:pt x="58" y="28"/>
                </a:lnTo>
                <a:lnTo>
                  <a:pt x="45" y="35"/>
                </a:lnTo>
                <a:lnTo>
                  <a:pt x="34" y="42"/>
                </a:lnTo>
                <a:lnTo>
                  <a:pt x="24" y="50"/>
                </a:lnTo>
                <a:lnTo>
                  <a:pt x="16" y="58"/>
                </a:lnTo>
                <a:lnTo>
                  <a:pt x="9" y="67"/>
                </a:lnTo>
                <a:lnTo>
                  <a:pt x="4" y="76"/>
                </a:lnTo>
                <a:lnTo>
                  <a:pt x="1" y="86"/>
                </a:lnTo>
                <a:lnTo>
                  <a:pt x="0" y="96"/>
                </a:lnTo>
                <a:lnTo>
                  <a:pt x="1" y="105"/>
                </a:lnTo>
                <a:lnTo>
                  <a:pt x="4" y="115"/>
                </a:lnTo>
                <a:lnTo>
                  <a:pt x="9" y="124"/>
                </a:lnTo>
                <a:lnTo>
                  <a:pt x="16" y="133"/>
                </a:lnTo>
                <a:lnTo>
                  <a:pt x="24" y="141"/>
                </a:lnTo>
                <a:lnTo>
                  <a:pt x="34" y="149"/>
                </a:lnTo>
                <a:lnTo>
                  <a:pt x="45" y="156"/>
                </a:lnTo>
                <a:lnTo>
                  <a:pt x="58" y="163"/>
                </a:lnTo>
                <a:lnTo>
                  <a:pt x="72" y="169"/>
                </a:lnTo>
                <a:lnTo>
                  <a:pt x="88" y="175"/>
                </a:lnTo>
                <a:lnTo>
                  <a:pt x="104" y="179"/>
                </a:lnTo>
                <a:lnTo>
                  <a:pt x="120" y="184"/>
                </a:lnTo>
                <a:lnTo>
                  <a:pt x="138" y="187"/>
                </a:lnTo>
                <a:lnTo>
                  <a:pt x="157" y="189"/>
                </a:lnTo>
                <a:lnTo>
                  <a:pt x="177" y="191"/>
                </a:lnTo>
                <a:lnTo>
                  <a:pt x="198" y="191"/>
                </a:lnTo>
                <a:lnTo>
                  <a:pt x="218" y="191"/>
                </a:lnTo>
                <a:lnTo>
                  <a:pt x="238" y="189"/>
                </a:lnTo>
                <a:lnTo>
                  <a:pt x="257" y="187"/>
                </a:lnTo>
                <a:lnTo>
                  <a:pt x="275" y="184"/>
                </a:lnTo>
                <a:lnTo>
                  <a:pt x="291" y="179"/>
                </a:lnTo>
                <a:lnTo>
                  <a:pt x="307" y="175"/>
                </a:lnTo>
                <a:lnTo>
                  <a:pt x="323" y="169"/>
                </a:lnTo>
                <a:lnTo>
                  <a:pt x="337" y="163"/>
                </a:lnTo>
                <a:lnTo>
                  <a:pt x="350" y="156"/>
                </a:lnTo>
                <a:lnTo>
                  <a:pt x="361" y="149"/>
                </a:lnTo>
                <a:lnTo>
                  <a:pt x="371" y="141"/>
                </a:lnTo>
                <a:lnTo>
                  <a:pt x="379" y="133"/>
                </a:lnTo>
                <a:lnTo>
                  <a:pt x="386" y="124"/>
                </a:lnTo>
                <a:lnTo>
                  <a:pt x="391" y="115"/>
                </a:lnTo>
                <a:lnTo>
                  <a:pt x="394" y="105"/>
                </a:lnTo>
                <a:lnTo>
                  <a:pt x="395" y="96"/>
                </a:lnTo>
                <a:lnTo>
                  <a:pt x="345" y="96"/>
                </a:lnTo>
                <a:lnTo>
                  <a:pt x="342" y="81"/>
                </a:lnTo>
                <a:lnTo>
                  <a:pt x="334" y="68"/>
                </a:lnTo>
                <a:lnTo>
                  <a:pt x="320" y="56"/>
                </a:lnTo>
                <a:lnTo>
                  <a:pt x="302" y="45"/>
                </a:lnTo>
                <a:lnTo>
                  <a:pt x="280" y="36"/>
                </a:lnTo>
                <a:lnTo>
                  <a:pt x="255" y="30"/>
                </a:lnTo>
                <a:lnTo>
                  <a:pt x="227" y="26"/>
                </a:lnTo>
                <a:lnTo>
                  <a:pt x="198" y="24"/>
                </a:lnTo>
                <a:lnTo>
                  <a:pt x="168" y="26"/>
                </a:lnTo>
                <a:lnTo>
                  <a:pt x="140" y="30"/>
                </a:lnTo>
                <a:lnTo>
                  <a:pt x="115" y="36"/>
                </a:lnTo>
                <a:lnTo>
                  <a:pt x="93" y="45"/>
                </a:lnTo>
                <a:lnTo>
                  <a:pt x="75" y="56"/>
                </a:lnTo>
                <a:lnTo>
                  <a:pt x="61" y="68"/>
                </a:lnTo>
                <a:lnTo>
                  <a:pt x="53" y="81"/>
                </a:lnTo>
                <a:lnTo>
                  <a:pt x="50" y="96"/>
                </a:lnTo>
                <a:lnTo>
                  <a:pt x="53" y="110"/>
                </a:lnTo>
                <a:lnTo>
                  <a:pt x="61" y="123"/>
                </a:lnTo>
                <a:lnTo>
                  <a:pt x="75" y="135"/>
                </a:lnTo>
                <a:lnTo>
                  <a:pt x="93" y="146"/>
                </a:lnTo>
                <a:lnTo>
                  <a:pt x="115" y="155"/>
                </a:lnTo>
                <a:lnTo>
                  <a:pt x="140" y="162"/>
                </a:lnTo>
                <a:lnTo>
                  <a:pt x="168" y="166"/>
                </a:lnTo>
                <a:lnTo>
                  <a:pt x="198" y="167"/>
                </a:lnTo>
                <a:lnTo>
                  <a:pt x="227" y="166"/>
                </a:lnTo>
                <a:lnTo>
                  <a:pt x="255" y="162"/>
                </a:lnTo>
                <a:lnTo>
                  <a:pt x="280" y="155"/>
                </a:lnTo>
                <a:lnTo>
                  <a:pt x="302" y="146"/>
                </a:lnTo>
                <a:lnTo>
                  <a:pt x="320" y="135"/>
                </a:lnTo>
                <a:lnTo>
                  <a:pt x="334" y="123"/>
                </a:lnTo>
                <a:lnTo>
                  <a:pt x="342" y="110"/>
                </a:lnTo>
                <a:lnTo>
                  <a:pt x="345" y="96"/>
                </a:lnTo>
                <a:lnTo>
                  <a:pt x="395" y="96"/>
                </a:lnTo>
              </a:path>
            </a:pathLst>
          </a:cu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068640" y="4113360"/>
            <a:ext cx="469800" cy="228600"/>
          </a:xfrm>
          <a:custGeom>
            <a:avLst/>
            <a:gdLst/>
            <a:ahLst/>
            <a:rect l="l" t="t" r="r" b="b"/>
            <a:pathLst>
              <a:path w="296" h="144">
                <a:moveTo>
                  <a:pt x="295" y="72"/>
                </a:moveTo>
                <a:lnTo>
                  <a:pt x="292" y="57"/>
                </a:lnTo>
                <a:lnTo>
                  <a:pt x="284" y="44"/>
                </a:lnTo>
                <a:lnTo>
                  <a:pt x="270" y="32"/>
                </a:lnTo>
                <a:lnTo>
                  <a:pt x="252" y="21"/>
                </a:lnTo>
                <a:lnTo>
                  <a:pt x="230" y="12"/>
                </a:lnTo>
                <a:lnTo>
                  <a:pt x="205" y="6"/>
                </a:lnTo>
                <a:lnTo>
                  <a:pt x="177" y="2"/>
                </a:lnTo>
                <a:lnTo>
                  <a:pt x="148" y="0"/>
                </a:lnTo>
                <a:lnTo>
                  <a:pt x="118" y="2"/>
                </a:lnTo>
                <a:lnTo>
                  <a:pt x="90" y="6"/>
                </a:lnTo>
                <a:lnTo>
                  <a:pt x="65" y="12"/>
                </a:lnTo>
                <a:lnTo>
                  <a:pt x="43" y="21"/>
                </a:lnTo>
                <a:lnTo>
                  <a:pt x="25" y="32"/>
                </a:lnTo>
                <a:lnTo>
                  <a:pt x="11" y="44"/>
                </a:lnTo>
                <a:lnTo>
                  <a:pt x="3" y="57"/>
                </a:lnTo>
                <a:lnTo>
                  <a:pt x="0" y="72"/>
                </a:lnTo>
                <a:lnTo>
                  <a:pt x="3" y="86"/>
                </a:lnTo>
                <a:lnTo>
                  <a:pt x="11" y="99"/>
                </a:lnTo>
                <a:lnTo>
                  <a:pt x="25" y="111"/>
                </a:lnTo>
                <a:lnTo>
                  <a:pt x="43" y="122"/>
                </a:lnTo>
                <a:lnTo>
                  <a:pt x="65" y="131"/>
                </a:lnTo>
                <a:lnTo>
                  <a:pt x="90" y="138"/>
                </a:lnTo>
                <a:lnTo>
                  <a:pt x="118" y="142"/>
                </a:lnTo>
                <a:lnTo>
                  <a:pt x="148" y="143"/>
                </a:lnTo>
                <a:lnTo>
                  <a:pt x="177" y="142"/>
                </a:lnTo>
                <a:lnTo>
                  <a:pt x="205" y="138"/>
                </a:lnTo>
                <a:lnTo>
                  <a:pt x="230" y="131"/>
                </a:lnTo>
                <a:lnTo>
                  <a:pt x="252" y="122"/>
                </a:lnTo>
                <a:lnTo>
                  <a:pt x="270" y="111"/>
                </a:lnTo>
                <a:lnTo>
                  <a:pt x="284" y="99"/>
                </a:lnTo>
                <a:lnTo>
                  <a:pt x="292" y="86"/>
                </a:lnTo>
                <a:lnTo>
                  <a:pt x="295" y="72"/>
                </a:lnTo>
                <a:lnTo>
                  <a:pt x="246" y="72"/>
                </a:lnTo>
                <a:lnTo>
                  <a:pt x="244" y="62"/>
                </a:lnTo>
                <a:lnTo>
                  <a:pt x="238" y="53"/>
                </a:lnTo>
                <a:lnTo>
                  <a:pt x="229" y="45"/>
                </a:lnTo>
                <a:lnTo>
                  <a:pt x="217" y="38"/>
                </a:lnTo>
                <a:lnTo>
                  <a:pt x="202" y="32"/>
                </a:lnTo>
                <a:lnTo>
                  <a:pt x="186" y="28"/>
                </a:lnTo>
                <a:lnTo>
                  <a:pt x="168" y="25"/>
                </a:lnTo>
                <a:lnTo>
                  <a:pt x="148" y="24"/>
                </a:lnTo>
                <a:lnTo>
                  <a:pt x="127" y="25"/>
                </a:lnTo>
                <a:lnTo>
                  <a:pt x="109" y="28"/>
                </a:lnTo>
                <a:lnTo>
                  <a:pt x="93" y="32"/>
                </a:lnTo>
                <a:lnTo>
                  <a:pt x="78" y="38"/>
                </a:lnTo>
                <a:lnTo>
                  <a:pt x="66" y="45"/>
                </a:lnTo>
                <a:lnTo>
                  <a:pt x="57" y="53"/>
                </a:lnTo>
                <a:lnTo>
                  <a:pt x="51" y="62"/>
                </a:lnTo>
                <a:lnTo>
                  <a:pt x="49" y="72"/>
                </a:lnTo>
                <a:lnTo>
                  <a:pt x="51" y="81"/>
                </a:lnTo>
                <a:lnTo>
                  <a:pt x="57" y="90"/>
                </a:lnTo>
                <a:lnTo>
                  <a:pt x="66" y="98"/>
                </a:lnTo>
                <a:lnTo>
                  <a:pt x="78" y="105"/>
                </a:lnTo>
                <a:lnTo>
                  <a:pt x="93" y="111"/>
                </a:lnTo>
                <a:lnTo>
                  <a:pt x="109" y="116"/>
                </a:lnTo>
                <a:lnTo>
                  <a:pt x="127" y="118"/>
                </a:lnTo>
                <a:lnTo>
                  <a:pt x="148" y="119"/>
                </a:lnTo>
                <a:lnTo>
                  <a:pt x="168" y="118"/>
                </a:lnTo>
                <a:lnTo>
                  <a:pt x="186" y="116"/>
                </a:lnTo>
                <a:lnTo>
                  <a:pt x="202" y="111"/>
                </a:lnTo>
                <a:lnTo>
                  <a:pt x="217" y="105"/>
                </a:lnTo>
                <a:lnTo>
                  <a:pt x="229" y="98"/>
                </a:lnTo>
                <a:lnTo>
                  <a:pt x="238" y="90"/>
                </a:lnTo>
                <a:lnTo>
                  <a:pt x="244" y="81"/>
                </a:lnTo>
                <a:lnTo>
                  <a:pt x="246" y="72"/>
                </a:lnTo>
                <a:lnTo>
                  <a:pt x="295" y="72"/>
                </a:lnTo>
              </a:path>
            </a:pathLst>
          </a:cu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146400" y="4151160"/>
            <a:ext cx="314280" cy="152640"/>
          </a:xfrm>
          <a:custGeom>
            <a:avLst/>
            <a:gdLst/>
            <a:ahLst/>
            <a:rect l="l" t="t" r="r" b="b"/>
            <a:pathLst>
              <a:path w="198" h="96">
                <a:moveTo>
                  <a:pt x="197" y="48"/>
                </a:moveTo>
                <a:lnTo>
                  <a:pt x="195" y="38"/>
                </a:lnTo>
                <a:lnTo>
                  <a:pt x="189" y="29"/>
                </a:lnTo>
                <a:lnTo>
                  <a:pt x="180" y="21"/>
                </a:lnTo>
                <a:lnTo>
                  <a:pt x="168" y="14"/>
                </a:lnTo>
                <a:lnTo>
                  <a:pt x="153" y="8"/>
                </a:lnTo>
                <a:lnTo>
                  <a:pt x="137" y="4"/>
                </a:lnTo>
                <a:lnTo>
                  <a:pt x="119" y="1"/>
                </a:lnTo>
                <a:lnTo>
                  <a:pt x="99" y="0"/>
                </a:lnTo>
                <a:lnTo>
                  <a:pt x="78" y="1"/>
                </a:lnTo>
                <a:lnTo>
                  <a:pt x="60" y="4"/>
                </a:lnTo>
                <a:lnTo>
                  <a:pt x="44" y="8"/>
                </a:lnTo>
                <a:lnTo>
                  <a:pt x="29" y="14"/>
                </a:lnTo>
                <a:lnTo>
                  <a:pt x="17" y="21"/>
                </a:lnTo>
                <a:lnTo>
                  <a:pt x="8" y="29"/>
                </a:lnTo>
                <a:lnTo>
                  <a:pt x="2" y="38"/>
                </a:lnTo>
                <a:lnTo>
                  <a:pt x="0" y="48"/>
                </a:lnTo>
                <a:lnTo>
                  <a:pt x="2" y="57"/>
                </a:lnTo>
                <a:lnTo>
                  <a:pt x="8" y="66"/>
                </a:lnTo>
                <a:lnTo>
                  <a:pt x="17" y="74"/>
                </a:lnTo>
                <a:lnTo>
                  <a:pt x="29" y="81"/>
                </a:lnTo>
                <a:lnTo>
                  <a:pt x="44" y="87"/>
                </a:lnTo>
                <a:lnTo>
                  <a:pt x="60" y="92"/>
                </a:lnTo>
                <a:lnTo>
                  <a:pt x="78" y="94"/>
                </a:lnTo>
                <a:lnTo>
                  <a:pt x="99" y="95"/>
                </a:lnTo>
                <a:lnTo>
                  <a:pt x="119" y="94"/>
                </a:lnTo>
                <a:lnTo>
                  <a:pt x="137" y="92"/>
                </a:lnTo>
                <a:lnTo>
                  <a:pt x="153" y="87"/>
                </a:lnTo>
                <a:lnTo>
                  <a:pt x="168" y="81"/>
                </a:lnTo>
                <a:lnTo>
                  <a:pt x="180" y="74"/>
                </a:lnTo>
                <a:lnTo>
                  <a:pt x="189" y="66"/>
                </a:lnTo>
                <a:lnTo>
                  <a:pt x="195" y="57"/>
                </a:lnTo>
                <a:lnTo>
                  <a:pt x="197" y="48"/>
                </a:lnTo>
                <a:lnTo>
                  <a:pt x="147" y="48"/>
                </a:lnTo>
                <a:lnTo>
                  <a:pt x="146" y="43"/>
                </a:lnTo>
                <a:lnTo>
                  <a:pt x="143" y="38"/>
                </a:lnTo>
                <a:lnTo>
                  <a:pt x="139" y="34"/>
                </a:lnTo>
                <a:lnTo>
                  <a:pt x="132" y="31"/>
                </a:lnTo>
                <a:lnTo>
                  <a:pt x="126" y="28"/>
                </a:lnTo>
                <a:lnTo>
                  <a:pt x="118" y="26"/>
                </a:lnTo>
                <a:lnTo>
                  <a:pt x="108" y="25"/>
                </a:lnTo>
                <a:lnTo>
                  <a:pt x="99" y="24"/>
                </a:lnTo>
                <a:lnTo>
                  <a:pt x="89" y="25"/>
                </a:lnTo>
                <a:lnTo>
                  <a:pt x="79" y="26"/>
                </a:lnTo>
                <a:lnTo>
                  <a:pt x="71" y="28"/>
                </a:lnTo>
                <a:lnTo>
                  <a:pt x="65" y="31"/>
                </a:lnTo>
                <a:lnTo>
                  <a:pt x="58" y="34"/>
                </a:lnTo>
                <a:lnTo>
                  <a:pt x="54" y="38"/>
                </a:lnTo>
                <a:lnTo>
                  <a:pt x="51" y="43"/>
                </a:lnTo>
                <a:lnTo>
                  <a:pt x="50" y="48"/>
                </a:lnTo>
                <a:lnTo>
                  <a:pt x="51" y="52"/>
                </a:lnTo>
                <a:lnTo>
                  <a:pt x="54" y="57"/>
                </a:lnTo>
                <a:lnTo>
                  <a:pt x="58" y="61"/>
                </a:lnTo>
                <a:lnTo>
                  <a:pt x="65" y="64"/>
                </a:lnTo>
                <a:lnTo>
                  <a:pt x="71" y="67"/>
                </a:lnTo>
                <a:lnTo>
                  <a:pt x="79" y="69"/>
                </a:lnTo>
                <a:lnTo>
                  <a:pt x="89" y="71"/>
                </a:lnTo>
                <a:lnTo>
                  <a:pt x="99" y="71"/>
                </a:lnTo>
                <a:lnTo>
                  <a:pt x="108" y="71"/>
                </a:lnTo>
                <a:lnTo>
                  <a:pt x="118" y="69"/>
                </a:lnTo>
                <a:lnTo>
                  <a:pt x="126" y="67"/>
                </a:lnTo>
                <a:lnTo>
                  <a:pt x="132" y="64"/>
                </a:lnTo>
                <a:lnTo>
                  <a:pt x="139" y="61"/>
                </a:lnTo>
                <a:lnTo>
                  <a:pt x="143" y="57"/>
                </a:lnTo>
                <a:lnTo>
                  <a:pt x="146" y="52"/>
                </a:lnTo>
                <a:lnTo>
                  <a:pt x="147" y="48"/>
                </a:lnTo>
                <a:lnTo>
                  <a:pt x="197" y="48"/>
                </a:lnTo>
              </a:path>
            </a:pathLst>
          </a:cu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225960" y="4189320"/>
            <a:ext cx="155520" cy="76320"/>
          </a:xfrm>
          <a:custGeom>
            <a:avLst/>
            <a:gdLst/>
            <a:ahLst/>
            <a:rect l="l" t="t" r="r" b="b"/>
            <a:pathLst>
              <a:path w="98" h="48">
                <a:moveTo>
                  <a:pt x="97" y="24"/>
                </a:moveTo>
                <a:lnTo>
                  <a:pt x="96" y="19"/>
                </a:lnTo>
                <a:lnTo>
                  <a:pt x="93" y="14"/>
                </a:lnTo>
                <a:lnTo>
                  <a:pt x="89" y="10"/>
                </a:lnTo>
                <a:lnTo>
                  <a:pt x="82" y="7"/>
                </a:lnTo>
                <a:lnTo>
                  <a:pt x="76" y="4"/>
                </a:lnTo>
                <a:lnTo>
                  <a:pt x="68" y="2"/>
                </a:lnTo>
                <a:lnTo>
                  <a:pt x="58" y="1"/>
                </a:lnTo>
                <a:lnTo>
                  <a:pt x="49" y="0"/>
                </a:lnTo>
                <a:lnTo>
                  <a:pt x="39" y="1"/>
                </a:lnTo>
                <a:lnTo>
                  <a:pt x="29" y="2"/>
                </a:lnTo>
                <a:lnTo>
                  <a:pt x="21" y="4"/>
                </a:lnTo>
                <a:lnTo>
                  <a:pt x="15" y="7"/>
                </a:lnTo>
                <a:lnTo>
                  <a:pt x="8" y="10"/>
                </a:lnTo>
                <a:lnTo>
                  <a:pt x="4" y="14"/>
                </a:lnTo>
                <a:lnTo>
                  <a:pt x="1" y="19"/>
                </a:lnTo>
                <a:lnTo>
                  <a:pt x="0" y="24"/>
                </a:lnTo>
                <a:lnTo>
                  <a:pt x="1" y="28"/>
                </a:lnTo>
                <a:lnTo>
                  <a:pt x="4" y="33"/>
                </a:lnTo>
                <a:lnTo>
                  <a:pt x="8" y="37"/>
                </a:lnTo>
                <a:lnTo>
                  <a:pt x="15" y="40"/>
                </a:lnTo>
                <a:lnTo>
                  <a:pt x="21" y="43"/>
                </a:lnTo>
                <a:lnTo>
                  <a:pt x="29" y="45"/>
                </a:lnTo>
                <a:lnTo>
                  <a:pt x="39" y="47"/>
                </a:lnTo>
                <a:lnTo>
                  <a:pt x="49" y="47"/>
                </a:lnTo>
                <a:lnTo>
                  <a:pt x="58" y="47"/>
                </a:lnTo>
                <a:lnTo>
                  <a:pt x="68" y="45"/>
                </a:lnTo>
                <a:lnTo>
                  <a:pt x="76" y="43"/>
                </a:lnTo>
                <a:lnTo>
                  <a:pt x="82" y="40"/>
                </a:lnTo>
                <a:lnTo>
                  <a:pt x="89" y="37"/>
                </a:lnTo>
                <a:lnTo>
                  <a:pt x="93" y="33"/>
                </a:lnTo>
                <a:lnTo>
                  <a:pt x="96" y="28"/>
                </a:lnTo>
                <a:lnTo>
                  <a:pt x="97" y="2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819680" y="2208240"/>
            <a:ext cx="3009960" cy="3362400"/>
          </a:xfrm>
          <a:custGeom>
            <a:avLst/>
            <a:gdLst/>
            <a:ahLst/>
            <a:rect l="l" t="t" r="r" b="b"/>
            <a:pathLst>
              <a:path w="1896" h="2118">
                <a:moveTo>
                  <a:pt x="1546" y="247"/>
                </a:moveTo>
                <a:lnTo>
                  <a:pt x="1513" y="219"/>
                </a:lnTo>
                <a:lnTo>
                  <a:pt x="1478" y="192"/>
                </a:lnTo>
                <a:lnTo>
                  <a:pt x="1443" y="167"/>
                </a:lnTo>
                <a:lnTo>
                  <a:pt x="1406" y="143"/>
                </a:lnTo>
                <a:lnTo>
                  <a:pt x="1369" y="121"/>
                </a:lnTo>
                <a:lnTo>
                  <a:pt x="1330" y="101"/>
                </a:lnTo>
                <a:lnTo>
                  <a:pt x="1291" y="83"/>
                </a:lnTo>
                <a:lnTo>
                  <a:pt x="1251" y="66"/>
                </a:lnTo>
                <a:lnTo>
                  <a:pt x="1211" y="50"/>
                </a:lnTo>
                <a:lnTo>
                  <a:pt x="1169" y="37"/>
                </a:lnTo>
                <a:lnTo>
                  <a:pt x="1127" y="26"/>
                </a:lnTo>
                <a:lnTo>
                  <a:pt x="1084" y="17"/>
                </a:lnTo>
                <a:lnTo>
                  <a:pt x="1040" y="9"/>
                </a:lnTo>
                <a:lnTo>
                  <a:pt x="996" y="4"/>
                </a:lnTo>
                <a:lnTo>
                  <a:pt x="951" y="1"/>
                </a:lnTo>
                <a:lnTo>
                  <a:pt x="906" y="0"/>
                </a:lnTo>
                <a:lnTo>
                  <a:pt x="879" y="0"/>
                </a:lnTo>
                <a:lnTo>
                  <a:pt x="852" y="1"/>
                </a:lnTo>
                <a:lnTo>
                  <a:pt x="826" y="3"/>
                </a:lnTo>
                <a:lnTo>
                  <a:pt x="799" y="6"/>
                </a:lnTo>
                <a:lnTo>
                  <a:pt x="773" y="9"/>
                </a:lnTo>
                <a:lnTo>
                  <a:pt x="747" y="13"/>
                </a:lnTo>
                <a:lnTo>
                  <a:pt x="722" y="18"/>
                </a:lnTo>
                <a:lnTo>
                  <a:pt x="696" y="23"/>
                </a:lnTo>
                <a:lnTo>
                  <a:pt x="670" y="29"/>
                </a:lnTo>
                <a:lnTo>
                  <a:pt x="646" y="37"/>
                </a:lnTo>
                <a:lnTo>
                  <a:pt x="621" y="44"/>
                </a:lnTo>
                <a:lnTo>
                  <a:pt x="597" y="52"/>
                </a:lnTo>
                <a:lnTo>
                  <a:pt x="572" y="61"/>
                </a:lnTo>
                <a:lnTo>
                  <a:pt x="548" y="70"/>
                </a:lnTo>
                <a:lnTo>
                  <a:pt x="525" y="81"/>
                </a:lnTo>
                <a:lnTo>
                  <a:pt x="501" y="91"/>
                </a:lnTo>
                <a:lnTo>
                  <a:pt x="536" y="90"/>
                </a:lnTo>
                <a:lnTo>
                  <a:pt x="572" y="90"/>
                </a:lnTo>
                <a:lnTo>
                  <a:pt x="607" y="90"/>
                </a:lnTo>
                <a:lnTo>
                  <a:pt x="642" y="90"/>
                </a:lnTo>
                <a:lnTo>
                  <a:pt x="678" y="90"/>
                </a:lnTo>
                <a:lnTo>
                  <a:pt x="713" y="91"/>
                </a:lnTo>
                <a:lnTo>
                  <a:pt x="747" y="93"/>
                </a:lnTo>
                <a:lnTo>
                  <a:pt x="781" y="94"/>
                </a:lnTo>
                <a:lnTo>
                  <a:pt x="816" y="96"/>
                </a:lnTo>
                <a:lnTo>
                  <a:pt x="851" y="99"/>
                </a:lnTo>
                <a:lnTo>
                  <a:pt x="885" y="102"/>
                </a:lnTo>
                <a:lnTo>
                  <a:pt x="919" y="105"/>
                </a:lnTo>
                <a:lnTo>
                  <a:pt x="953" y="109"/>
                </a:lnTo>
                <a:lnTo>
                  <a:pt x="986" y="113"/>
                </a:lnTo>
                <a:lnTo>
                  <a:pt x="1020" y="117"/>
                </a:lnTo>
                <a:lnTo>
                  <a:pt x="1054" y="122"/>
                </a:lnTo>
                <a:lnTo>
                  <a:pt x="1086" y="127"/>
                </a:lnTo>
                <a:lnTo>
                  <a:pt x="1119" y="133"/>
                </a:lnTo>
                <a:lnTo>
                  <a:pt x="1152" y="138"/>
                </a:lnTo>
                <a:lnTo>
                  <a:pt x="1184" y="144"/>
                </a:lnTo>
                <a:lnTo>
                  <a:pt x="1216" y="151"/>
                </a:lnTo>
                <a:lnTo>
                  <a:pt x="1248" y="158"/>
                </a:lnTo>
                <a:lnTo>
                  <a:pt x="1279" y="165"/>
                </a:lnTo>
                <a:lnTo>
                  <a:pt x="1310" y="173"/>
                </a:lnTo>
                <a:lnTo>
                  <a:pt x="1341" y="181"/>
                </a:lnTo>
                <a:lnTo>
                  <a:pt x="1371" y="189"/>
                </a:lnTo>
                <a:lnTo>
                  <a:pt x="1401" y="198"/>
                </a:lnTo>
                <a:lnTo>
                  <a:pt x="1431" y="207"/>
                </a:lnTo>
                <a:lnTo>
                  <a:pt x="1460" y="217"/>
                </a:lnTo>
                <a:lnTo>
                  <a:pt x="1489" y="226"/>
                </a:lnTo>
                <a:lnTo>
                  <a:pt x="1517" y="236"/>
                </a:lnTo>
                <a:lnTo>
                  <a:pt x="1546" y="247"/>
                </a:lnTo>
                <a:lnTo>
                  <a:pt x="0" y="1500"/>
                </a:lnTo>
                <a:lnTo>
                  <a:pt x="16" y="1534"/>
                </a:lnTo>
                <a:lnTo>
                  <a:pt x="32" y="1567"/>
                </a:lnTo>
                <a:lnTo>
                  <a:pt x="50" y="1599"/>
                </a:lnTo>
                <a:lnTo>
                  <a:pt x="68" y="1631"/>
                </a:lnTo>
                <a:lnTo>
                  <a:pt x="88" y="1662"/>
                </a:lnTo>
                <a:lnTo>
                  <a:pt x="108" y="1692"/>
                </a:lnTo>
                <a:lnTo>
                  <a:pt x="130" y="1721"/>
                </a:lnTo>
                <a:lnTo>
                  <a:pt x="152" y="1750"/>
                </a:lnTo>
                <a:lnTo>
                  <a:pt x="175" y="1777"/>
                </a:lnTo>
                <a:lnTo>
                  <a:pt x="200" y="1804"/>
                </a:lnTo>
                <a:lnTo>
                  <a:pt x="225" y="1830"/>
                </a:lnTo>
                <a:lnTo>
                  <a:pt x="250" y="1855"/>
                </a:lnTo>
                <a:lnTo>
                  <a:pt x="277" y="1879"/>
                </a:lnTo>
                <a:lnTo>
                  <a:pt x="305" y="1902"/>
                </a:lnTo>
                <a:lnTo>
                  <a:pt x="333" y="1924"/>
                </a:lnTo>
                <a:lnTo>
                  <a:pt x="362" y="1945"/>
                </a:lnTo>
                <a:lnTo>
                  <a:pt x="392" y="1965"/>
                </a:lnTo>
                <a:lnTo>
                  <a:pt x="422" y="1983"/>
                </a:lnTo>
                <a:lnTo>
                  <a:pt x="453" y="2001"/>
                </a:lnTo>
                <a:lnTo>
                  <a:pt x="485" y="2018"/>
                </a:lnTo>
                <a:lnTo>
                  <a:pt x="517" y="2033"/>
                </a:lnTo>
                <a:lnTo>
                  <a:pt x="550" y="2047"/>
                </a:lnTo>
                <a:lnTo>
                  <a:pt x="584" y="2060"/>
                </a:lnTo>
                <a:lnTo>
                  <a:pt x="618" y="2071"/>
                </a:lnTo>
                <a:lnTo>
                  <a:pt x="651" y="2082"/>
                </a:lnTo>
                <a:lnTo>
                  <a:pt x="687" y="2091"/>
                </a:lnTo>
                <a:lnTo>
                  <a:pt x="722" y="2099"/>
                </a:lnTo>
                <a:lnTo>
                  <a:pt x="758" y="2105"/>
                </a:lnTo>
                <a:lnTo>
                  <a:pt x="795" y="2110"/>
                </a:lnTo>
                <a:lnTo>
                  <a:pt x="831" y="2114"/>
                </a:lnTo>
                <a:lnTo>
                  <a:pt x="869" y="2116"/>
                </a:lnTo>
                <a:lnTo>
                  <a:pt x="906" y="2117"/>
                </a:lnTo>
                <a:lnTo>
                  <a:pt x="952" y="2116"/>
                </a:lnTo>
                <a:lnTo>
                  <a:pt x="999" y="2112"/>
                </a:lnTo>
                <a:lnTo>
                  <a:pt x="1044" y="2107"/>
                </a:lnTo>
                <a:lnTo>
                  <a:pt x="1089" y="2099"/>
                </a:lnTo>
                <a:lnTo>
                  <a:pt x="1133" y="2089"/>
                </a:lnTo>
                <a:lnTo>
                  <a:pt x="1176" y="2078"/>
                </a:lnTo>
                <a:lnTo>
                  <a:pt x="1219" y="2064"/>
                </a:lnTo>
                <a:lnTo>
                  <a:pt x="1261" y="2048"/>
                </a:lnTo>
                <a:lnTo>
                  <a:pt x="1302" y="2030"/>
                </a:lnTo>
                <a:lnTo>
                  <a:pt x="1342" y="2011"/>
                </a:lnTo>
                <a:lnTo>
                  <a:pt x="1381" y="1989"/>
                </a:lnTo>
                <a:lnTo>
                  <a:pt x="1419" y="1966"/>
                </a:lnTo>
                <a:lnTo>
                  <a:pt x="1457" y="1941"/>
                </a:lnTo>
                <a:lnTo>
                  <a:pt x="1493" y="1915"/>
                </a:lnTo>
                <a:lnTo>
                  <a:pt x="1528" y="1887"/>
                </a:lnTo>
                <a:lnTo>
                  <a:pt x="1560" y="1857"/>
                </a:lnTo>
                <a:lnTo>
                  <a:pt x="1593" y="1826"/>
                </a:lnTo>
                <a:lnTo>
                  <a:pt x="1624" y="1794"/>
                </a:lnTo>
                <a:lnTo>
                  <a:pt x="1654" y="1760"/>
                </a:lnTo>
                <a:lnTo>
                  <a:pt x="1682" y="1725"/>
                </a:lnTo>
                <a:lnTo>
                  <a:pt x="1709" y="1688"/>
                </a:lnTo>
                <a:lnTo>
                  <a:pt x="1735" y="1651"/>
                </a:lnTo>
                <a:lnTo>
                  <a:pt x="1758" y="1612"/>
                </a:lnTo>
                <a:lnTo>
                  <a:pt x="1780" y="1571"/>
                </a:lnTo>
                <a:lnTo>
                  <a:pt x="1801" y="1530"/>
                </a:lnTo>
                <a:lnTo>
                  <a:pt x="1820" y="1488"/>
                </a:lnTo>
                <a:lnTo>
                  <a:pt x="1837" y="1445"/>
                </a:lnTo>
                <a:lnTo>
                  <a:pt x="1853" y="1401"/>
                </a:lnTo>
                <a:lnTo>
                  <a:pt x="1866" y="1356"/>
                </a:lnTo>
                <a:lnTo>
                  <a:pt x="1877" y="1310"/>
                </a:lnTo>
                <a:lnTo>
                  <a:pt x="1888" y="1264"/>
                </a:lnTo>
                <a:lnTo>
                  <a:pt x="1895" y="1216"/>
                </a:lnTo>
                <a:lnTo>
                  <a:pt x="1857" y="1244"/>
                </a:lnTo>
                <a:lnTo>
                  <a:pt x="1817" y="1272"/>
                </a:lnTo>
                <a:lnTo>
                  <a:pt x="1775" y="1298"/>
                </a:lnTo>
                <a:lnTo>
                  <a:pt x="1730" y="1323"/>
                </a:lnTo>
                <a:lnTo>
                  <a:pt x="1683" y="1346"/>
                </a:lnTo>
                <a:lnTo>
                  <a:pt x="1634" y="1369"/>
                </a:lnTo>
                <a:lnTo>
                  <a:pt x="1585" y="1390"/>
                </a:lnTo>
                <a:lnTo>
                  <a:pt x="1532" y="1411"/>
                </a:lnTo>
                <a:lnTo>
                  <a:pt x="1478" y="1430"/>
                </a:lnTo>
                <a:lnTo>
                  <a:pt x="1423" y="1448"/>
                </a:lnTo>
                <a:lnTo>
                  <a:pt x="1366" y="1464"/>
                </a:lnTo>
                <a:lnTo>
                  <a:pt x="1308" y="1479"/>
                </a:lnTo>
                <a:lnTo>
                  <a:pt x="1248" y="1494"/>
                </a:lnTo>
                <a:lnTo>
                  <a:pt x="1188" y="1506"/>
                </a:lnTo>
                <a:lnTo>
                  <a:pt x="1125" y="1518"/>
                </a:lnTo>
                <a:lnTo>
                  <a:pt x="1063" y="1528"/>
                </a:lnTo>
                <a:lnTo>
                  <a:pt x="1000" y="1537"/>
                </a:lnTo>
                <a:lnTo>
                  <a:pt x="935" y="1544"/>
                </a:lnTo>
                <a:lnTo>
                  <a:pt x="870" y="1550"/>
                </a:lnTo>
                <a:lnTo>
                  <a:pt x="803" y="1555"/>
                </a:lnTo>
                <a:lnTo>
                  <a:pt x="738" y="1559"/>
                </a:lnTo>
                <a:lnTo>
                  <a:pt x="670" y="1561"/>
                </a:lnTo>
                <a:lnTo>
                  <a:pt x="604" y="1561"/>
                </a:lnTo>
                <a:lnTo>
                  <a:pt x="536" y="1560"/>
                </a:lnTo>
                <a:lnTo>
                  <a:pt x="469" y="1558"/>
                </a:lnTo>
                <a:lnTo>
                  <a:pt x="401" y="1554"/>
                </a:lnTo>
                <a:lnTo>
                  <a:pt x="334" y="1549"/>
                </a:lnTo>
                <a:lnTo>
                  <a:pt x="266" y="1542"/>
                </a:lnTo>
                <a:lnTo>
                  <a:pt x="200" y="1534"/>
                </a:lnTo>
                <a:lnTo>
                  <a:pt x="132" y="1524"/>
                </a:lnTo>
                <a:lnTo>
                  <a:pt x="65" y="1513"/>
                </a:lnTo>
                <a:lnTo>
                  <a:pt x="0" y="1500"/>
                </a:lnTo>
                <a:lnTo>
                  <a:pt x="1546" y="247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789440" y="2351160"/>
            <a:ext cx="3056040" cy="2336760"/>
          </a:xfrm>
          <a:custGeom>
            <a:avLst/>
            <a:gdLst/>
            <a:ahLst/>
            <a:rect l="l" t="t" r="r" b="b"/>
            <a:pathLst>
              <a:path w="1925" h="1472">
                <a:moveTo>
                  <a:pt x="1565" y="157"/>
                </a:moveTo>
                <a:lnTo>
                  <a:pt x="1571" y="162"/>
                </a:lnTo>
                <a:lnTo>
                  <a:pt x="1576" y="167"/>
                </a:lnTo>
                <a:lnTo>
                  <a:pt x="1583" y="173"/>
                </a:lnTo>
                <a:lnTo>
                  <a:pt x="1588" y="178"/>
                </a:lnTo>
                <a:lnTo>
                  <a:pt x="1594" y="184"/>
                </a:lnTo>
                <a:lnTo>
                  <a:pt x="1600" y="189"/>
                </a:lnTo>
                <a:lnTo>
                  <a:pt x="1606" y="195"/>
                </a:lnTo>
                <a:lnTo>
                  <a:pt x="1611" y="200"/>
                </a:lnTo>
                <a:lnTo>
                  <a:pt x="1616" y="206"/>
                </a:lnTo>
                <a:lnTo>
                  <a:pt x="1623" y="212"/>
                </a:lnTo>
                <a:lnTo>
                  <a:pt x="1628" y="218"/>
                </a:lnTo>
                <a:lnTo>
                  <a:pt x="1633" y="223"/>
                </a:lnTo>
                <a:lnTo>
                  <a:pt x="1640" y="229"/>
                </a:lnTo>
                <a:lnTo>
                  <a:pt x="1645" y="235"/>
                </a:lnTo>
                <a:lnTo>
                  <a:pt x="1650" y="241"/>
                </a:lnTo>
                <a:lnTo>
                  <a:pt x="1655" y="247"/>
                </a:lnTo>
                <a:lnTo>
                  <a:pt x="1626" y="233"/>
                </a:lnTo>
                <a:lnTo>
                  <a:pt x="1595" y="219"/>
                </a:lnTo>
                <a:lnTo>
                  <a:pt x="1564" y="206"/>
                </a:lnTo>
                <a:lnTo>
                  <a:pt x="1531" y="193"/>
                </a:lnTo>
                <a:lnTo>
                  <a:pt x="1498" y="180"/>
                </a:lnTo>
                <a:lnTo>
                  <a:pt x="1465" y="168"/>
                </a:lnTo>
                <a:lnTo>
                  <a:pt x="1431" y="157"/>
                </a:lnTo>
                <a:lnTo>
                  <a:pt x="1396" y="146"/>
                </a:lnTo>
                <a:lnTo>
                  <a:pt x="1361" y="136"/>
                </a:lnTo>
                <a:lnTo>
                  <a:pt x="1325" y="126"/>
                </a:lnTo>
                <a:lnTo>
                  <a:pt x="1288" y="116"/>
                </a:lnTo>
                <a:lnTo>
                  <a:pt x="1251" y="108"/>
                </a:lnTo>
                <a:lnTo>
                  <a:pt x="1214" y="99"/>
                </a:lnTo>
                <a:lnTo>
                  <a:pt x="1176" y="91"/>
                </a:lnTo>
                <a:lnTo>
                  <a:pt x="1138" y="84"/>
                </a:lnTo>
                <a:lnTo>
                  <a:pt x="1099" y="77"/>
                </a:lnTo>
                <a:lnTo>
                  <a:pt x="1060" y="71"/>
                </a:lnTo>
                <a:lnTo>
                  <a:pt x="1021" y="65"/>
                </a:lnTo>
                <a:lnTo>
                  <a:pt x="981" y="60"/>
                </a:lnTo>
                <a:lnTo>
                  <a:pt x="941" y="55"/>
                </a:lnTo>
                <a:lnTo>
                  <a:pt x="900" y="51"/>
                </a:lnTo>
                <a:lnTo>
                  <a:pt x="859" y="48"/>
                </a:lnTo>
                <a:lnTo>
                  <a:pt x="818" y="45"/>
                </a:lnTo>
                <a:lnTo>
                  <a:pt x="776" y="43"/>
                </a:lnTo>
                <a:lnTo>
                  <a:pt x="735" y="41"/>
                </a:lnTo>
                <a:lnTo>
                  <a:pt x="693" y="40"/>
                </a:lnTo>
                <a:lnTo>
                  <a:pt x="651" y="39"/>
                </a:lnTo>
                <a:lnTo>
                  <a:pt x="609" y="39"/>
                </a:lnTo>
                <a:lnTo>
                  <a:pt x="567" y="40"/>
                </a:lnTo>
                <a:lnTo>
                  <a:pt x="525" y="41"/>
                </a:lnTo>
                <a:lnTo>
                  <a:pt x="481" y="42"/>
                </a:lnTo>
                <a:lnTo>
                  <a:pt x="439" y="45"/>
                </a:lnTo>
                <a:lnTo>
                  <a:pt x="449" y="39"/>
                </a:lnTo>
                <a:lnTo>
                  <a:pt x="459" y="33"/>
                </a:lnTo>
                <a:lnTo>
                  <a:pt x="469" y="27"/>
                </a:lnTo>
                <a:lnTo>
                  <a:pt x="479" y="22"/>
                </a:lnTo>
                <a:lnTo>
                  <a:pt x="490" y="17"/>
                </a:lnTo>
                <a:lnTo>
                  <a:pt x="500" y="11"/>
                </a:lnTo>
                <a:lnTo>
                  <a:pt x="510" y="6"/>
                </a:lnTo>
                <a:lnTo>
                  <a:pt x="520" y="1"/>
                </a:lnTo>
                <a:lnTo>
                  <a:pt x="555" y="0"/>
                </a:lnTo>
                <a:lnTo>
                  <a:pt x="591" y="0"/>
                </a:lnTo>
                <a:lnTo>
                  <a:pt x="626" y="0"/>
                </a:lnTo>
                <a:lnTo>
                  <a:pt x="661" y="0"/>
                </a:lnTo>
                <a:lnTo>
                  <a:pt x="697" y="0"/>
                </a:lnTo>
                <a:lnTo>
                  <a:pt x="732" y="1"/>
                </a:lnTo>
                <a:lnTo>
                  <a:pt x="766" y="3"/>
                </a:lnTo>
                <a:lnTo>
                  <a:pt x="800" y="4"/>
                </a:lnTo>
                <a:lnTo>
                  <a:pt x="835" y="6"/>
                </a:lnTo>
                <a:lnTo>
                  <a:pt x="870" y="9"/>
                </a:lnTo>
                <a:lnTo>
                  <a:pt x="904" y="12"/>
                </a:lnTo>
                <a:lnTo>
                  <a:pt x="938" y="15"/>
                </a:lnTo>
                <a:lnTo>
                  <a:pt x="972" y="19"/>
                </a:lnTo>
                <a:lnTo>
                  <a:pt x="1005" y="23"/>
                </a:lnTo>
                <a:lnTo>
                  <a:pt x="1039" y="27"/>
                </a:lnTo>
                <a:lnTo>
                  <a:pt x="1073" y="32"/>
                </a:lnTo>
                <a:lnTo>
                  <a:pt x="1105" y="37"/>
                </a:lnTo>
                <a:lnTo>
                  <a:pt x="1138" y="43"/>
                </a:lnTo>
                <a:lnTo>
                  <a:pt x="1171" y="48"/>
                </a:lnTo>
                <a:lnTo>
                  <a:pt x="1203" y="54"/>
                </a:lnTo>
                <a:lnTo>
                  <a:pt x="1235" y="61"/>
                </a:lnTo>
                <a:lnTo>
                  <a:pt x="1267" y="68"/>
                </a:lnTo>
                <a:lnTo>
                  <a:pt x="1298" y="75"/>
                </a:lnTo>
                <a:lnTo>
                  <a:pt x="1329" y="83"/>
                </a:lnTo>
                <a:lnTo>
                  <a:pt x="1360" y="91"/>
                </a:lnTo>
                <a:lnTo>
                  <a:pt x="1390" y="99"/>
                </a:lnTo>
                <a:lnTo>
                  <a:pt x="1420" y="108"/>
                </a:lnTo>
                <a:lnTo>
                  <a:pt x="1450" y="117"/>
                </a:lnTo>
                <a:lnTo>
                  <a:pt x="1479" y="127"/>
                </a:lnTo>
                <a:lnTo>
                  <a:pt x="1508" y="136"/>
                </a:lnTo>
                <a:lnTo>
                  <a:pt x="1536" y="146"/>
                </a:lnTo>
                <a:lnTo>
                  <a:pt x="1565" y="157"/>
                </a:lnTo>
                <a:lnTo>
                  <a:pt x="19" y="1410"/>
                </a:lnTo>
                <a:lnTo>
                  <a:pt x="17" y="1404"/>
                </a:lnTo>
                <a:lnTo>
                  <a:pt x="15" y="1398"/>
                </a:lnTo>
                <a:lnTo>
                  <a:pt x="12" y="1392"/>
                </a:lnTo>
                <a:lnTo>
                  <a:pt x="9" y="1386"/>
                </a:lnTo>
                <a:lnTo>
                  <a:pt x="7" y="1381"/>
                </a:lnTo>
                <a:lnTo>
                  <a:pt x="5" y="1374"/>
                </a:lnTo>
                <a:lnTo>
                  <a:pt x="2" y="1369"/>
                </a:lnTo>
                <a:lnTo>
                  <a:pt x="0" y="1363"/>
                </a:lnTo>
                <a:lnTo>
                  <a:pt x="33" y="1370"/>
                </a:lnTo>
                <a:lnTo>
                  <a:pt x="67" y="1377"/>
                </a:lnTo>
                <a:lnTo>
                  <a:pt x="100" y="1384"/>
                </a:lnTo>
                <a:lnTo>
                  <a:pt x="134" y="1390"/>
                </a:lnTo>
                <a:lnTo>
                  <a:pt x="168" y="1396"/>
                </a:lnTo>
                <a:lnTo>
                  <a:pt x="203" y="1401"/>
                </a:lnTo>
                <a:lnTo>
                  <a:pt x="236" y="1406"/>
                </a:lnTo>
                <a:lnTo>
                  <a:pt x="271" y="1411"/>
                </a:lnTo>
                <a:lnTo>
                  <a:pt x="306" y="1415"/>
                </a:lnTo>
                <a:lnTo>
                  <a:pt x="341" y="1418"/>
                </a:lnTo>
                <a:lnTo>
                  <a:pt x="376" y="1421"/>
                </a:lnTo>
                <a:lnTo>
                  <a:pt x="411" y="1425"/>
                </a:lnTo>
                <a:lnTo>
                  <a:pt x="447" y="1427"/>
                </a:lnTo>
                <a:lnTo>
                  <a:pt x="481" y="1429"/>
                </a:lnTo>
                <a:lnTo>
                  <a:pt x="516" y="1431"/>
                </a:lnTo>
                <a:lnTo>
                  <a:pt x="552" y="1432"/>
                </a:lnTo>
                <a:lnTo>
                  <a:pt x="587" y="1432"/>
                </a:lnTo>
                <a:lnTo>
                  <a:pt x="623" y="1433"/>
                </a:lnTo>
                <a:lnTo>
                  <a:pt x="658" y="1433"/>
                </a:lnTo>
                <a:lnTo>
                  <a:pt x="694" y="1432"/>
                </a:lnTo>
                <a:lnTo>
                  <a:pt x="728" y="1431"/>
                </a:lnTo>
                <a:lnTo>
                  <a:pt x="763" y="1430"/>
                </a:lnTo>
                <a:lnTo>
                  <a:pt x="799" y="1428"/>
                </a:lnTo>
                <a:lnTo>
                  <a:pt x="834" y="1426"/>
                </a:lnTo>
                <a:lnTo>
                  <a:pt x="869" y="1423"/>
                </a:lnTo>
                <a:lnTo>
                  <a:pt x="904" y="1420"/>
                </a:lnTo>
                <a:lnTo>
                  <a:pt x="939" y="1416"/>
                </a:lnTo>
                <a:lnTo>
                  <a:pt x="973" y="1413"/>
                </a:lnTo>
                <a:lnTo>
                  <a:pt x="1007" y="1408"/>
                </a:lnTo>
                <a:lnTo>
                  <a:pt x="1042" y="1404"/>
                </a:lnTo>
                <a:lnTo>
                  <a:pt x="1076" y="1398"/>
                </a:lnTo>
                <a:lnTo>
                  <a:pt x="1110" y="1393"/>
                </a:lnTo>
                <a:lnTo>
                  <a:pt x="1143" y="1387"/>
                </a:lnTo>
                <a:lnTo>
                  <a:pt x="1176" y="1381"/>
                </a:lnTo>
                <a:lnTo>
                  <a:pt x="1209" y="1374"/>
                </a:lnTo>
                <a:lnTo>
                  <a:pt x="1242" y="1367"/>
                </a:lnTo>
                <a:lnTo>
                  <a:pt x="1273" y="1359"/>
                </a:lnTo>
                <a:lnTo>
                  <a:pt x="1305" y="1351"/>
                </a:lnTo>
                <a:lnTo>
                  <a:pt x="1336" y="1343"/>
                </a:lnTo>
                <a:lnTo>
                  <a:pt x="1366" y="1335"/>
                </a:lnTo>
                <a:lnTo>
                  <a:pt x="1397" y="1325"/>
                </a:lnTo>
                <a:lnTo>
                  <a:pt x="1426" y="1316"/>
                </a:lnTo>
                <a:lnTo>
                  <a:pt x="1455" y="1306"/>
                </a:lnTo>
                <a:lnTo>
                  <a:pt x="1483" y="1297"/>
                </a:lnTo>
                <a:lnTo>
                  <a:pt x="1511" y="1286"/>
                </a:lnTo>
                <a:lnTo>
                  <a:pt x="1538" y="1276"/>
                </a:lnTo>
                <a:lnTo>
                  <a:pt x="1566" y="1265"/>
                </a:lnTo>
                <a:lnTo>
                  <a:pt x="1592" y="1254"/>
                </a:lnTo>
                <a:lnTo>
                  <a:pt x="1617" y="1242"/>
                </a:lnTo>
                <a:lnTo>
                  <a:pt x="1643" y="1231"/>
                </a:lnTo>
                <a:lnTo>
                  <a:pt x="1667" y="1218"/>
                </a:lnTo>
                <a:lnTo>
                  <a:pt x="1691" y="1206"/>
                </a:lnTo>
                <a:lnTo>
                  <a:pt x="1715" y="1194"/>
                </a:lnTo>
                <a:lnTo>
                  <a:pt x="1737" y="1181"/>
                </a:lnTo>
                <a:lnTo>
                  <a:pt x="1759" y="1168"/>
                </a:lnTo>
                <a:lnTo>
                  <a:pt x="1780" y="1154"/>
                </a:lnTo>
                <a:lnTo>
                  <a:pt x="1800" y="1141"/>
                </a:lnTo>
                <a:lnTo>
                  <a:pt x="1820" y="1127"/>
                </a:lnTo>
                <a:lnTo>
                  <a:pt x="1839" y="1113"/>
                </a:lnTo>
                <a:lnTo>
                  <a:pt x="1858" y="1098"/>
                </a:lnTo>
                <a:lnTo>
                  <a:pt x="1875" y="1084"/>
                </a:lnTo>
                <a:lnTo>
                  <a:pt x="1892" y="1069"/>
                </a:lnTo>
                <a:lnTo>
                  <a:pt x="1908" y="1054"/>
                </a:lnTo>
                <a:lnTo>
                  <a:pt x="1924" y="1039"/>
                </a:lnTo>
                <a:lnTo>
                  <a:pt x="1924" y="1045"/>
                </a:lnTo>
                <a:lnTo>
                  <a:pt x="1923" y="1050"/>
                </a:lnTo>
                <a:lnTo>
                  <a:pt x="1923" y="1056"/>
                </a:lnTo>
                <a:lnTo>
                  <a:pt x="1922" y="1061"/>
                </a:lnTo>
                <a:lnTo>
                  <a:pt x="1922" y="1067"/>
                </a:lnTo>
                <a:lnTo>
                  <a:pt x="1920" y="1072"/>
                </a:lnTo>
                <a:lnTo>
                  <a:pt x="1920" y="1078"/>
                </a:lnTo>
                <a:lnTo>
                  <a:pt x="1919" y="1083"/>
                </a:lnTo>
                <a:lnTo>
                  <a:pt x="1919" y="1089"/>
                </a:lnTo>
                <a:lnTo>
                  <a:pt x="1918" y="1094"/>
                </a:lnTo>
                <a:lnTo>
                  <a:pt x="1917" y="1099"/>
                </a:lnTo>
                <a:lnTo>
                  <a:pt x="1917" y="1105"/>
                </a:lnTo>
                <a:lnTo>
                  <a:pt x="1916" y="1110"/>
                </a:lnTo>
                <a:lnTo>
                  <a:pt x="1915" y="1116"/>
                </a:lnTo>
                <a:lnTo>
                  <a:pt x="1915" y="1121"/>
                </a:lnTo>
                <a:lnTo>
                  <a:pt x="1914" y="1126"/>
                </a:lnTo>
                <a:lnTo>
                  <a:pt x="1876" y="1154"/>
                </a:lnTo>
                <a:lnTo>
                  <a:pt x="1836" y="1182"/>
                </a:lnTo>
                <a:lnTo>
                  <a:pt x="1794" y="1208"/>
                </a:lnTo>
                <a:lnTo>
                  <a:pt x="1749" y="1233"/>
                </a:lnTo>
                <a:lnTo>
                  <a:pt x="1702" y="1256"/>
                </a:lnTo>
                <a:lnTo>
                  <a:pt x="1653" y="1279"/>
                </a:lnTo>
                <a:lnTo>
                  <a:pt x="1604" y="1300"/>
                </a:lnTo>
                <a:lnTo>
                  <a:pt x="1551" y="1321"/>
                </a:lnTo>
                <a:lnTo>
                  <a:pt x="1497" y="1340"/>
                </a:lnTo>
                <a:lnTo>
                  <a:pt x="1442" y="1358"/>
                </a:lnTo>
                <a:lnTo>
                  <a:pt x="1385" y="1374"/>
                </a:lnTo>
                <a:lnTo>
                  <a:pt x="1327" y="1389"/>
                </a:lnTo>
                <a:lnTo>
                  <a:pt x="1267" y="1404"/>
                </a:lnTo>
                <a:lnTo>
                  <a:pt x="1207" y="1416"/>
                </a:lnTo>
                <a:lnTo>
                  <a:pt x="1144" y="1428"/>
                </a:lnTo>
                <a:lnTo>
                  <a:pt x="1082" y="1438"/>
                </a:lnTo>
                <a:lnTo>
                  <a:pt x="1019" y="1447"/>
                </a:lnTo>
                <a:lnTo>
                  <a:pt x="954" y="1454"/>
                </a:lnTo>
                <a:lnTo>
                  <a:pt x="889" y="1460"/>
                </a:lnTo>
                <a:lnTo>
                  <a:pt x="822" y="1465"/>
                </a:lnTo>
                <a:lnTo>
                  <a:pt x="757" y="1469"/>
                </a:lnTo>
                <a:lnTo>
                  <a:pt x="689" y="1471"/>
                </a:lnTo>
                <a:lnTo>
                  <a:pt x="623" y="1471"/>
                </a:lnTo>
                <a:lnTo>
                  <a:pt x="555" y="1470"/>
                </a:lnTo>
                <a:lnTo>
                  <a:pt x="488" y="1468"/>
                </a:lnTo>
                <a:lnTo>
                  <a:pt x="420" y="1464"/>
                </a:lnTo>
                <a:lnTo>
                  <a:pt x="353" y="1459"/>
                </a:lnTo>
                <a:lnTo>
                  <a:pt x="285" y="1452"/>
                </a:lnTo>
                <a:lnTo>
                  <a:pt x="219" y="1444"/>
                </a:lnTo>
                <a:lnTo>
                  <a:pt x="151" y="1434"/>
                </a:lnTo>
                <a:lnTo>
                  <a:pt x="84" y="1423"/>
                </a:lnTo>
                <a:lnTo>
                  <a:pt x="19" y="1410"/>
                </a:lnTo>
                <a:lnTo>
                  <a:pt x="1565" y="157"/>
                </a:lnTo>
              </a:path>
            </a:pathLst>
          </a:cu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762440" y="2413080"/>
            <a:ext cx="3086280" cy="2214360"/>
          </a:xfrm>
          <a:custGeom>
            <a:avLst/>
            <a:gdLst/>
            <a:ahLst/>
            <a:rect l="l" t="t" r="r" b="b"/>
            <a:pathLst>
              <a:path w="1944" h="1395">
                <a:moveTo>
                  <a:pt x="1672" y="208"/>
                </a:moveTo>
                <a:lnTo>
                  <a:pt x="1678" y="215"/>
                </a:lnTo>
                <a:lnTo>
                  <a:pt x="1684" y="222"/>
                </a:lnTo>
                <a:lnTo>
                  <a:pt x="1689" y="228"/>
                </a:lnTo>
                <a:lnTo>
                  <a:pt x="1695" y="235"/>
                </a:lnTo>
                <a:lnTo>
                  <a:pt x="1701" y="241"/>
                </a:lnTo>
                <a:lnTo>
                  <a:pt x="1706" y="249"/>
                </a:lnTo>
                <a:lnTo>
                  <a:pt x="1712" y="255"/>
                </a:lnTo>
                <a:lnTo>
                  <a:pt x="1717" y="262"/>
                </a:lnTo>
                <a:lnTo>
                  <a:pt x="1722" y="269"/>
                </a:lnTo>
                <a:lnTo>
                  <a:pt x="1727" y="276"/>
                </a:lnTo>
                <a:lnTo>
                  <a:pt x="1733" y="283"/>
                </a:lnTo>
                <a:lnTo>
                  <a:pt x="1738" y="291"/>
                </a:lnTo>
                <a:lnTo>
                  <a:pt x="1743" y="298"/>
                </a:lnTo>
                <a:lnTo>
                  <a:pt x="1748" y="305"/>
                </a:lnTo>
                <a:lnTo>
                  <a:pt x="1753" y="312"/>
                </a:lnTo>
                <a:lnTo>
                  <a:pt x="1758" y="319"/>
                </a:lnTo>
                <a:lnTo>
                  <a:pt x="1729" y="300"/>
                </a:lnTo>
                <a:lnTo>
                  <a:pt x="1699" y="281"/>
                </a:lnTo>
                <a:lnTo>
                  <a:pt x="1667" y="263"/>
                </a:lnTo>
                <a:lnTo>
                  <a:pt x="1634" y="245"/>
                </a:lnTo>
                <a:lnTo>
                  <a:pt x="1601" y="228"/>
                </a:lnTo>
                <a:lnTo>
                  <a:pt x="1565" y="212"/>
                </a:lnTo>
                <a:lnTo>
                  <a:pt x="1529" y="196"/>
                </a:lnTo>
                <a:lnTo>
                  <a:pt x="1492" y="182"/>
                </a:lnTo>
                <a:lnTo>
                  <a:pt x="1453" y="167"/>
                </a:lnTo>
                <a:lnTo>
                  <a:pt x="1414" y="154"/>
                </a:lnTo>
                <a:lnTo>
                  <a:pt x="1374" y="141"/>
                </a:lnTo>
                <a:lnTo>
                  <a:pt x="1333" y="129"/>
                </a:lnTo>
                <a:lnTo>
                  <a:pt x="1290" y="117"/>
                </a:lnTo>
                <a:lnTo>
                  <a:pt x="1248" y="107"/>
                </a:lnTo>
                <a:lnTo>
                  <a:pt x="1205" y="97"/>
                </a:lnTo>
                <a:lnTo>
                  <a:pt x="1160" y="88"/>
                </a:lnTo>
                <a:lnTo>
                  <a:pt x="1115" y="79"/>
                </a:lnTo>
                <a:lnTo>
                  <a:pt x="1070" y="72"/>
                </a:lnTo>
                <a:lnTo>
                  <a:pt x="1023" y="65"/>
                </a:lnTo>
                <a:lnTo>
                  <a:pt x="977" y="58"/>
                </a:lnTo>
                <a:lnTo>
                  <a:pt x="929" y="53"/>
                </a:lnTo>
                <a:lnTo>
                  <a:pt x="882" y="49"/>
                </a:lnTo>
                <a:lnTo>
                  <a:pt x="833" y="45"/>
                </a:lnTo>
                <a:lnTo>
                  <a:pt x="785" y="43"/>
                </a:lnTo>
                <a:lnTo>
                  <a:pt x="736" y="40"/>
                </a:lnTo>
                <a:lnTo>
                  <a:pt x="687" y="39"/>
                </a:lnTo>
                <a:lnTo>
                  <a:pt x="638" y="39"/>
                </a:lnTo>
                <a:lnTo>
                  <a:pt x="588" y="39"/>
                </a:lnTo>
                <a:lnTo>
                  <a:pt x="539" y="40"/>
                </a:lnTo>
                <a:lnTo>
                  <a:pt x="489" y="43"/>
                </a:lnTo>
                <a:lnTo>
                  <a:pt x="438" y="46"/>
                </a:lnTo>
                <a:lnTo>
                  <a:pt x="389" y="50"/>
                </a:lnTo>
                <a:lnTo>
                  <a:pt x="397" y="44"/>
                </a:lnTo>
                <a:lnTo>
                  <a:pt x="406" y="38"/>
                </a:lnTo>
                <a:lnTo>
                  <a:pt x="414" y="33"/>
                </a:lnTo>
                <a:lnTo>
                  <a:pt x="422" y="27"/>
                </a:lnTo>
                <a:lnTo>
                  <a:pt x="431" y="22"/>
                </a:lnTo>
                <a:lnTo>
                  <a:pt x="439" y="16"/>
                </a:lnTo>
                <a:lnTo>
                  <a:pt x="448" y="11"/>
                </a:lnTo>
                <a:lnTo>
                  <a:pt x="456" y="6"/>
                </a:lnTo>
                <a:lnTo>
                  <a:pt x="498" y="3"/>
                </a:lnTo>
                <a:lnTo>
                  <a:pt x="542" y="2"/>
                </a:lnTo>
                <a:lnTo>
                  <a:pt x="584" y="1"/>
                </a:lnTo>
                <a:lnTo>
                  <a:pt x="626" y="0"/>
                </a:lnTo>
                <a:lnTo>
                  <a:pt x="668" y="0"/>
                </a:lnTo>
                <a:lnTo>
                  <a:pt x="710" y="1"/>
                </a:lnTo>
                <a:lnTo>
                  <a:pt x="752" y="2"/>
                </a:lnTo>
                <a:lnTo>
                  <a:pt x="793" y="4"/>
                </a:lnTo>
                <a:lnTo>
                  <a:pt x="835" y="6"/>
                </a:lnTo>
                <a:lnTo>
                  <a:pt x="876" y="9"/>
                </a:lnTo>
                <a:lnTo>
                  <a:pt x="917" y="12"/>
                </a:lnTo>
                <a:lnTo>
                  <a:pt x="958" y="16"/>
                </a:lnTo>
                <a:lnTo>
                  <a:pt x="998" y="21"/>
                </a:lnTo>
                <a:lnTo>
                  <a:pt x="1038" y="26"/>
                </a:lnTo>
                <a:lnTo>
                  <a:pt x="1077" y="32"/>
                </a:lnTo>
                <a:lnTo>
                  <a:pt x="1116" y="38"/>
                </a:lnTo>
                <a:lnTo>
                  <a:pt x="1155" y="45"/>
                </a:lnTo>
                <a:lnTo>
                  <a:pt x="1193" y="52"/>
                </a:lnTo>
                <a:lnTo>
                  <a:pt x="1231" y="60"/>
                </a:lnTo>
                <a:lnTo>
                  <a:pt x="1268" y="69"/>
                </a:lnTo>
                <a:lnTo>
                  <a:pt x="1305" y="77"/>
                </a:lnTo>
                <a:lnTo>
                  <a:pt x="1342" y="87"/>
                </a:lnTo>
                <a:lnTo>
                  <a:pt x="1378" y="97"/>
                </a:lnTo>
                <a:lnTo>
                  <a:pt x="1413" y="107"/>
                </a:lnTo>
                <a:lnTo>
                  <a:pt x="1448" y="118"/>
                </a:lnTo>
                <a:lnTo>
                  <a:pt x="1482" y="129"/>
                </a:lnTo>
                <a:lnTo>
                  <a:pt x="1515" y="141"/>
                </a:lnTo>
                <a:lnTo>
                  <a:pt x="1548" y="154"/>
                </a:lnTo>
                <a:lnTo>
                  <a:pt x="1581" y="167"/>
                </a:lnTo>
                <a:lnTo>
                  <a:pt x="1612" y="180"/>
                </a:lnTo>
                <a:lnTo>
                  <a:pt x="1643" y="194"/>
                </a:lnTo>
                <a:lnTo>
                  <a:pt x="1672" y="208"/>
                </a:lnTo>
                <a:lnTo>
                  <a:pt x="17" y="1324"/>
                </a:lnTo>
                <a:lnTo>
                  <a:pt x="15" y="1318"/>
                </a:lnTo>
                <a:lnTo>
                  <a:pt x="13" y="1312"/>
                </a:lnTo>
                <a:lnTo>
                  <a:pt x="11" y="1306"/>
                </a:lnTo>
                <a:lnTo>
                  <a:pt x="9" y="1300"/>
                </a:lnTo>
                <a:lnTo>
                  <a:pt x="6" y="1294"/>
                </a:lnTo>
                <a:lnTo>
                  <a:pt x="4" y="1288"/>
                </a:lnTo>
                <a:lnTo>
                  <a:pt x="2" y="1283"/>
                </a:lnTo>
                <a:lnTo>
                  <a:pt x="0" y="1277"/>
                </a:lnTo>
                <a:lnTo>
                  <a:pt x="35" y="1285"/>
                </a:lnTo>
                <a:lnTo>
                  <a:pt x="70" y="1293"/>
                </a:lnTo>
                <a:lnTo>
                  <a:pt x="105" y="1301"/>
                </a:lnTo>
                <a:lnTo>
                  <a:pt x="139" y="1308"/>
                </a:lnTo>
                <a:lnTo>
                  <a:pt x="175" y="1314"/>
                </a:lnTo>
                <a:lnTo>
                  <a:pt x="211" y="1321"/>
                </a:lnTo>
                <a:lnTo>
                  <a:pt x="247" y="1326"/>
                </a:lnTo>
                <a:lnTo>
                  <a:pt x="283" y="1331"/>
                </a:lnTo>
                <a:lnTo>
                  <a:pt x="320" y="1335"/>
                </a:lnTo>
                <a:lnTo>
                  <a:pt x="357" y="1339"/>
                </a:lnTo>
                <a:lnTo>
                  <a:pt x="394" y="1344"/>
                </a:lnTo>
                <a:lnTo>
                  <a:pt x="430" y="1347"/>
                </a:lnTo>
                <a:lnTo>
                  <a:pt x="468" y="1349"/>
                </a:lnTo>
                <a:lnTo>
                  <a:pt x="505" y="1351"/>
                </a:lnTo>
                <a:lnTo>
                  <a:pt x="542" y="1353"/>
                </a:lnTo>
                <a:lnTo>
                  <a:pt x="579" y="1354"/>
                </a:lnTo>
                <a:lnTo>
                  <a:pt x="617" y="1355"/>
                </a:lnTo>
                <a:lnTo>
                  <a:pt x="654" y="1355"/>
                </a:lnTo>
                <a:lnTo>
                  <a:pt x="691" y="1354"/>
                </a:lnTo>
                <a:lnTo>
                  <a:pt x="728" y="1353"/>
                </a:lnTo>
                <a:lnTo>
                  <a:pt x="766" y="1352"/>
                </a:lnTo>
                <a:lnTo>
                  <a:pt x="802" y="1350"/>
                </a:lnTo>
                <a:lnTo>
                  <a:pt x="839" y="1348"/>
                </a:lnTo>
                <a:lnTo>
                  <a:pt x="876" y="1345"/>
                </a:lnTo>
                <a:lnTo>
                  <a:pt x="913" y="1342"/>
                </a:lnTo>
                <a:lnTo>
                  <a:pt x="950" y="1338"/>
                </a:lnTo>
                <a:lnTo>
                  <a:pt x="986" y="1334"/>
                </a:lnTo>
                <a:lnTo>
                  <a:pt x="1023" y="1329"/>
                </a:lnTo>
                <a:lnTo>
                  <a:pt x="1059" y="1324"/>
                </a:lnTo>
                <a:lnTo>
                  <a:pt x="1095" y="1318"/>
                </a:lnTo>
                <a:lnTo>
                  <a:pt x="1130" y="1311"/>
                </a:lnTo>
                <a:lnTo>
                  <a:pt x="1166" y="1305"/>
                </a:lnTo>
                <a:lnTo>
                  <a:pt x="1201" y="1298"/>
                </a:lnTo>
                <a:lnTo>
                  <a:pt x="1235" y="1290"/>
                </a:lnTo>
                <a:lnTo>
                  <a:pt x="1269" y="1282"/>
                </a:lnTo>
                <a:lnTo>
                  <a:pt x="1302" y="1273"/>
                </a:lnTo>
                <a:lnTo>
                  <a:pt x="1335" y="1264"/>
                </a:lnTo>
                <a:lnTo>
                  <a:pt x="1366" y="1255"/>
                </a:lnTo>
                <a:lnTo>
                  <a:pt x="1398" y="1245"/>
                </a:lnTo>
                <a:lnTo>
                  <a:pt x="1429" y="1235"/>
                </a:lnTo>
                <a:lnTo>
                  <a:pt x="1459" y="1224"/>
                </a:lnTo>
                <a:lnTo>
                  <a:pt x="1489" y="1213"/>
                </a:lnTo>
                <a:lnTo>
                  <a:pt x="1517" y="1201"/>
                </a:lnTo>
                <a:lnTo>
                  <a:pt x="1546" y="1190"/>
                </a:lnTo>
                <a:lnTo>
                  <a:pt x="1573" y="1178"/>
                </a:lnTo>
                <a:lnTo>
                  <a:pt x="1600" y="1165"/>
                </a:lnTo>
                <a:lnTo>
                  <a:pt x="1626" y="1153"/>
                </a:lnTo>
                <a:lnTo>
                  <a:pt x="1651" y="1140"/>
                </a:lnTo>
                <a:lnTo>
                  <a:pt x="1676" y="1126"/>
                </a:lnTo>
                <a:lnTo>
                  <a:pt x="1699" y="1112"/>
                </a:lnTo>
                <a:lnTo>
                  <a:pt x="1722" y="1099"/>
                </a:lnTo>
                <a:lnTo>
                  <a:pt x="1744" y="1084"/>
                </a:lnTo>
                <a:lnTo>
                  <a:pt x="1765" y="1069"/>
                </a:lnTo>
                <a:lnTo>
                  <a:pt x="1786" y="1055"/>
                </a:lnTo>
                <a:lnTo>
                  <a:pt x="1805" y="1040"/>
                </a:lnTo>
                <a:lnTo>
                  <a:pt x="1824" y="1024"/>
                </a:lnTo>
                <a:lnTo>
                  <a:pt x="1842" y="1009"/>
                </a:lnTo>
                <a:lnTo>
                  <a:pt x="1859" y="993"/>
                </a:lnTo>
                <a:lnTo>
                  <a:pt x="1875" y="977"/>
                </a:lnTo>
                <a:lnTo>
                  <a:pt x="1891" y="961"/>
                </a:lnTo>
                <a:lnTo>
                  <a:pt x="1905" y="944"/>
                </a:lnTo>
                <a:lnTo>
                  <a:pt x="1918" y="927"/>
                </a:lnTo>
                <a:lnTo>
                  <a:pt x="1930" y="910"/>
                </a:lnTo>
                <a:lnTo>
                  <a:pt x="1942" y="893"/>
                </a:lnTo>
                <a:lnTo>
                  <a:pt x="1942" y="898"/>
                </a:lnTo>
                <a:lnTo>
                  <a:pt x="1943" y="902"/>
                </a:lnTo>
                <a:lnTo>
                  <a:pt x="1943" y="907"/>
                </a:lnTo>
                <a:lnTo>
                  <a:pt x="1943" y="911"/>
                </a:lnTo>
                <a:lnTo>
                  <a:pt x="1943" y="917"/>
                </a:lnTo>
                <a:lnTo>
                  <a:pt x="1943" y="921"/>
                </a:lnTo>
                <a:lnTo>
                  <a:pt x="1943" y="926"/>
                </a:lnTo>
                <a:lnTo>
                  <a:pt x="1943" y="930"/>
                </a:lnTo>
                <a:lnTo>
                  <a:pt x="1943" y="939"/>
                </a:lnTo>
                <a:lnTo>
                  <a:pt x="1943" y="948"/>
                </a:lnTo>
                <a:lnTo>
                  <a:pt x="1943" y="956"/>
                </a:lnTo>
                <a:lnTo>
                  <a:pt x="1942" y="965"/>
                </a:lnTo>
                <a:lnTo>
                  <a:pt x="1942" y="974"/>
                </a:lnTo>
                <a:lnTo>
                  <a:pt x="1942" y="983"/>
                </a:lnTo>
                <a:lnTo>
                  <a:pt x="1941" y="991"/>
                </a:lnTo>
                <a:lnTo>
                  <a:pt x="1941" y="1000"/>
                </a:lnTo>
                <a:lnTo>
                  <a:pt x="1925" y="1015"/>
                </a:lnTo>
                <a:lnTo>
                  <a:pt x="1909" y="1030"/>
                </a:lnTo>
                <a:lnTo>
                  <a:pt x="1892" y="1045"/>
                </a:lnTo>
                <a:lnTo>
                  <a:pt x="1875" y="1059"/>
                </a:lnTo>
                <a:lnTo>
                  <a:pt x="1856" y="1074"/>
                </a:lnTo>
                <a:lnTo>
                  <a:pt x="1837" y="1088"/>
                </a:lnTo>
                <a:lnTo>
                  <a:pt x="1817" y="1102"/>
                </a:lnTo>
                <a:lnTo>
                  <a:pt x="1797" y="1115"/>
                </a:lnTo>
                <a:lnTo>
                  <a:pt x="1776" y="1129"/>
                </a:lnTo>
                <a:lnTo>
                  <a:pt x="1754" y="1142"/>
                </a:lnTo>
                <a:lnTo>
                  <a:pt x="1732" y="1155"/>
                </a:lnTo>
                <a:lnTo>
                  <a:pt x="1708" y="1167"/>
                </a:lnTo>
                <a:lnTo>
                  <a:pt x="1684" y="1179"/>
                </a:lnTo>
                <a:lnTo>
                  <a:pt x="1660" y="1192"/>
                </a:lnTo>
                <a:lnTo>
                  <a:pt x="1634" y="1203"/>
                </a:lnTo>
                <a:lnTo>
                  <a:pt x="1609" y="1215"/>
                </a:lnTo>
                <a:lnTo>
                  <a:pt x="1583" y="1226"/>
                </a:lnTo>
                <a:lnTo>
                  <a:pt x="1555" y="1237"/>
                </a:lnTo>
                <a:lnTo>
                  <a:pt x="1528" y="1247"/>
                </a:lnTo>
                <a:lnTo>
                  <a:pt x="1500" y="1258"/>
                </a:lnTo>
                <a:lnTo>
                  <a:pt x="1472" y="1267"/>
                </a:lnTo>
                <a:lnTo>
                  <a:pt x="1443" y="1277"/>
                </a:lnTo>
                <a:lnTo>
                  <a:pt x="1414" y="1286"/>
                </a:lnTo>
                <a:lnTo>
                  <a:pt x="1383" y="1296"/>
                </a:lnTo>
                <a:lnTo>
                  <a:pt x="1353" y="1304"/>
                </a:lnTo>
                <a:lnTo>
                  <a:pt x="1322" y="1312"/>
                </a:lnTo>
                <a:lnTo>
                  <a:pt x="1290" y="1320"/>
                </a:lnTo>
                <a:lnTo>
                  <a:pt x="1259" y="1328"/>
                </a:lnTo>
                <a:lnTo>
                  <a:pt x="1226" y="1335"/>
                </a:lnTo>
                <a:lnTo>
                  <a:pt x="1193" y="1342"/>
                </a:lnTo>
                <a:lnTo>
                  <a:pt x="1160" y="1348"/>
                </a:lnTo>
                <a:lnTo>
                  <a:pt x="1127" y="1354"/>
                </a:lnTo>
                <a:lnTo>
                  <a:pt x="1093" y="1359"/>
                </a:lnTo>
                <a:lnTo>
                  <a:pt x="1059" y="1365"/>
                </a:lnTo>
                <a:lnTo>
                  <a:pt x="1024" y="1369"/>
                </a:lnTo>
                <a:lnTo>
                  <a:pt x="990" y="1374"/>
                </a:lnTo>
                <a:lnTo>
                  <a:pt x="956" y="1377"/>
                </a:lnTo>
                <a:lnTo>
                  <a:pt x="921" y="1381"/>
                </a:lnTo>
                <a:lnTo>
                  <a:pt x="886" y="1384"/>
                </a:lnTo>
                <a:lnTo>
                  <a:pt x="851" y="1387"/>
                </a:lnTo>
                <a:lnTo>
                  <a:pt x="816" y="1389"/>
                </a:lnTo>
                <a:lnTo>
                  <a:pt x="780" y="1391"/>
                </a:lnTo>
                <a:lnTo>
                  <a:pt x="745" y="1392"/>
                </a:lnTo>
                <a:lnTo>
                  <a:pt x="711" y="1393"/>
                </a:lnTo>
                <a:lnTo>
                  <a:pt x="675" y="1394"/>
                </a:lnTo>
                <a:lnTo>
                  <a:pt x="640" y="1394"/>
                </a:lnTo>
                <a:lnTo>
                  <a:pt x="604" y="1393"/>
                </a:lnTo>
                <a:lnTo>
                  <a:pt x="569" y="1393"/>
                </a:lnTo>
                <a:lnTo>
                  <a:pt x="533" y="1392"/>
                </a:lnTo>
                <a:lnTo>
                  <a:pt x="498" y="1390"/>
                </a:lnTo>
                <a:lnTo>
                  <a:pt x="464" y="1388"/>
                </a:lnTo>
                <a:lnTo>
                  <a:pt x="428" y="1386"/>
                </a:lnTo>
                <a:lnTo>
                  <a:pt x="393" y="1382"/>
                </a:lnTo>
                <a:lnTo>
                  <a:pt x="358" y="1379"/>
                </a:lnTo>
                <a:lnTo>
                  <a:pt x="323" y="1376"/>
                </a:lnTo>
                <a:lnTo>
                  <a:pt x="288" y="1372"/>
                </a:lnTo>
                <a:lnTo>
                  <a:pt x="253" y="1367"/>
                </a:lnTo>
                <a:lnTo>
                  <a:pt x="220" y="1362"/>
                </a:lnTo>
                <a:lnTo>
                  <a:pt x="185" y="1357"/>
                </a:lnTo>
                <a:lnTo>
                  <a:pt x="151" y="1351"/>
                </a:lnTo>
                <a:lnTo>
                  <a:pt x="117" y="1345"/>
                </a:lnTo>
                <a:lnTo>
                  <a:pt x="84" y="1338"/>
                </a:lnTo>
                <a:lnTo>
                  <a:pt x="50" y="1331"/>
                </a:lnTo>
                <a:lnTo>
                  <a:pt x="17" y="1324"/>
                </a:lnTo>
                <a:lnTo>
                  <a:pt x="1672" y="208"/>
                </a:lnTo>
              </a:path>
            </a:pathLst>
          </a:cu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738680" y="2475000"/>
            <a:ext cx="3108240" cy="2090520"/>
          </a:xfrm>
          <a:custGeom>
            <a:avLst/>
            <a:gdLst/>
            <a:ahLst/>
            <a:rect l="l" t="t" r="r" b="b"/>
            <a:pathLst>
              <a:path w="1958" h="1317">
                <a:moveTo>
                  <a:pt x="1773" y="280"/>
                </a:moveTo>
                <a:lnTo>
                  <a:pt x="1779" y="290"/>
                </a:lnTo>
                <a:lnTo>
                  <a:pt x="1787" y="300"/>
                </a:lnTo>
                <a:lnTo>
                  <a:pt x="1793" y="310"/>
                </a:lnTo>
                <a:lnTo>
                  <a:pt x="1799" y="321"/>
                </a:lnTo>
                <a:lnTo>
                  <a:pt x="1806" y="331"/>
                </a:lnTo>
                <a:lnTo>
                  <a:pt x="1811" y="342"/>
                </a:lnTo>
                <a:lnTo>
                  <a:pt x="1817" y="352"/>
                </a:lnTo>
                <a:lnTo>
                  <a:pt x="1824" y="363"/>
                </a:lnTo>
                <a:lnTo>
                  <a:pt x="1829" y="374"/>
                </a:lnTo>
                <a:lnTo>
                  <a:pt x="1835" y="385"/>
                </a:lnTo>
                <a:lnTo>
                  <a:pt x="1841" y="395"/>
                </a:lnTo>
                <a:lnTo>
                  <a:pt x="1846" y="406"/>
                </a:lnTo>
                <a:lnTo>
                  <a:pt x="1851" y="417"/>
                </a:lnTo>
                <a:lnTo>
                  <a:pt x="1856" y="428"/>
                </a:lnTo>
                <a:lnTo>
                  <a:pt x="1861" y="439"/>
                </a:lnTo>
                <a:lnTo>
                  <a:pt x="1866" y="451"/>
                </a:lnTo>
                <a:lnTo>
                  <a:pt x="1845" y="423"/>
                </a:lnTo>
                <a:lnTo>
                  <a:pt x="1820" y="396"/>
                </a:lnTo>
                <a:lnTo>
                  <a:pt x="1794" y="370"/>
                </a:lnTo>
                <a:lnTo>
                  <a:pt x="1766" y="345"/>
                </a:lnTo>
                <a:lnTo>
                  <a:pt x="1735" y="321"/>
                </a:lnTo>
                <a:lnTo>
                  <a:pt x="1702" y="297"/>
                </a:lnTo>
                <a:lnTo>
                  <a:pt x="1667" y="274"/>
                </a:lnTo>
                <a:lnTo>
                  <a:pt x="1629" y="252"/>
                </a:lnTo>
                <a:lnTo>
                  <a:pt x="1590" y="231"/>
                </a:lnTo>
                <a:lnTo>
                  <a:pt x="1550" y="211"/>
                </a:lnTo>
                <a:lnTo>
                  <a:pt x="1507" y="192"/>
                </a:lnTo>
                <a:lnTo>
                  <a:pt x="1463" y="174"/>
                </a:lnTo>
                <a:lnTo>
                  <a:pt x="1416" y="157"/>
                </a:lnTo>
                <a:lnTo>
                  <a:pt x="1369" y="142"/>
                </a:lnTo>
                <a:lnTo>
                  <a:pt x="1320" y="126"/>
                </a:lnTo>
                <a:lnTo>
                  <a:pt x="1269" y="112"/>
                </a:lnTo>
                <a:lnTo>
                  <a:pt x="1218" y="100"/>
                </a:lnTo>
                <a:lnTo>
                  <a:pt x="1165" y="88"/>
                </a:lnTo>
                <a:lnTo>
                  <a:pt x="1111" y="78"/>
                </a:lnTo>
                <a:lnTo>
                  <a:pt x="1056" y="68"/>
                </a:lnTo>
                <a:lnTo>
                  <a:pt x="1000" y="60"/>
                </a:lnTo>
                <a:lnTo>
                  <a:pt x="943" y="54"/>
                </a:lnTo>
                <a:lnTo>
                  <a:pt x="885" y="48"/>
                </a:lnTo>
                <a:lnTo>
                  <a:pt x="827" y="43"/>
                </a:lnTo>
                <a:lnTo>
                  <a:pt x="768" y="40"/>
                </a:lnTo>
                <a:lnTo>
                  <a:pt x="709" y="39"/>
                </a:lnTo>
                <a:lnTo>
                  <a:pt x="649" y="38"/>
                </a:lnTo>
                <a:lnTo>
                  <a:pt x="588" y="39"/>
                </a:lnTo>
                <a:lnTo>
                  <a:pt x="527" y="41"/>
                </a:lnTo>
                <a:lnTo>
                  <a:pt x="467" y="45"/>
                </a:lnTo>
                <a:lnTo>
                  <a:pt x="406" y="50"/>
                </a:lnTo>
                <a:lnTo>
                  <a:pt x="345" y="57"/>
                </a:lnTo>
                <a:lnTo>
                  <a:pt x="352" y="51"/>
                </a:lnTo>
                <a:lnTo>
                  <a:pt x="359" y="45"/>
                </a:lnTo>
                <a:lnTo>
                  <a:pt x="367" y="39"/>
                </a:lnTo>
                <a:lnTo>
                  <a:pt x="374" y="33"/>
                </a:lnTo>
                <a:lnTo>
                  <a:pt x="381" y="28"/>
                </a:lnTo>
                <a:lnTo>
                  <a:pt x="389" y="22"/>
                </a:lnTo>
                <a:lnTo>
                  <a:pt x="396" y="17"/>
                </a:lnTo>
                <a:lnTo>
                  <a:pt x="404" y="11"/>
                </a:lnTo>
                <a:lnTo>
                  <a:pt x="453" y="7"/>
                </a:lnTo>
                <a:lnTo>
                  <a:pt x="504" y="4"/>
                </a:lnTo>
                <a:lnTo>
                  <a:pt x="554" y="1"/>
                </a:lnTo>
                <a:lnTo>
                  <a:pt x="603" y="0"/>
                </a:lnTo>
                <a:lnTo>
                  <a:pt x="653" y="0"/>
                </a:lnTo>
                <a:lnTo>
                  <a:pt x="702" y="0"/>
                </a:lnTo>
                <a:lnTo>
                  <a:pt x="751" y="1"/>
                </a:lnTo>
                <a:lnTo>
                  <a:pt x="800" y="4"/>
                </a:lnTo>
                <a:lnTo>
                  <a:pt x="848" y="6"/>
                </a:lnTo>
                <a:lnTo>
                  <a:pt x="897" y="10"/>
                </a:lnTo>
                <a:lnTo>
                  <a:pt x="944" y="14"/>
                </a:lnTo>
                <a:lnTo>
                  <a:pt x="992" y="19"/>
                </a:lnTo>
                <a:lnTo>
                  <a:pt x="1038" y="26"/>
                </a:lnTo>
                <a:lnTo>
                  <a:pt x="1085" y="33"/>
                </a:lnTo>
                <a:lnTo>
                  <a:pt x="1130" y="40"/>
                </a:lnTo>
                <a:lnTo>
                  <a:pt x="1175" y="49"/>
                </a:lnTo>
                <a:lnTo>
                  <a:pt x="1220" y="58"/>
                </a:lnTo>
                <a:lnTo>
                  <a:pt x="1263" y="68"/>
                </a:lnTo>
                <a:lnTo>
                  <a:pt x="1305" y="78"/>
                </a:lnTo>
                <a:lnTo>
                  <a:pt x="1348" y="90"/>
                </a:lnTo>
                <a:lnTo>
                  <a:pt x="1389" y="102"/>
                </a:lnTo>
                <a:lnTo>
                  <a:pt x="1429" y="115"/>
                </a:lnTo>
                <a:lnTo>
                  <a:pt x="1468" y="128"/>
                </a:lnTo>
                <a:lnTo>
                  <a:pt x="1507" y="143"/>
                </a:lnTo>
                <a:lnTo>
                  <a:pt x="1544" y="157"/>
                </a:lnTo>
                <a:lnTo>
                  <a:pt x="1580" y="173"/>
                </a:lnTo>
                <a:lnTo>
                  <a:pt x="1616" y="189"/>
                </a:lnTo>
                <a:lnTo>
                  <a:pt x="1649" y="206"/>
                </a:lnTo>
                <a:lnTo>
                  <a:pt x="1682" y="224"/>
                </a:lnTo>
                <a:lnTo>
                  <a:pt x="1714" y="242"/>
                </a:lnTo>
                <a:lnTo>
                  <a:pt x="1744" y="261"/>
                </a:lnTo>
                <a:lnTo>
                  <a:pt x="1773" y="280"/>
                </a:lnTo>
                <a:lnTo>
                  <a:pt x="15" y="1238"/>
                </a:lnTo>
                <a:lnTo>
                  <a:pt x="13" y="1231"/>
                </a:lnTo>
                <a:lnTo>
                  <a:pt x="11" y="1225"/>
                </a:lnTo>
                <a:lnTo>
                  <a:pt x="9" y="1219"/>
                </a:lnTo>
                <a:lnTo>
                  <a:pt x="8" y="1213"/>
                </a:lnTo>
                <a:lnTo>
                  <a:pt x="6" y="1207"/>
                </a:lnTo>
                <a:lnTo>
                  <a:pt x="3" y="1201"/>
                </a:lnTo>
                <a:lnTo>
                  <a:pt x="2" y="1195"/>
                </a:lnTo>
                <a:lnTo>
                  <a:pt x="0" y="1189"/>
                </a:lnTo>
                <a:lnTo>
                  <a:pt x="37" y="1199"/>
                </a:lnTo>
                <a:lnTo>
                  <a:pt x="75" y="1209"/>
                </a:lnTo>
                <a:lnTo>
                  <a:pt x="113" y="1218"/>
                </a:lnTo>
                <a:lnTo>
                  <a:pt x="151" y="1226"/>
                </a:lnTo>
                <a:lnTo>
                  <a:pt x="190" y="1234"/>
                </a:lnTo>
                <a:lnTo>
                  <a:pt x="229" y="1241"/>
                </a:lnTo>
                <a:lnTo>
                  <a:pt x="270" y="1248"/>
                </a:lnTo>
                <a:lnTo>
                  <a:pt x="310" y="1253"/>
                </a:lnTo>
                <a:lnTo>
                  <a:pt x="350" y="1259"/>
                </a:lnTo>
                <a:lnTo>
                  <a:pt x="390" y="1263"/>
                </a:lnTo>
                <a:lnTo>
                  <a:pt x="430" y="1267"/>
                </a:lnTo>
                <a:lnTo>
                  <a:pt x="471" y="1270"/>
                </a:lnTo>
                <a:lnTo>
                  <a:pt x="512" y="1273"/>
                </a:lnTo>
                <a:lnTo>
                  <a:pt x="554" y="1275"/>
                </a:lnTo>
                <a:lnTo>
                  <a:pt x="594" y="1276"/>
                </a:lnTo>
                <a:lnTo>
                  <a:pt x="635" y="1277"/>
                </a:lnTo>
                <a:lnTo>
                  <a:pt x="676" y="1277"/>
                </a:lnTo>
                <a:lnTo>
                  <a:pt x="717" y="1276"/>
                </a:lnTo>
                <a:lnTo>
                  <a:pt x="758" y="1275"/>
                </a:lnTo>
                <a:lnTo>
                  <a:pt x="800" y="1273"/>
                </a:lnTo>
                <a:lnTo>
                  <a:pt x="841" y="1271"/>
                </a:lnTo>
                <a:lnTo>
                  <a:pt x="881" y="1268"/>
                </a:lnTo>
                <a:lnTo>
                  <a:pt x="921" y="1264"/>
                </a:lnTo>
                <a:lnTo>
                  <a:pt x="962" y="1260"/>
                </a:lnTo>
                <a:lnTo>
                  <a:pt x="1001" y="1255"/>
                </a:lnTo>
                <a:lnTo>
                  <a:pt x="1041" y="1249"/>
                </a:lnTo>
                <a:lnTo>
                  <a:pt x="1081" y="1243"/>
                </a:lnTo>
                <a:lnTo>
                  <a:pt x="1121" y="1236"/>
                </a:lnTo>
                <a:lnTo>
                  <a:pt x="1159" y="1228"/>
                </a:lnTo>
                <a:lnTo>
                  <a:pt x="1198" y="1220"/>
                </a:lnTo>
                <a:lnTo>
                  <a:pt x="1236" y="1212"/>
                </a:lnTo>
                <a:lnTo>
                  <a:pt x="1273" y="1202"/>
                </a:lnTo>
                <a:lnTo>
                  <a:pt x="1309" y="1192"/>
                </a:lnTo>
                <a:lnTo>
                  <a:pt x="1345" y="1181"/>
                </a:lnTo>
                <a:lnTo>
                  <a:pt x="1380" y="1170"/>
                </a:lnTo>
                <a:lnTo>
                  <a:pt x="1414" y="1158"/>
                </a:lnTo>
                <a:lnTo>
                  <a:pt x="1448" y="1147"/>
                </a:lnTo>
                <a:lnTo>
                  <a:pt x="1479" y="1134"/>
                </a:lnTo>
                <a:lnTo>
                  <a:pt x="1511" y="1120"/>
                </a:lnTo>
                <a:lnTo>
                  <a:pt x="1542" y="1107"/>
                </a:lnTo>
                <a:lnTo>
                  <a:pt x="1570" y="1093"/>
                </a:lnTo>
                <a:lnTo>
                  <a:pt x="1599" y="1079"/>
                </a:lnTo>
                <a:lnTo>
                  <a:pt x="1626" y="1064"/>
                </a:lnTo>
                <a:lnTo>
                  <a:pt x="1653" y="1049"/>
                </a:lnTo>
                <a:lnTo>
                  <a:pt x="1678" y="1033"/>
                </a:lnTo>
                <a:lnTo>
                  <a:pt x="1702" y="1017"/>
                </a:lnTo>
                <a:lnTo>
                  <a:pt x="1725" y="1001"/>
                </a:lnTo>
                <a:lnTo>
                  <a:pt x="1748" y="984"/>
                </a:lnTo>
                <a:lnTo>
                  <a:pt x="1769" y="968"/>
                </a:lnTo>
                <a:lnTo>
                  <a:pt x="1789" y="950"/>
                </a:lnTo>
                <a:lnTo>
                  <a:pt x="1807" y="932"/>
                </a:lnTo>
                <a:lnTo>
                  <a:pt x="1825" y="914"/>
                </a:lnTo>
                <a:lnTo>
                  <a:pt x="1841" y="896"/>
                </a:lnTo>
                <a:lnTo>
                  <a:pt x="1856" y="878"/>
                </a:lnTo>
                <a:lnTo>
                  <a:pt x="1870" y="859"/>
                </a:lnTo>
                <a:lnTo>
                  <a:pt x="1883" y="840"/>
                </a:lnTo>
                <a:lnTo>
                  <a:pt x="1894" y="821"/>
                </a:lnTo>
                <a:lnTo>
                  <a:pt x="1904" y="802"/>
                </a:lnTo>
                <a:lnTo>
                  <a:pt x="1913" y="782"/>
                </a:lnTo>
                <a:lnTo>
                  <a:pt x="1921" y="762"/>
                </a:lnTo>
                <a:lnTo>
                  <a:pt x="1927" y="743"/>
                </a:lnTo>
                <a:lnTo>
                  <a:pt x="1932" y="722"/>
                </a:lnTo>
                <a:lnTo>
                  <a:pt x="1936" y="702"/>
                </a:lnTo>
                <a:lnTo>
                  <a:pt x="1938" y="682"/>
                </a:lnTo>
                <a:lnTo>
                  <a:pt x="1940" y="692"/>
                </a:lnTo>
                <a:lnTo>
                  <a:pt x="1942" y="703"/>
                </a:lnTo>
                <a:lnTo>
                  <a:pt x="1943" y="713"/>
                </a:lnTo>
                <a:lnTo>
                  <a:pt x="1945" y="724"/>
                </a:lnTo>
                <a:lnTo>
                  <a:pt x="1946" y="735"/>
                </a:lnTo>
                <a:lnTo>
                  <a:pt x="1948" y="746"/>
                </a:lnTo>
                <a:lnTo>
                  <a:pt x="1949" y="756"/>
                </a:lnTo>
                <a:lnTo>
                  <a:pt x="1950" y="767"/>
                </a:lnTo>
                <a:lnTo>
                  <a:pt x="1951" y="778"/>
                </a:lnTo>
                <a:lnTo>
                  <a:pt x="1954" y="789"/>
                </a:lnTo>
                <a:lnTo>
                  <a:pt x="1954" y="799"/>
                </a:lnTo>
                <a:lnTo>
                  <a:pt x="1955" y="810"/>
                </a:lnTo>
                <a:lnTo>
                  <a:pt x="1956" y="821"/>
                </a:lnTo>
                <a:lnTo>
                  <a:pt x="1956" y="832"/>
                </a:lnTo>
                <a:lnTo>
                  <a:pt x="1957" y="843"/>
                </a:lnTo>
                <a:lnTo>
                  <a:pt x="1957" y="854"/>
                </a:lnTo>
                <a:lnTo>
                  <a:pt x="1945" y="871"/>
                </a:lnTo>
                <a:lnTo>
                  <a:pt x="1933" y="888"/>
                </a:lnTo>
                <a:lnTo>
                  <a:pt x="1920" y="905"/>
                </a:lnTo>
                <a:lnTo>
                  <a:pt x="1906" y="922"/>
                </a:lnTo>
                <a:lnTo>
                  <a:pt x="1890" y="938"/>
                </a:lnTo>
                <a:lnTo>
                  <a:pt x="1874" y="954"/>
                </a:lnTo>
                <a:lnTo>
                  <a:pt x="1857" y="970"/>
                </a:lnTo>
                <a:lnTo>
                  <a:pt x="1839" y="985"/>
                </a:lnTo>
                <a:lnTo>
                  <a:pt x="1820" y="1001"/>
                </a:lnTo>
                <a:lnTo>
                  <a:pt x="1801" y="1016"/>
                </a:lnTo>
                <a:lnTo>
                  <a:pt x="1780" y="1030"/>
                </a:lnTo>
                <a:lnTo>
                  <a:pt x="1759" y="1045"/>
                </a:lnTo>
                <a:lnTo>
                  <a:pt x="1737" y="1060"/>
                </a:lnTo>
                <a:lnTo>
                  <a:pt x="1714" y="1073"/>
                </a:lnTo>
                <a:lnTo>
                  <a:pt x="1691" y="1087"/>
                </a:lnTo>
                <a:lnTo>
                  <a:pt x="1666" y="1101"/>
                </a:lnTo>
                <a:lnTo>
                  <a:pt x="1641" y="1114"/>
                </a:lnTo>
                <a:lnTo>
                  <a:pt x="1615" y="1126"/>
                </a:lnTo>
                <a:lnTo>
                  <a:pt x="1588" y="1139"/>
                </a:lnTo>
                <a:lnTo>
                  <a:pt x="1561" y="1151"/>
                </a:lnTo>
                <a:lnTo>
                  <a:pt x="1532" y="1162"/>
                </a:lnTo>
                <a:lnTo>
                  <a:pt x="1504" y="1174"/>
                </a:lnTo>
                <a:lnTo>
                  <a:pt x="1474" y="1185"/>
                </a:lnTo>
                <a:lnTo>
                  <a:pt x="1444" y="1196"/>
                </a:lnTo>
                <a:lnTo>
                  <a:pt x="1413" y="1206"/>
                </a:lnTo>
                <a:lnTo>
                  <a:pt x="1381" y="1216"/>
                </a:lnTo>
                <a:lnTo>
                  <a:pt x="1350" y="1225"/>
                </a:lnTo>
                <a:lnTo>
                  <a:pt x="1317" y="1234"/>
                </a:lnTo>
                <a:lnTo>
                  <a:pt x="1284" y="1243"/>
                </a:lnTo>
                <a:lnTo>
                  <a:pt x="1250" y="1251"/>
                </a:lnTo>
                <a:lnTo>
                  <a:pt x="1216" y="1259"/>
                </a:lnTo>
                <a:lnTo>
                  <a:pt x="1181" y="1266"/>
                </a:lnTo>
                <a:lnTo>
                  <a:pt x="1145" y="1272"/>
                </a:lnTo>
                <a:lnTo>
                  <a:pt x="1110" y="1279"/>
                </a:lnTo>
                <a:lnTo>
                  <a:pt x="1074" y="1285"/>
                </a:lnTo>
                <a:lnTo>
                  <a:pt x="1038" y="1290"/>
                </a:lnTo>
                <a:lnTo>
                  <a:pt x="1001" y="1295"/>
                </a:lnTo>
                <a:lnTo>
                  <a:pt x="965" y="1299"/>
                </a:lnTo>
                <a:lnTo>
                  <a:pt x="928" y="1303"/>
                </a:lnTo>
                <a:lnTo>
                  <a:pt x="891" y="1306"/>
                </a:lnTo>
                <a:lnTo>
                  <a:pt x="854" y="1309"/>
                </a:lnTo>
                <a:lnTo>
                  <a:pt x="817" y="1311"/>
                </a:lnTo>
                <a:lnTo>
                  <a:pt x="781" y="1313"/>
                </a:lnTo>
                <a:lnTo>
                  <a:pt x="743" y="1314"/>
                </a:lnTo>
                <a:lnTo>
                  <a:pt x="706" y="1315"/>
                </a:lnTo>
                <a:lnTo>
                  <a:pt x="669" y="1316"/>
                </a:lnTo>
                <a:lnTo>
                  <a:pt x="632" y="1316"/>
                </a:lnTo>
                <a:lnTo>
                  <a:pt x="594" y="1315"/>
                </a:lnTo>
                <a:lnTo>
                  <a:pt x="557" y="1314"/>
                </a:lnTo>
                <a:lnTo>
                  <a:pt x="520" y="1312"/>
                </a:lnTo>
                <a:lnTo>
                  <a:pt x="483" y="1310"/>
                </a:lnTo>
                <a:lnTo>
                  <a:pt x="445" y="1308"/>
                </a:lnTo>
                <a:lnTo>
                  <a:pt x="409" y="1305"/>
                </a:lnTo>
                <a:lnTo>
                  <a:pt x="372" y="1300"/>
                </a:lnTo>
                <a:lnTo>
                  <a:pt x="335" y="1296"/>
                </a:lnTo>
                <a:lnTo>
                  <a:pt x="298" y="1292"/>
                </a:lnTo>
                <a:lnTo>
                  <a:pt x="262" y="1287"/>
                </a:lnTo>
                <a:lnTo>
                  <a:pt x="226" y="1282"/>
                </a:lnTo>
                <a:lnTo>
                  <a:pt x="190" y="1275"/>
                </a:lnTo>
                <a:lnTo>
                  <a:pt x="154" y="1269"/>
                </a:lnTo>
                <a:lnTo>
                  <a:pt x="120" y="1262"/>
                </a:lnTo>
                <a:lnTo>
                  <a:pt x="85" y="1254"/>
                </a:lnTo>
                <a:lnTo>
                  <a:pt x="50" y="1246"/>
                </a:lnTo>
                <a:lnTo>
                  <a:pt x="15" y="1238"/>
                </a:lnTo>
                <a:lnTo>
                  <a:pt x="1773" y="280"/>
                </a:lnTo>
              </a:path>
            </a:pathLst>
          </a:cu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719600" y="2535120"/>
            <a:ext cx="3097080" cy="1968480"/>
          </a:xfrm>
          <a:custGeom>
            <a:avLst/>
            <a:gdLst/>
            <a:ahLst/>
            <a:rect l="l" t="t" r="r" b="b"/>
            <a:pathLst>
              <a:path w="1951" h="1240">
                <a:moveTo>
                  <a:pt x="1878" y="413"/>
                </a:moveTo>
                <a:lnTo>
                  <a:pt x="1884" y="426"/>
                </a:lnTo>
                <a:lnTo>
                  <a:pt x="1890" y="440"/>
                </a:lnTo>
                <a:lnTo>
                  <a:pt x="1896" y="454"/>
                </a:lnTo>
                <a:lnTo>
                  <a:pt x="1901" y="468"/>
                </a:lnTo>
                <a:lnTo>
                  <a:pt x="1906" y="483"/>
                </a:lnTo>
                <a:lnTo>
                  <a:pt x="1911" y="496"/>
                </a:lnTo>
                <a:lnTo>
                  <a:pt x="1916" y="511"/>
                </a:lnTo>
                <a:lnTo>
                  <a:pt x="1920" y="526"/>
                </a:lnTo>
                <a:lnTo>
                  <a:pt x="1925" y="540"/>
                </a:lnTo>
                <a:lnTo>
                  <a:pt x="1930" y="555"/>
                </a:lnTo>
                <a:lnTo>
                  <a:pt x="1933" y="569"/>
                </a:lnTo>
                <a:lnTo>
                  <a:pt x="1937" y="584"/>
                </a:lnTo>
                <a:lnTo>
                  <a:pt x="1940" y="599"/>
                </a:lnTo>
                <a:lnTo>
                  <a:pt x="1943" y="614"/>
                </a:lnTo>
                <a:lnTo>
                  <a:pt x="1947" y="629"/>
                </a:lnTo>
                <a:lnTo>
                  <a:pt x="1950" y="644"/>
                </a:lnTo>
                <a:lnTo>
                  <a:pt x="1948" y="664"/>
                </a:lnTo>
                <a:lnTo>
                  <a:pt x="1944" y="684"/>
                </a:lnTo>
                <a:lnTo>
                  <a:pt x="1939" y="705"/>
                </a:lnTo>
                <a:lnTo>
                  <a:pt x="1933" y="724"/>
                </a:lnTo>
                <a:lnTo>
                  <a:pt x="1925" y="744"/>
                </a:lnTo>
                <a:lnTo>
                  <a:pt x="1916" y="764"/>
                </a:lnTo>
                <a:lnTo>
                  <a:pt x="1906" y="783"/>
                </a:lnTo>
                <a:lnTo>
                  <a:pt x="1895" y="802"/>
                </a:lnTo>
                <a:lnTo>
                  <a:pt x="1882" y="821"/>
                </a:lnTo>
                <a:lnTo>
                  <a:pt x="1868" y="840"/>
                </a:lnTo>
                <a:lnTo>
                  <a:pt x="1853" y="858"/>
                </a:lnTo>
                <a:lnTo>
                  <a:pt x="1837" y="876"/>
                </a:lnTo>
                <a:lnTo>
                  <a:pt x="1819" y="894"/>
                </a:lnTo>
                <a:lnTo>
                  <a:pt x="1801" y="912"/>
                </a:lnTo>
                <a:lnTo>
                  <a:pt x="1781" y="930"/>
                </a:lnTo>
                <a:lnTo>
                  <a:pt x="1760" y="946"/>
                </a:lnTo>
                <a:lnTo>
                  <a:pt x="1737" y="963"/>
                </a:lnTo>
                <a:lnTo>
                  <a:pt x="1714" y="979"/>
                </a:lnTo>
                <a:lnTo>
                  <a:pt x="1690" y="995"/>
                </a:lnTo>
                <a:lnTo>
                  <a:pt x="1665" y="1011"/>
                </a:lnTo>
                <a:lnTo>
                  <a:pt x="1638" y="1026"/>
                </a:lnTo>
                <a:lnTo>
                  <a:pt x="1611" y="1041"/>
                </a:lnTo>
                <a:lnTo>
                  <a:pt x="1582" y="1055"/>
                </a:lnTo>
                <a:lnTo>
                  <a:pt x="1554" y="1069"/>
                </a:lnTo>
                <a:lnTo>
                  <a:pt x="1523" y="1082"/>
                </a:lnTo>
                <a:lnTo>
                  <a:pt x="1491" y="1096"/>
                </a:lnTo>
                <a:lnTo>
                  <a:pt x="1460" y="1109"/>
                </a:lnTo>
                <a:lnTo>
                  <a:pt x="1426" y="1120"/>
                </a:lnTo>
                <a:lnTo>
                  <a:pt x="1392" y="1132"/>
                </a:lnTo>
                <a:lnTo>
                  <a:pt x="1357" y="1143"/>
                </a:lnTo>
                <a:lnTo>
                  <a:pt x="1321" y="1154"/>
                </a:lnTo>
                <a:lnTo>
                  <a:pt x="1285" y="1164"/>
                </a:lnTo>
                <a:lnTo>
                  <a:pt x="1248" y="1174"/>
                </a:lnTo>
                <a:lnTo>
                  <a:pt x="1210" y="1182"/>
                </a:lnTo>
                <a:lnTo>
                  <a:pt x="1171" y="1190"/>
                </a:lnTo>
                <a:lnTo>
                  <a:pt x="1133" y="1198"/>
                </a:lnTo>
                <a:lnTo>
                  <a:pt x="1093" y="1205"/>
                </a:lnTo>
                <a:lnTo>
                  <a:pt x="1053" y="1211"/>
                </a:lnTo>
                <a:lnTo>
                  <a:pt x="1013" y="1217"/>
                </a:lnTo>
                <a:lnTo>
                  <a:pt x="974" y="1222"/>
                </a:lnTo>
                <a:lnTo>
                  <a:pt x="933" y="1226"/>
                </a:lnTo>
                <a:lnTo>
                  <a:pt x="893" y="1230"/>
                </a:lnTo>
                <a:lnTo>
                  <a:pt x="853" y="1233"/>
                </a:lnTo>
                <a:lnTo>
                  <a:pt x="812" y="1235"/>
                </a:lnTo>
                <a:lnTo>
                  <a:pt x="770" y="1237"/>
                </a:lnTo>
                <a:lnTo>
                  <a:pt x="729" y="1238"/>
                </a:lnTo>
                <a:lnTo>
                  <a:pt x="688" y="1239"/>
                </a:lnTo>
                <a:lnTo>
                  <a:pt x="647" y="1239"/>
                </a:lnTo>
                <a:lnTo>
                  <a:pt x="606" y="1238"/>
                </a:lnTo>
                <a:lnTo>
                  <a:pt x="566" y="1237"/>
                </a:lnTo>
                <a:lnTo>
                  <a:pt x="524" y="1235"/>
                </a:lnTo>
                <a:lnTo>
                  <a:pt x="483" y="1232"/>
                </a:lnTo>
                <a:lnTo>
                  <a:pt x="442" y="1229"/>
                </a:lnTo>
                <a:lnTo>
                  <a:pt x="402" y="1225"/>
                </a:lnTo>
                <a:lnTo>
                  <a:pt x="362" y="1221"/>
                </a:lnTo>
                <a:lnTo>
                  <a:pt x="322" y="1215"/>
                </a:lnTo>
                <a:lnTo>
                  <a:pt x="282" y="1210"/>
                </a:lnTo>
                <a:lnTo>
                  <a:pt x="241" y="1203"/>
                </a:lnTo>
                <a:lnTo>
                  <a:pt x="202" y="1196"/>
                </a:lnTo>
                <a:lnTo>
                  <a:pt x="163" y="1188"/>
                </a:lnTo>
                <a:lnTo>
                  <a:pt x="125" y="1180"/>
                </a:lnTo>
                <a:lnTo>
                  <a:pt x="87" y="1171"/>
                </a:lnTo>
                <a:lnTo>
                  <a:pt x="49" y="1161"/>
                </a:lnTo>
                <a:lnTo>
                  <a:pt x="12" y="1151"/>
                </a:lnTo>
                <a:lnTo>
                  <a:pt x="11" y="1145"/>
                </a:lnTo>
                <a:lnTo>
                  <a:pt x="9" y="1139"/>
                </a:lnTo>
                <a:lnTo>
                  <a:pt x="8" y="1133"/>
                </a:lnTo>
                <a:lnTo>
                  <a:pt x="6" y="1126"/>
                </a:lnTo>
                <a:lnTo>
                  <a:pt x="5" y="1120"/>
                </a:lnTo>
                <a:lnTo>
                  <a:pt x="3" y="1114"/>
                </a:lnTo>
                <a:lnTo>
                  <a:pt x="2" y="1107"/>
                </a:lnTo>
                <a:lnTo>
                  <a:pt x="0" y="1101"/>
                </a:lnTo>
                <a:lnTo>
                  <a:pt x="44" y="1115"/>
                </a:lnTo>
                <a:lnTo>
                  <a:pt x="89" y="1127"/>
                </a:lnTo>
                <a:lnTo>
                  <a:pt x="135" y="1139"/>
                </a:lnTo>
                <a:lnTo>
                  <a:pt x="181" y="1150"/>
                </a:lnTo>
                <a:lnTo>
                  <a:pt x="229" y="1159"/>
                </a:lnTo>
                <a:lnTo>
                  <a:pt x="276" y="1168"/>
                </a:lnTo>
                <a:lnTo>
                  <a:pt x="325" y="1176"/>
                </a:lnTo>
                <a:lnTo>
                  <a:pt x="373" y="1182"/>
                </a:lnTo>
                <a:lnTo>
                  <a:pt x="423" y="1188"/>
                </a:lnTo>
                <a:lnTo>
                  <a:pt x="472" y="1192"/>
                </a:lnTo>
                <a:lnTo>
                  <a:pt x="521" y="1196"/>
                </a:lnTo>
                <a:lnTo>
                  <a:pt x="571" y="1199"/>
                </a:lnTo>
                <a:lnTo>
                  <a:pt x="622" y="1200"/>
                </a:lnTo>
                <a:lnTo>
                  <a:pt x="671" y="1201"/>
                </a:lnTo>
                <a:lnTo>
                  <a:pt x="721" y="1200"/>
                </a:lnTo>
                <a:lnTo>
                  <a:pt x="770" y="1199"/>
                </a:lnTo>
                <a:lnTo>
                  <a:pt x="820" y="1196"/>
                </a:lnTo>
                <a:lnTo>
                  <a:pt x="869" y="1192"/>
                </a:lnTo>
                <a:lnTo>
                  <a:pt x="917" y="1188"/>
                </a:lnTo>
                <a:lnTo>
                  <a:pt x="966" y="1183"/>
                </a:lnTo>
                <a:lnTo>
                  <a:pt x="1014" y="1177"/>
                </a:lnTo>
                <a:lnTo>
                  <a:pt x="1062" y="1169"/>
                </a:lnTo>
                <a:lnTo>
                  <a:pt x="1108" y="1161"/>
                </a:lnTo>
                <a:lnTo>
                  <a:pt x="1155" y="1152"/>
                </a:lnTo>
                <a:lnTo>
                  <a:pt x="1201" y="1141"/>
                </a:lnTo>
                <a:lnTo>
                  <a:pt x="1245" y="1130"/>
                </a:lnTo>
                <a:lnTo>
                  <a:pt x="1290" y="1118"/>
                </a:lnTo>
                <a:lnTo>
                  <a:pt x="1333" y="1104"/>
                </a:lnTo>
                <a:lnTo>
                  <a:pt x="1374" y="1091"/>
                </a:lnTo>
                <a:lnTo>
                  <a:pt x="1415" y="1075"/>
                </a:lnTo>
                <a:lnTo>
                  <a:pt x="1456" y="1059"/>
                </a:lnTo>
                <a:lnTo>
                  <a:pt x="1495" y="1043"/>
                </a:lnTo>
                <a:lnTo>
                  <a:pt x="1532" y="1025"/>
                </a:lnTo>
                <a:lnTo>
                  <a:pt x="1567" y="1006"/>
                </a:lnTo>
                <a:lnTo>
                  <a:pt x="1601" y="987"/>
                </a:lnTo>
                <a:lnTo>
                  <a:pt x="1632" y="968"/>
                </a:lnTo>
                <a:lnTo>
                  <a:pt x="1663" y="948"/>
                </a:lnTo>
                <a:lnTo>
                  <a:pt x="1690" y="928"/>
                </a:lnTo>
                <a:lnTo>
                  <a:pt x="1715" y="907"/>
                </a:lnTo>
                <a:lnTo>
                  <a:pt x="1740" y="885"/>
                </a:lnTo>
                <a:lnTo>
                  <a:pt x="1762" y="863"/>
                </a:lnTo>
                <a:lnTo>
                  <a:pt x="1782" y="841"/>
                </a:lnTo>
                <a:lnTo>
                  <a:pt x="1800" y="819"/>
                </a:lnTo>
                <a:lnTo>
                  <a:pt x="1816" y="796"/>
                </a:lnTo>
                <a:lnTo>
                  <a:pt x="1829" y="773"/>
                </a:lnTo>
                <a:lnTo>
                  <a:pt x="1842" y="750"/>
                </a:lnTo>
                <a:lnTo>
                  <a:pt x="1851" y="726"/>
                </a:lnTo>
                <a:lnTo>
                  <a:pt x="1860" y="702"/>
                </a:lnTo>
                <a:lnTo>
                  <a:pt x="1865" y="678"/>
                </a:lnTo>
                <a:lnTo>
                  <a:pt x="1869" y="654"/>
                </a:lnTo>
                <a:lnTo>
                  <a:pt x="1872" y="630"/>
                </a:lnTo>
                <a:lnTo>
                  <a:pt x="1872" y="606"/>
                </a:lnTo>
                <a:lnTo>
                  <a:pt x="1869" y="582"/>
                </a:lnTo>
                <a:lnTo>
                  <a:pt x="1865" y="558"/>
                </a:lnTo>
                <a:lnTo>
                  <a:pt x="1859" y="534"/>
                </a:lnTo>
                <a:lnTo>
                  <a:pt x="1850" y="510"/>
                </a:lnTo>
                <a:lnTo>
                  <a:pt x="1840" y="486"/>
                </a:lnTo>
                <a:lnTo>
                  <a:pt x="1827" y="463"/>
                </a:lnTo>
                <a:lnTo>
                  <a:pt x="1812" y="439"/>
                </a:lnTo>
                <a:lnTo>
                  <a:pt x="1796" y="416"/>
                </a:lnTo>
                <a:lnTo>
                  <a:pt x="1777" y="393"/>
                </a:lnTo>
                <a:lnTo>
                  <a:pt x="1755" y="370"/>
                </a:lnTo>
                <a:lnTo>
                  <a:pt x="1732" y="348"/>
                </a:lnTo>
                <a:lnTo>
                  <a:pt x="1707" y="326"/>
                </a:lnTo>
                <a:lnTo>
                  <a:pt x="1679" y="304"/>
                </a:lnTo>
                <a:lnTo>
                  <a:pt x="1651" y="283"/>
                </a:lnTo>
                <a:lnTo>
                  <a:pt x="1619" y="263"/>
                </a:lnTo>
                <a:lnTo>
                  <a:pt x="1588" y="244"/>
                </a:lnTo>
                <a:lnTo>
                  <a:pt x="1554" y="225"/>
                </a:lnTo>
                <a:lnTo>
                  <a:pt x="1519" y="208"/>
                </a:lnTo>
                <a:lnTo>
                  <a:pt x="1482" y="191"/>
                </a:lnTo>
                <a:lnTo>
                  <a:pt x="1444" y="175"/>
                </a:lnTo>
                <a:lnTo>
                  <a:pt x="1405" y="160"/>
                </a:lnTo>
                <a:lnTo>
                  <a:pt x="1365" y="146"/>
                </a:lnTo>
                <a:lnTo>
                  <a:pt x="1324" y="132"/>
                </a:lnTo>
                <a:lnTo>
                  <a:pt x="1281" y="119"/>
                </a:lnTo>
                <a:lnTo>
                  <a:pt x="1238" y="107"/>
                </a:lnTo>
                <a:lnTo>
                  <a:pt x="1193" y="96"/>
                </a:lnTo>
                <a:lnTo>
                  <a:pt x="1148" y="87"/>
                </a:lnTo>
                <a:lnTo>
                  <a:pt x="1102" y="78"/>
                </a:lnTo>
                <a:lnTo>
                  <a:pt x="1054" y="69"/>
                </a:lnTo>
                <a:lnTo>
                  <a:pt x="1007" y="62"/>
                </a:lnTo>
                <a:lnTo>
                  <a:pt x="959" y="56"/>
                </a:lnTo>
                <a:lnTo>
                  <a:pt x="911" y="50"/>
                </a:lnTo>
                <a:lnTo>
                  <a:pt x="861" y="46"/>
                </a:lnTo>
                <a:lnTo>
                  <a:pt x="812" y="43"/>
                </a:lnTo>
                <a:lnTo>
                  <a:pt x="761" y="41"/>
                </a:lnTo>
                <a:lnTo>
                  <a:pt x="711" y="39"/>
                </a:lnTo>
                <a:lnTo>
                  <a:pt x="661" y="39"/>
                </a:lnTo>
                <a:lnTo>
                  <a:pt x="609" y="40"/>
                </a:lnTo>
                <a:lnTo>
                  <a:pt x="558" y="42"/>
                </a:lnTo>
                <a:lnTo>
                  <a:pt x="506" y="44"/>
                </a:lnTo>
                <a:lnTo>
                  <a:pt x="456" y="48"/>
                </a:lnTo>
                <a:lnTo>
                  <a:pt x="405" y="54"/>
                </a:lnTo>
                <a:lnTo>
                  <a:pt x="353" y="60"/>
                </a:lnTo>
                <a:lnTo>
                  <a:pt x="303" y="67"/>
                </a:lnTo>
                <a:lnTo>
                  <a:pt x="309" y="61"/>
                </a:lnTo>
                <a:lnTo>
                  <a:pt x="315" y="55"/>
                </a:lnTo>
                <a:lnTo>
                  <a:pt x="322" y="48"/>
                </a:lnTo>
                <a:lnTo>
                  <a:pt x="329" y="42"/>
                </a:lnTo>
                <a:lnTo>
                  <a:pt x="335" y="36"/>
                </a:lnTo>
                <a:lnTo>
                  <a:pt x="343" y="30"/>
                </a:lnTo>
                <a:lnTo>
                  <a:pt x="349" y="24"/>
                </a:lnTo>
                <a:lnTo>
                  <a:pt x="357" y="19"/>
                </a:lnTo>
                <a:lnTo>
                  <a:pt x="418" y="12"/>
                </a:lnTo>
                <a:lnTo>
                  <a:pt x="479" y="7"/>
                </a:lnTo>
                <a:lnTo>
                  <a:pt x="539" y="3"/>
                </a:lnTo>
                <a:lnTo>
                  <a:pt x="600" y="1"/>
                </a:lnTo>
                <a:lnTo>
                  <a:pt x="661" y="0"/>
                </a:lnTo>
                <a:lnTo>
                  <a:pt x="721" y="1"/>
                </a:lnTo>
                <a:lnTo>
                  <a:pt x="780" y="2"/>
                </a:lnTo>
                <a:lnTo>
                  <a:pt x="839" y="5"/>
                </a:lnTo>
                <a:lnTo>
                  <a:pt x="897" y="10"/>
                </a:lnTo>
                <a:lnTo>
                  <a:pt x="955" y="16"/>
                </a:lnTo>
                <a:lnTo>
                  <a:pt x="1012" y="22"/>
                </a:lnTo>
                <a:lnTo>
                  <a:pt x="1068" y="30"/>
                </a:lnTo>
                <a:lnTo>
                  <a:pt x="1123" y="40"/>
                </a:lnTo>
                <a:lnTo>
                  <a:pt x="1177" y="50"/>
                </a:lnTo>
                <a:lnTo>
                  <a:pt x="1230" y="62"/>
                </a:lnTo>
                <a:lnTo>
                  <a:pt x="1281" y="74"/>
                </a:lnTo>
                <a:lnTo>
                  <a:pt x="1332" y="88"/>
                </a:lnTo>
                <a:lnTo>
                  <a:pt x="1381" y="104"/>
                </a:lnTo>
                <a:lnTo>
                  <a:pt x="1428" y="119"/>
                </a:lnTo>
                <a:lnTo>
                  <a:pt x="1475" y="136"/>
                </a:lnTo>
                <a:lnTo>
                  <a:pt x="1519" y="154"/>
                </a:lnTo>
                <a:lnTo>
                  <a:pt x="1562" y="173"/>
                </a:lnTo>
                <a:lnTo>
                  <a:pt x="1602" y="193"/>
                </a:lnTo>
                <a:lnTo>
                  <a:pt x="1641" y="214"/>
                </a:lnTo>
                <a:lnTo>
                  <a:pt x="1679" y="236"/>
                </a:lnTo>
                <a:lnTo>
                  <a:pt x="1714" y="259"/>
                </a:lnTo>
                <a:lnTo>
                  <a:pt x="1747" y="283"/>
                </a:lnTo>
                <a:lnTo>
                  <a:pt x="1778" y="307"/>
                </a:lnTo>
                <a:lnTo>
                  <a:pt x="1806" y="332"/>
                </a:lnTo>
                <a:lnTo>
                  <a:pt x="1832" y="358"/>
                </a:lnTo>
                <a:lnTo>
                  <a:pt x="1857" y="385"/>
                </a:lnTo>
                <a:lnTo>
                  <a:pt x="1878" y="413"/>
                </a:lnTo>
              </a:path>
            </a:pathLst>
          </a:cu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702320" y="2597040"/>
            <a:ext cx="2990880" cy="1846440"/>
          </a:xfrm>
          <a:custGeom>
            <a:avLst/>
            <a:gdLst/>
            <a:ahLst/>
            <a:rect l="l" t="t" r="r" b="b"/>
            <a:pathLst>
              <a:path w="1884" h="1163">
                <a:moveTo>
                  <a:pt x="314" y="28"/>
                </a:moveTo>
                <a:lnTo>
                  <a:pt x="307" y="34"/>
                </a:lnTo>
                <a:lnTo>
                  <a:pt x="301" y="40"/>
                </a:lnTo>
                <a:lnTo>
                  <a:pt x="295" y="46"/>
                </a:lnTo>
                <a:lnTo>
                  <a:pt x="289" y="52"/>
                </a:lnTo>
                <a:lnTo>
                  <a:pt x="283" y="58"/>
                </a:lnTo>
                <a:lnTo>
                  <a:pt x="277" y="65"/>
                </a:lnTo>
                <a:lnTo>
                  <a:pt x="271" y="71"/>
                </a:lnTo>
                <a:lnTo>
                  <a:pt x="265" y="77"/>
                </a:lnTo>
                <a:lnTo>
                  <a:pt x="313" y="69"/>
                </a:lnTo>
                <a:lnTo>
                  <a:pt x="361" y="62"/>
                </a:lnTo>
                <a:lnTo>
                  <a:pt x="410" y="55"/>
                </a:lnTo>
                <a:lnTo>
                  <a:pt x="458" y="50"/>
                </a:lnTo>
                <a:lnTo>
                  <a:pt x="508" y="46"/>
                </a:lnTo>
                <a:lnTo>
                  <a:pt x="556" y="42"/>
                </a:lnTo>
                <a:lnTo>
                  <a:pt x="605" y="40"/>
                </a:lnTo>
                <a:lnTo>
                  <a:pt x="654" y="39"/>
                </a:lnTo>
                <a:lnTo>
                  <a:pt x="702" y="39"/>
                </a:lnTo>
                <a:lnTo>
                  <a:pt x="751" y="40"/>
                </a:lnTo>
                <a:lnTo>
                  <a:pt x="799" y="42"/>
                </a:lnTo>
                <a:lnTo>
                  <a:pt x="847" y="45"/>
                </a:lnTo>
                <a:lnTo>
                  <a:pt x="894" y="49"/>
                </a:lnTo>
                <a:lnTo>
                  <a:pt x="942" y="53"/>
                </a:lnTo>
                <a:lnTo>
                  <a:pt x="987" y="59"/>
                </a:lnTo>
                <a:lnTo>
                  <a:pt x="1034" y="66"/>
                </a:lnTo>
                <a:lnTo>
                  <a:pt x="1079" y="74"/>
                </a:lnTo>
                <a:lnTo>
                  <a:pt x="1123" y="83"/>
                </a:lnTo>
                <a:lnTo>
                  <a:pt x="1167" y="92"/>
                </a:lnTo>
                <a:lnTo>
                  <a:pt x="1210" y="102"/>
                </a:lnTo>
                <a:lnTo>
                  <a:pt x="1251" y="114"/>
                </a:lnTo>
                <a:lnTo>
                  <a:pt x="1292" y="126"/>
                </a:lnTo>
                <a:lnTo>
                  <a:pt x="1332" y="139"/>
                </a:lnTo>
                <a:lnTo>
                  <a:pt x="1372" y="153"/>
                </a:lnTo>
                <a:lnTo>
                  <a:pt x="1409" y="167"/>
                </a:lnTo>
                <a:lnTo>
                  <a:pt x="1445" y="183"/>
                </a:lnTo>
                <a:lnTo>
                  <a:pt x="1480" y="200"/>
                </a:lnTo>
                <a:lnTo>
                  <a:pt x="1514" y="217"/>
                </a:lnTo>
                <a:lnTo>
                  <a:pt x="1546" y="235"/>
                </a:lnTo>
                <a:lnTo>
                  <a:pt x="1576" y="254"/>
                </a:lnTo>
                <a:lnTo>
                  <a:pt x="1606" y="274"/>
                </a:lnTo>
                <a:lnTo>
                  <a:pt x="1633" y="294"/>
                </a:lnTo>
                <a:lnTo>
                  <a:pt x="1659" y="315"/>
                </a:lnTo>
                <a:lnTo>
                  <a:pt x="1683" y="337"/>
                </a:lnTo>
                <a:lnTo>
                  <a:pt x="1704" y="359"/>
                </a:lnTo>
                <a:lnTo>
                  <a:pt x="1723" y="381"/>
                </a:lnTo>
                <a:lnTo>
                  <a:pt x="1741" y="403"/>
                </a:lnTo>
                <a:lnTo>
                  <a:pt x="1756" y="425"/>
                </a:lnTo>
                <a:lnTo>
                  <a:pt x="1769" y="448"/>
                </a:lnTo>
                <a:lnTo>
                  <a:pt x="1779" y="471"/>
                </a:lnTo>
                <a:lnTo>
                  <a:pt x="1789" y="494"/>
                </a:lnTo>
                <a:lnTo>
                  <a:pt x="1795" y="517"/>
                </a:lnTo>
                <a:lnTo>
                  <a:pt x="1799" y="540"/>
                </a:lnTo>
                <a:lnTo>
                  <a:pt x="1802" y="563"/>
                </a:lnTo>
                <a:lnTo>
                  <a:pt x="1802" y="586"/>
                </a:lnTo>
                <a:lnTo>
                  <a:pt x="1800" y="610"/>
                </a:lnTo>
                <a:lnTo>
                  <a:pt x="1797" y="633"/>
                </a:lnTo>
                <a:lnTo>
                  <a:pt x="1792" y="656"/>
                </a:lnTo>
                <a:lnTo>
                  <a:pt x="1784" y="678"/>
                </a:lnTo>
                <a:lnTo>
                  <a:pt x="1774" y="701"/>
                </a:lnTo>
                <a:lnTo>
                  <a:pt x="1762" y="724"/>
                </a:lnTo>
                <a:lnTo>
                  <a:pt x="1748" y="746"/>
                </a:lnTo>
                <a:lnTo>
                  <a:pt x="1734" y="768"/>
                </a:lnTo>
                <a:lnTo>
                  <a:pt x="1716" y="789"/>
                </a:lnTo>
                <a:lnTo>
                  <a:pt x="1697" y="811"/>
                </a:lnTo>
                <a:lnTo>
                  <a:pt x="1675" y="832"/>
                </a:lnTo>
                <a:lnTo>
                  <a:pt x="1651" y="852"/>
                </a:lnTo>
                <a:lnTo>
                  <a:pt x="1626" y="872"/>
                </a:lnTo>
                <a:lnTo>
                  <a:pt x="1600" y="892"/>
                </a:lnTo>
                <a:lnTo>
                  <a:pt x="1570" y="911"/>
                </a:lnTo>
                <a:lnTo>
                  <a:pt x="1539" y="930"/>
                </a:lnTo>
                <a:lnTo>
                  <a:pt x="1507" y="948"/>
                </a:lnTo>
                <a:lnTo>
                  <a:pt x="1472" y="965"/>
                </a:lnTo>
                <a:lnTo>
                  <a:pt x="1435" y="982"/>
                </a:lnTo>
                <a:lnTo>
                  <a:pt x="1397" y="998"/>
                </a:lnTo>
                <a:lnTo>
                  <a:pt x="1358" y="1013"/>
                </a:lnTo>
                <a:lnTo>
                  <a:pt x="1318" y="1027"/>
                </a:lnTo>
                <a:lnTo>
                  <a:pt x="1277" y="1040"/>
                </a:lnTo>
                <a:lnTo>
                  <a:pt x="1234" y="1053"/>
                </a:lnTo>
                <a:lnTo>
                  <a:pt x="1191" y="1064"/>
                </a:lnTo>
                <a:lnTo>
                  <a:pt x="1147" y="1074"/>
                </a:lnTo>
                <a:lnTo>
                  <a:pt x="1102" y="1083"/>
                </a:lnTo>
                <a:lnTo>
                  <a:pt x="1058" y="1092"/>
                </a:lnTo>
                <a:lnTo>
                  <a:pt x="1012" y="1099"/>
                </a:lnTo>
                <a:lnTo>
                  <a:pt x="965" y="1105"/>
                </a:lnTo>
                <a:lnTo>
                  <a:pt x="919" y="1110"/>
                </a:lnTo>
                <a:lnTo>
                  <a:pt x="872" y="1115"/>
                </a:lnTo>
                <a:lnTo>
                  <a:pt x="825" y="1118"/>
                </a:lnTo>
                <a:lnTo>
                  <a:pt x="777" y="1121"/>
                </a:lnTo>
                <a:lnTo>
                  <a:pt x="730" y="1122"/>
                </a:lnTo>
                <a:lnTo>
                  <a:pt x="681" y="1123"/>
                </a:lnTo>
                <a:lnTo>
                  <a:pt x="634" y="1122"/>
                </a:lnTo>
                <a:lnTo>
                  <a:pt x="586" y="1121"/>
                </a:lnTo>
                <a:lnTo>
                  <a:pt x="539" y="1118"/>
                </a:lnTo>
                <a:lnTo>
                  <a:pt x="491" y="1115"/>
                </a:lnTo>
                <a:lnTo>
                  <a:pt x="444" y="1110"/>
                </a:lnTo>
                <a:lnTo>
                  <a:pt x="397" y="1104"/>
                </a:lnTo>
                <a:lnTo>
                  <a:pt x="351" y="1098"/>
                </a:lnTo>
                <a:lnTo>
                  <a:pt x="304" y="1091"/>
                </a:lnTo>
                <a:lnTo>
                  <a:pt x="259" y="1082"/>
                </a:lnTo>
                <a:lnTo>
                  <a:pt x="213" y="1073"/>
                </a:lnTo>
                <a:lnTo>
                  <a:pt x="169" y="1062"/>
                </a:lnTo>
                <a:lnTo>
                  <a:pt x="126" y="1050"/>
                </a:lnTo>
                <a:lnTo>
                  <a:pt x="82" y="1038"/>
                </a:lnTo>
                <a:lnTo>
                  <a:pt x="41" y="1024"/>
                </a:lnTo>
                <a:lnTo>
                  <a:pt x="0" y="1010"/>
                </a:lnTo>
                <a:lnTo>
                  <a:pt x="1" y="1016"/>
                </a:lnTo>
                <a:lnTo>
                  <a:pt x="2" y="1023"/>
                </a:lnTo>
                <a:lnTo>
                  <a:pt x="4" y="1030"/>
                </a:lnTo>
                <a:lnTo>
                  <a:pt x="5" y="1036"/>
                </a:lnTo>
                <a:lnTo>
                  <a:pt x="6" y="1042"/>
                </a:lnTo>
                <a:lnTo>
                  <a:pt x="9" y="1049"/>
                </a:lnTo>
                <a:lnTo>
                  <a:pt x="10" y="1056"/>
                </a:lnTo>
                <a:lnTo>
                  <a:pt x="11" y="1062"/>
                </a:lnTo>
                <a:lnTo>
                  <a:pt x="55" y="1076"/>
                </a:lnTo>
                <a:lnTo>
                  <a:pt x="100" y="1088"/>
                </a:lnTo>
                <a:lnTo>
                  <a:pt x="146" y="1100"/>
                </a:lnTo>
                <a:lnTo>
                  <a:pt x="192" y="1111"/>
                </a:lnTo>
                <a:lnTo>
                  <a:pt x="240" y="1120"/>
                </a:lnTo>
                <a:lnTo>
                  <a:pt x="287" y="1129"/>
                </a:lnTo>
                <a:lnTo>
                  <a:pt x="336" y="1137"/>
                </a:lnTo>
                <a:lnTo>
                  <a:pt x="384" y="1143"/>
                </a:lnTo>
                <a:lnTo>
                  <a:pt x="434" y="1149"/>
                </a:lnTo>
                <a:lnTo>
                  <a:pt x="483" y="1153"/>
                </a:lnTo>
                <a:lnTo>
                  <a:pt x="532" y="1157"/>
                </a:lnTo>
                <a:lnTo>
                  <a:pt x="582" y="1160"/>
                </a:lnTo>
                <a:lnTo>
                  <a:pt x="633" y="1161"/>
                </a:lnTo>
                <a:lnTo>
                  <a:pt x="682" y="1162"/>
                </a:lnTo>
                <a:lnTo>
                  <a:pt x="732" y="1161"/>
                </a:lnTo>
                <a:lnTo>
                  <a:pt x="781" y="1160"/>
                </a:lnTo>
                <a:lnTo>
                  <a:pt x="831" y="1157"/>
                </a:lnTo>
                <a:lnTo>
                  <a:pt x="880" y="1153"/>
                </a:lnTo>
                <a:lnTo>
                  <a:pt x="928" y="1149"/>
                </a:lnTo>
                <a:lnTo>
                  <a:pt x="977" y="1144"/>
                </a:lnTo>
                <a:lnTo>
                  <a:pt x="1025" y="1138"/>
                </a:lnTo>
                <a:lnTo>
                  <a:pt x="1073" y="1130"/>
                </a:lnTo>
                <a:lnTo>
                  <a:pt x="1119" y="1122"/>
                </a:lnTo>
                <a:lnTo>
                  <a:pt x="1166" y="1113"/>
                </a:lnTo>
                <a:lnTo>
                  <a:pt x="1212" y="1102"/>
                </a:lnTo>
                <a:lnTo>
                  <a:pt x="1256" y="1091"/>
                </a:lnTo>
                <a:lnTo>
                  <a:pt x="1301" y="1079"/>
                </a:lnTo>
                <a:lnTo>
                  <a:pt x="1344" y="1065"/>
                </a:lnTo>
                <a:lnTo>
                  <a:pt x="1385" y="1052"/>
                </a:lnTo>
                <a:lnTo>
                  <a:pt x="1426" y="1036"/>
                </a:lnTo>
                <a:lnTo>
                  <a:pt x="1467" y="1020"/>
                </a:lnTo>
                <a:lnTo>
                  <a:pt x="1506" y="1004"/>
                </a:lnTo>
                <a:lnTo>
                  <a:pt x="1543" y="986"/>
                </a:lnTo>
                <a:lnTo>
                  <a:pt x="1578" y="967"/>
                </a:lnTo>
                <a:lnTo>
                  <a:pt x="1612" y="948"/>
                </a:lnTo>
                <a:lnTo>
                  <a:pt x="1643" y="929"/>
                </a:lnTo>
                <a:lnTo>
                  <a:pt x="1674" y="909"/>
                </a:lnTo>
                <a:lnTo>
                  <a:pt x="1701" y="889"/>
                </a:lnTo>
                <a:lnTo>
                  <a:pt x="1726" y="868"/>
                </a:lnTo>
                <a:lnTo>
                  <a:pt x="1751" y="846"/>
                </a:lnTo>
                <a:lnTo>
                  <a:pt x="1773" y="824"/>
                </a:lnTo>
                <a:lnTo>
                  <a:pt x="1793" y="802"/>
                </a:lnTo>
                <a:lnTo>
                  <a:pt x="1811" y="780"/>
                </a:lnTo>
                <a:lnTo>
                  <a:pt x="1827" y="757"/>
                </a:lnTo>
                <a:lnTo>
                  <a:pt x="1840" y="734"/>
                </a:lnTo>
                <a:lnTo>
                  <a:pt x="1853" y="711"/>
                </a:lnTo>
                <a:lnTo>
                  <a:pt x="1862" y="687"/>
                </a:lnTo>
                <a:lnTo>
                  <a:pt x="1871" y="663"/>
                </a:lnTo>
                <a:lnTo>
                  <a:pt x="1876" y="639"/>
                </a:lnTo>
                <a:lnTo>
                  <a:pt x="1880" y="615"/>
                </a:lnTo>
                <a:lnTo>
                  <a:pt x="1883" y="591"/>
                </a:lnTo>
                <a:lnTo>
                  <a:pt x="1883" y="567"/>
                </a:lnTo>
                <a:lnTo>
                  <a:pt x="1880" y="543"/>
                </a:lnTo>
                <a:lnTo>
                  <a:pt x="1876" y="519"/>
                </a:lnTo>
                <a:lnTo>
                  <a:pt x="1870" y="495"/>
                </a:lnTo>
                <a:lnTo>
                  <a:pt x="1861" y="471"/>
                </a:lnTo>
                <a:lnTo>
                  <a:pt x="1851" y="447"/>
                </a:lnTo>
                <a:lnTo>
                  <a:pt x="1838" y="424"/>
                </a:lnTo>
                <a:lnTo>
                  <a:pt x="1823" y="400"/>
                </a:lnTo>
                <a:lnTo>
                  <a:pt x="1807" y="377"/>
                </a:lnTo>
                <a:lnTo>
                  <a:pt x="1788" y="354"/>
                </a:lnTo>
                <a:lnTo>
                  <a:pt x="1766" y="331"/>
                </a:lnTo>
                <a:lnTo>
                  <a:pt x="1743" y="309"/>
                </a:lnTo>
                <a:lnTo>
                  <a:pt x="1718" y="287"/>
                </a:lnTo>
                <a:lnTo>
                  <a:pt x="1690" y="265"/>
                </a:lnTo>
                <a:lnTo>
                  <a:pt x="1662" y="244"/>
                </a:lnTo>
                <a:lnTo>
                  <a:pt x="1630" y="224"/>
                </a:lnTo>
                <a:lnTo>
                  <a:pt x="1599" y="205"/>
                </a:lnTo>
                <a:lnTo>
                  <a:pt x="1565" y="186"/>
                </a:lnTo>
                <a:lnTo>
                  <a:pt x="1530" y="169"/>
                </a:lnTo>
                <a:lnTo>
                  <a:pt x="1493" y="152"/>
                </a:lnTo>
                <a:lnTo>
                  <a:pt x="1455" y="136"/>
                </a:lnTo>
                <a:lnTo>
                  <a:pt x="1416" y="121"/>
                </a:lnTo>
                <a:lnTo>
                  <a:pt x="1376" y="107"/>
                </a:lnTo>
                <a:lnTo>
                  <a:pt x="1335" y="93"/>
                </a:lnTo>
                <a:lnTo>
                  <a:pt x="1292" y="80"/>
                </a:lnTo>
                <a:lnTo>
                  <a:pt x="1249" y="68"/>
                </a:lnTo>
                <a:lnTo>
                  <a:pt x="1204" y="57"/>
                </a:lnTo>
                <a:lnTo>
                  <a:pt x="1159" y="48"/>
                </a:lnTo>
                <a:lnTo>
                  <a:pt x="1113" y="39"/>
                </a:lnTo>
                <a:lnTo>
                  <a:pt x="1065" y="30"/>
                </a:lnTo>
                <a:lnTo>
                  <a:pt x="1018" y="23"/>
                </a:lnTo>
                <a:lnTo>
                  <a:pt x="970" y="17"/>
                </a:lnTo>
                <a:lnTo>
                  <a:pt x="922" y="11"/>
                </a:lnTo>
                <a:lnTo>
                  <a:pt x="872" y="7"/>
                </a:lnTo>
                <a:lnTo>
                  <a:pt x="823" y="4"/>
                </a:lnTo>
                <a:lnTo>
                  <a:pt x="772" y="2"/>
                </a:lnTo>
                <a:lnTo>
                  <a:pt x="722" y="0"/>
                </a:lnTo>
                <a:lnTo>
                  <a:pt x="672" y="0"/>
                </a:lnTo>
                <a:lnTo>
                  <a:pt x="620" y="1"/>
                </a:lnTo>
                <a:lnTo>
                  <a:pt x="569" y="3"/>
                </a:lnTo>
                <a:lnTo>
                  <a:pt x="517" y="5"/>
                </a:lnTo>
                <a:lnTo>
                  <a:pt x="467" y="9"/>
                </a:lnTo>
                <a:lnTo>
                  <a:pt x="416" y="15"/>
                </a:lnTo>
                <a:lnTo>
                  <a:pt x="364" y="21"/>
                </a:lnTo>
                <a:lnTo>
                  <a:pt x="314" y="28"/>
                </a:lnTo>
              </a:path>
            </a:pathLst>
          </a:cu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89360" y="2658960"/>
            <a:ext cx="2874960" cy="1722600"/>
          </a:xfrm>
          <a:custGeom>
            <a:avLst/>
            <a:gdLst/>
            <a:ahLst/>
            <a:rect l="l" t="t" r="r" b="b"/>
            <a:pathLst>
              <a:path w="1811" h="1085">
                <a:moveTo>
                  <a:pt x="273" y="38"/>
                </a:moveTo>
                <a:lnTo>
                  <a:pt x="267" y="45"/>
                </a:lnTo>
                <a:lnTo>
                  <a:pt x="261" y="52"/>
                </a:lnTo>
                <a:lnTo>
                  <a:pt x="256" y="58"/>
                </a:lnTo>
                <a:lnTo>
                  <a:pt x="250" y="64"/>
                </a:lnTo>
                <a:lnTo>
                  <a:pt x="245" y="71"/>
                </a:lnTo>
                <a:lnTo>
                  <a:pt x="239" y="78"/>
                </a:lnTo>
                <a:lnTo>
                  <a:pt x="234" y="84"/>
                </a:lnTo>
                <a:lnTo>
                  <a:pt x="229" y="91"/>
                </a:lnTo>
                <a:lnTo>
                  <a:pt x="273" y="81"/>
                </a:lnTo>
                <a:lnTo>
                  <a:pt x="318" y="72"/>
                </a:lnTo>
                <a:lnTo>
                  <a:pt x="364" y="64"/>
                </a:lnTo>
                <a:lnTo>
                  <a:pt x="410" y="57"/>
                </a:lnTo>
                <a:lnTo>
                  <a:pt x="457" y="52"/>
                </a:lnTo>
                <a:lnTo>
                  <a:pt x="502" y="47"/>
                </a:lnTo>
                <a:lnTo>
                  <a:pt x="549" y="44"/>
                </a:lnTo>
                <a:lnTo>
                  <a:pt x="596" y="41"/>
                </a:lnTo>
                <a:lnTo>
                  <a:pt x="643" y="39"/>
                </a:lnTo>
                <a:lnTo>
                  <a:pt x="689" y="39"/>
                </a:lnTo>
                <a:lnTo>
                  <a:pt x="736" y="39"/>
                </a:lnTo>
                <a:lnTo>
                  <a:pt x="781" y="41"/>
                </a:lnTo>
                <a:lnTo>
                  <a:pt x="827" y="43"/>
                </a:lnTo>
                <a:lnTo>
                  <a:pt x="873" y="47"/>
                </a:lnTo>
                <a:lnTo>
                  <a:pt x="918" y="51"/>
                </a:lnTo>
                <a:lnTo>
                  <a:pt x="963" y="56"/>
                </a:lnTo>
                <a:lnTo>
                  <a:pt x="1007" y="62"/>
                </a:lnTo>
                <a:lnTo>
                  <a:pt x="1050" y="70"/>
                </a:lnTo>
                <a:lnTo>
                  <a:pt x="1093" y="78"/>
                </a:lnTo>
                <a:lnTo>
                  <a:pt x="1135" y="87"/>
                </a:lnTo>
                <a:lnTo>
                  <a:pt x="1176" y="97"/>
                </a:lnTo>
                <a:lnTo>
                  <a:pt x="1217" y="108"/>
                </a:lnTo>
                <a:lnTo>
                  <a:pt x="1256" y="120"/>
                </a:lnTo>
                <a:lnTo>
                  <a:pt x="1294" y="132"/>
                </a:lnTo>
                <a:lnTo>
                  <a:pt x="1332" y="146"/>
                </a:lnTo>
                <a:lnTo>
                  <a:pt x="1368" y="160"/>
                </a:lnTo>
                <a:lnTo>
                  <a:pt x="1403" y="175"/>
                </a:lnTo>
                <a:lnTo>
                  <a:pt x="1437" y="191"/>
                </a:lnTo>
                <a:lnTo>
                  <a:pt x="1469" y="208"/>
                </a:lnTo>
                <a:lnTo>
                  <a:pt x="1500" y="226"/>
                </a:lnTo>
                <a:lnTo>
                  <a:pt x="1529" y="245"/>
                </a:lnTo>
                <a:lnTo>
                  <a:pt x="1557" y="264"/>
                </a:lnTo>
                <a:lnTo>
                  <a:pt x="1583" y="284"/>
                </a:lnTo>
                <a:lnTo>
                  <a:pt x="1607" y="304"/>
                </a:lnTo>
                <a:lnTo>
                  <a:pt x="1629" y="325"/>
                </a:lnTo>
                <a:lnTo>
                  <a:pt x="1648" y="346"/>
                </a:lnTo>
                <a:lnTo>
                  <a:pt x="1666" y="367"/>
                </a:lnTo>
                <a:lnTo>
                  <a:pt x="1680" y="389"/>
                </a:lnTo>
                <a:lnTo>
                  <a:pt x="1694" y="410"/>
                </a:lnTo>
                <a:lnTo>
                  <a:pt x="1705" y="432"/>
                </a:lnTo>
                <a:lnTo>
                  <a:pt x="1714" y="454"/>
                </a:lnTo>
                <a:lnTo>
                  <a:pt x="1722" y="477"/>
                </a:lnTo>
                <a:lnTo>
                  <a:pt x="1726" y="499"/>
                </a:lnTo>
                <a:lnTo>
                  <a:pt x="1729" y="521"/>
                </a:lnTo>
                <a:lnTo>
                  <a:pt x="1730" y="543"/>
                </a:lnTo>
                <a:lnTo>
                  <a:pt x="1729" y="566"/>
                </a:lnTo>
                <a:lnTo>
                  <a:pt x="1726" y="588"/>
                </a:lnTo>
                <a:lnTo>
                  <a:pt x="1721" y="610"/>
                </a:lnTo>
                <a:lnTo>
                  <a:pt x="1713" y="632"/>
                </a:lnTo>
                <a:lnTo>
                  <a:pt x="1704" y="653"/>
                </a:lnTo>
                <a:lnTo>
                  <a:pt x="1693" y="675"/>
                </a:lnTo>
                <a:lnTo>
                  <a:pt x="1679" y="696"/>
                </a:lnTo>
                <a:lnTo>
                  <a:pt x="1665" y="718"/>
                </a:lnTo>
                <a:lnTo>
                  <a:pt x="1648" y="738"/>
                </a:lnTo>
                <a:lnTo>
                  <a:pt x="1629" y="758"/>
                </a:lnTo>
                <a:lnTo>
                  <a:pt x="1608" y="778"/>
                </a:lnTo>
                <a:lnTo>
                  <a:pt x="1584" y="798"/>
                </a:lnTo>
                <a:lnTo>
                  <a:pt x="1560" y="817"/>
                </a:lnTo>
                <a:lnTo>
                  <a:pt x="1534" y="836"/>
                </a:lnTo>
                <a:lnTo>
                  <a:pt x="1505" y="855"/>
                </a:lnTo>
                <a:lnTo>
                  <a:pt x="1475" y="872"/>
                </a:lnTo>
                <a:lnTo>
                  <a:pt x="1442" y="889"/>
                </a:lnTo>
                <a:lnTo>
                  <a:pt x="1408" y="906"/>
                </a:lnTo>
                <a:lnTo>
                  <a:pt x="1372" y="922"/>
                </a:lnTo>
                <a:lnTo>
                  <a:pt x="1334" y="936"/>
                </a:lnTo>
                <a:lnTo>
                  <a:pt x="1296" y="951"/>
                </a:lnTo>
                <a:lnTo>
                  <a:pt x="1256" y="964"/>
                </a:lnTo>
                <a:lnTo>
                  <a:pt x="1216" y="976"/>
                </a:lnTo>
                <a:lnTo>
                  <a:pt x="1175" y="987"/>
                </a:lnTo>
                <a:lnTo>
                  <a:pt x="1133" y="997"/>
                </a:lnTo>
                <a:lnTo>
                  <a:pt x="1089" y="1007"/>
                </a:lnTo>
                <a:lnTo>
                  <a:pt x="1046" y="1015"/>
                </a:lnTo>
                <a:lnTo>
                  <a:pt x="1003" y="1022"/>
                </a:lnTo>
                <a:lnTo>
                  <a:pt x="957" y="1028"/>
                </a:lnTo>
                <a:lnTo>
                  <a:pt x="913" y="1033"/>
                </a:lnTo>
                <a:lnTo>
                  <a:pt x="867" y="1038"/>
                </a:lnTo>
                <a:lnTo>
                  <a:pt x="822" y="1041"/>
                </a:lnTo>
                <a:lnTo>
                  <a:pt x="777" y="1043"/>
                </a:lnTo>
                <a:lnTo>
                  <a:pt x="730" y="1044"/>
                </a:lnTo>
                <a:lnTo>
                  <a:pt x="685" y="1045"/>
                </a:lnTo>
                <a:lnTo>
                  <a:pt x="638" y="1044"/>
                </a:lnTo>
                <a:lnTo>
                  <a:pt x="593" y="1042"/>
                </a:lnTo>
                <a:lnTo>
                  <a:pt x="548" y="1040"/>
                </a:lnTo>
                <a:lnTo>
                  <a:pt x="502" y="1036"/>
                </a:lnTo>
                <a:lnTo>
                  <a:pt x="457" y="1032"/>
                </a:lnTo>
                <a:lnTo>
                  <a:pt x="412" y="1026"/>
                </a:lnTo>
                <a:lnTo>
                  <a:pt x="368" y="1020"/>
                </a:lnTo>
                <a:lnTo>
                  <a:pt x="324" y="1012"/>
                </a:lnTo>
                <a:lnTo>
                  <a:pt x="280" y="1004"/>
                </a:lnTo>
                <a:lnTo>
                  <a:pt x="238" y="994"/>
                </a:lnTo>
                <a:lnTo>
                  <a:pt x="196" y="984"/>
                </a:lnTo>
                <a:lnTo>
                  <a:pt x="155" y="972"/>
                </a:lnTo>
                <a:lnTo>
                  <a:pt x="115" y="960"/>
                </a:lnTo>
                <a:lnTo>
                  <a:pt x="76" y="947"/>
                </a:lnTo>
                <a:lnTo>
                  <a:pt x="37" y="932"/>
                </a:lnTo>
                <a:lnTo>
                  <a:pt x="0" y="917"/>
                </a:lnTo>
                <a:lnTo>
                  <a:pt x="1" y="924"/>
                </a:lnTo>
                <a:lnTo>
                  <a:pt x="2" y="930"/>
                </a:lnTo>
                <a:lnTo>
                  <a:pt x="3" y="937"/>
                </a:lnTo>
                <a:lnTo>
                  <a:pt x="4" y="944"/>
                </a:lnTo>
                <a:lnTo>
                  <a:pt x="5" y="951"/>
                </a:lnTo>
                <a:lnTo>
                  <a:pt x="6" y="957"/>
                </a:lnTo>
                <a:lnTo>
                  <a:pt x="7" y="964"/>
                </a:lnTo>
                <a:lnTo>
                  <a:pt x="8" y="971"/>
                </a:lnTo>
                <a:lnTo>
                  <a:pt x="49" y="985"/>
                </a:lnTo>
                <a:lnTo>
                  <a:pt x="90" y="999"/>
                </a:lnTo>
                <a:lnTo>
                  <a:pt x="134" y="1011"/>
                </a:lnTo>
                <a:lnTo>
                  <a:pt x="177" y="1023"/>
                </a:lnTo>
                <a:lnTo>
                  <a:pt x="221" y="1034"/>
                </a:lnTo>
                <a:lnTo>
                  <a:pt x="267" y="1043"/>
                </a:lnTo>
                <a:lnTo>
                  <a:pt x="312" y="1052"/>
                </a:lnTo>
                <a:lnTo>
                  <a:pt x="359" y="1059"/>
                </a:lnTo>
                <a:lnTo>
                  <a:pt x="405" y="1065"/>
                </a:lnTo>
                <a:lnTo>
                  <a:pt x="452" y="1071"/>
                </a:lnTo>
                <a:lnTo>
                  <a:pt x="499" y="1076"/>
                </a:lnTo>
                <a:lnTo>
                  <a:pt x="547" y="1079"/>
                </a:lnTo>
                <a:lnTo>
                  <a:pt x="594" y="1082"/>
                </a:lnTo>
                <a:lnTo>
                  <a:pt x="642" y="1083"/>
                </a:lnTo>
                <a:lnTo>
                  <a:pt x="689" y="1084"/>
                </a:lnTo>
                <a:lnTo>
                  <a:pt x="738" y="1083"/>
                </a:lnTo>
                <a:lnTo>
                  <a:pt x="785" y="1082"/>
                </a:lnTo>
                <a:lnTo>
                  <a:pt x="833" y="1079"/>
                </a:lnTo>
                <a:lnTo>
                  <a:pt x="880" y="1076"/>
                </a:lnTo>
                <a:lnTo>
                  <a:pt x="927" y="1071"/>
                </a:lnTo>
                <a:lnTo>
                  <a:pt x="973" y="1066"/>
                </a:lnTo>
                <a:lnTo>
                  <a:pt x="1020" y="1060"/>
                </a:lnTo>
                <a:lnTo>
                  <a:pt x="1066" y="1053"/>
                </a:lnTo>
                <a:lnTo>
                  <a:pt x="1110" y="1044"/>
                </a:lnTo>
                <a:lnTo>
                  <a:pt x="1155" y="1035"/>
                </a:lnTo>
                <a:lnTo>
                  <a:pt x="1199" y="1025"/>
                </a:lnTo>
                <a:lnTo>
                  <a:pt x="1242" y="1014"/>
                </a:lnTo>
                <a:lnTo>
                  <a:pt x="1285" y="1001"/>
                </a:lnTo>
                <a:lnTo>
                  <a:pt x="1326" y="988"/>
                </a:lnTo>
                <a:lnTo>
                  <a:pt x="1366" y="974"/>
                </a:lnTo>
                <a:lnTo>
                  <a:pt x="1405" y="959"/>
                </a:lnTo>
                <a:lnTo>
                  <a:pt x="1443" y="943"/>
                </a:lnTo>
                <a:lnTo>
                  <a:pt x="1480" y="926"/>
                </a:lnTo>
                <a:lnTo>
                  <a:pt x="1515" y="909"/>
                </a:lnTo>
                <a:lnTo>
                  <a:pt x="1547" y="891"/>
                </a:lnTo>
                <a:lnTo>
                  <a:pt x="1578" y="872"/>
                </a:lnTo>
                <a:lnTo>
                  <a:pt x="1608" y="853"/>
                </a:lnTo>
                <a:lnTo>
                  <a:pt x="1634" y="833"/>
                </a:lnTo>
                <a:lnTo>
                  <a:pt x="1659" y="813"/>
                </a:lnTo>
                <a:lnTo>
                  <a:pt x="1683" y="793"/>
                </a:lnTo>
                <a:lnTo>
                  <a:pt x="1705" y="772"/>
                </a:lnTo>
                <a:lnTo>
                  <a:pt x="1724" y="750"/>
                </a:lnTo>
                <a:lnTo>
                  <a:pt x="1742" y="729"/>
                </a:lnTo>
                <a:lnTo>
                  <a:pt x="1756" y="707"/>
                </a:lnTo>
                <a:lnTo>
                  <a:pt x="1770" y="685"/>
                </a:lnTo>
                <a:lnTo>
                  <a:pt x="1782" y="662"/>
                </a:lnTo>
                <a:lnTo>
                  <a:pt x="1792" y="639"/>
                </a:lnTo>
                <a:lnTo>
                  <a:pt x="1800" y="617"/>
                </a:lnTo>
                <a:lnTo>
                  <a:pt x="1805" y="594"/>
                </a:lnTo>
                <a:lnTo>
                  <a:pt x="1808" y="571"/>
                </a:lnTo>
                <a:lnTo>
                  <a:pt x="1810" y="547"/>
                </a:lnTo>
                <a:lnTo>
                  <a:pt x="1810" y="524"/>
                </a:lnTo>
                <a:lnTo>
                  <a:pt x="1807" y="501"/>
                </a:lnTo>
                <a:lnTo>
                  <a:pt x="1803" y="478"/>
                </a:lnTo>
                <a:lnTo>
                  <a:pt x="1797" y="455"/>
                </a:lnTo>
                <a:lnTo>
                  <a:pt x="1787" y="432"/>
                </a:lnTo>
                <a:lnTo>
                  <a:pt x="1777" y="409"/>
                </a:lnTo>
                <a:lnTo>
                  <a:pt x="1764" y="386"/>
                </a:lnTo>
                <a:lnTo>
                  <a:pt x="1749" y="364"/>
                </a:lnTo>
                <a:lnTo>
                  <a:pt x="1731" y="342"/>
                </a:lnTo>
                <a:lnTo>
                  <a:pt x="1712" y="320"/>
                </a:lnTo>
                <a:lnTo>
                  <a:pt x="1691" y="298"/>
                </a:lnTo>
                <a:lnTo>
                  <a:pt x="1667" y="276"/>
                </a:lnTo>
                <a:lnTo>
                  <a:pt x="1641" y="255"/>
                </a:lnTo>
                <a:lnTo>
                  <a:pt x="1614" y="235"/>
                </a:lnTo>
                <a:lnTo>
                  <a:pt x="1584" y="215"/>
                </a:lnTo>
                <a:lnTo>
                  <a:pt x="1554" y="196"/>
                </a:lnTo>
                <a:lnTo>
                  <a:pt x="1522" y="178"/>
                </a:lnTo>
                <a:lnTo>
                  <a:pt x="1488" y="161"/>
                </a:lnTo>
                <a:lnTo>
                  <a:pt x="1453" y="144"/>
                </a:lnTo>
                <a:lnTo>
                  <a:pt x="1417" y="128"/>
                </a:lnTo>
                <a:lnTo>
                  <a:pt x="1380" y="114"/>
                </a:lnTo>
                <a:lnTo>
                  <a:pt x="1340" y="100"/>
                </a:lnTo>
                <a:lnTo>
                  <a:pt x="1300" y="87"/>
                </a:lnTo>
                <a:lnTo>
                  <a:pt x="1259" y="75"/>
                </a:lnTo>
                <a:lnTo>
                  <a:pt x="1218" y="63"/>
                </a:lnTo>
                <a:lnTo>
                  <a:pt x="1175" y="53"/>
                </a:lnTo>
                <a:lnTo>
                  <a:pt x="1131" y="44"/>
                </a:lnTo>
                <a:lnTo>
                  <a:pt x="1087" y="35"/>
                </a:lnTo>
                <a:lnTo>
                  <a:pt x="1042" y="27"/>
                </a:lnTo>
                <a:lnTo>
                  <a:pt x="995" y="20"/>
                </a:lnTo>
                <a:lnTo>
                  <a:pt x="950" y="14"/>
                </a:lnTo>
                <a:lnTo>
                  <a:pt x="902" y="10"/>
                </a:lnTo>
                <a:lnTo>
                  <a:pt x="855" y="6"/>
                </a:lnTo>
                <a:lnTo>
                  <a:pt x="807" y="3"/>
                </a:lnTo>
                <a:lnTo>
                  <a:pt x="759" y="1"/>
                </a:lnTo>
                <a:lnTo>
                  <a:pt x="710" y="0"/>
                </a:lnTo>
                <a:lnTo>
                  <a:pt x="662" y="0"/>
                </a:lnTo>
                <a:lnTo>
                  <a:pt x="613" y="1"/>
                </a:lnTo>
                <a:lnTo>
                  <a:pt x="564" y="3"/>
                </a:lnTo>
                <a:lnTo>
                  <a:pt x="516" y="7"/>
                </a:lnTo>
                <a:lnTo>
                  <a:pt x="466" y="11"/>
                </a:lnTo>
                <a:lnTo>
                  <a:pt x="418" y="16"/>
                </a:lnTo>
                <a:lnTo>
                  <a:pt x="369" y="23"/>
                </a:lnTo>
                <a:lnTo>
                  <a:pt x="321" y="30"/>
                </a:lnTo>
                <a:lnTo>
                  <a:pt x="273" y="38"/>
                </a:lnTo>
              </a:path>
            </a:pathLst>
          </a:cu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80000" y="2720880"/>
            <a:ext cx="2757600" cy="1598760"/>
          </a:xfrm>
          <a:custGeom>
            <a:avLst/>
            <a:gdLst/>
            <a:ahLst/>
            <a:rect l="l" t="t" r="r" b="b"/>
            <a:pathLst>
              <a:path w="1737" h="1007">
                <a:moveTo>
                  <a:pt x="235" y="52"/>
                </a:moveTo>
                <a:lnTo>
                  <a:pt x="229" y="59"/>
                </a:lnTo>
                <a:lnTo>
                  <a:pt x="224" y="65"/>
                </a:lnTo>
                <a:lnTo>
                  <a:pt x="219" y="73"/>
                </a:lnTo>
                <a:lnTo>
                  <a:pt x="214" y="79"/>
                </a:lnTo>
                <a:lnTo>
                  <a:pt x="208" y="86"/>
                </a:lnTo>
                <a:lnTo>
                  <a:pt x="203" y="93"/>
                </a:lnTo>
                <a:lnTo>
                  <a:pt x="199" y="100"/>
                </a:lnTo>
                <a:lnTo>
                  <a:pt x="194" y="107"/>
                </a:lnTo>
                <a:lnTo>
                  <a:pt x="235" y="96"/>
                </a:lnTo>
                <a:lnTo>
                  <a:pt x="276" y="85"/>
                </a:lnTo>
                <a:lnTo>
                  <a:pt x="318" y="76"/>
                </a:lnTo>
                <a:lnTo>
                  <a:pt x="361" y="67"/>
                </a:lnTo>
                <a:lnTo>
                  <a:pt x="405" y="60"/>
                </a:lnTo>
                <a:lnTo>
                  <a:pt x="448" y="54"/>
                </a:lnTo>
                <a:lnTo>
                  <a:pt x="492" y="49"/>
                </a:lnTo>
                <a:lnTo>
                  <a:pt x="537" y="44"/>
                </a:lnTo>
                <a:lnTo>
                  <a:pt x="581" y="41"/>
                </a:lnTo>
                <a:lnTo>
                  <a:pt x="625" y="39"/>
                </a:lnTo>
                <a:lnTo>
                  <a:pt x="670" y="38"/>
                </a:lnTo>
                <a:lnTo>
                  <a:pt x="714" y="38"/>
                </a:lnTo>
                <a:lnTo>
                  <a:pt x="758" y="39"/>
                </a:lnTo>
                <a:lnTo>
                  <a:pt x="803" y="41"/>
                </a:lnTo>
                <a:lnTo>
                  <a:pt x="846" y="43"/>
                </a:lnTo>
                <a:lnTo>
                  <a:pt x="889" y="47"/>
                </a:lnTo>
                <a:lnTo>
                  <a:pt x="933" y="52"/>
                </a:lnTo>
                <a:lnTo>
                  <a:pt x="975" y="58"/>
                </a:lnTo>
                <a:lnTo>
                  <a:pt x="1017" y="64"/>
                </a:lnTo>
                <a:lnTo>
                  <a:pt x="1058" y="72"/>
                </a:lnTo>
                <a:lnTo>
                  <a:pt x="1099" y="81"/>
                </a:lnTo>
                <a:lnTo>
                  <a:pt x="1140" y="90"/>
                </a:lnTo>
                <a:lnTo>
                  <a:pt x="1179" y="100"/>
                </a:lnTo>
                <a:lnTo>
                  <a:pt x="1217" y="111"/>
                </a:lnTo>
                <a:lnTo>
                  <a:pt x="1254" y="124"/>
                </a:lnTo>
                <a:lnTo>
                  <a:pt x="1289" y="137"/>
                </a:lnTo>
                <a:lnTo>
                  <a:pt x="1324" y="151"/>
                </a:lnTo>
                <a:lnTo>
                  <a:pt x="1358" y="166"/>
                </a:lnTo>
                <a:lnTo>
                  <a:pt x="1391" y="181"/>
                </a:lnTo>
                <a:lnTo>
                  <a:pt x="1421" y="198"/>
                </a:lnTo>
                <a:lnTo>
                  <a:pt x="1451" y="215"/>
                </a:lnTo>
                <a:lnTo>
                  <a:pt x="1480" y="234"/>
                </a:lnTo>
                <a:lnTo>
                  <a:pt x="1506" y="253"/>
                </a:lnTo>
                <a:lnTo>
                  <a:pt x="1530" y="272"/>
                </a:lnTo>
                <a:lnTo>
                  <a:pt x="1552" y="291"/>
                </a:lnTo>
                <a:lnTo>
                  <a:pt x="1572" y="311"/>
                </a:lnTo>
                <a:lnTo>
                  <a:pt x="1589" y="332"/>
                </a:lnTo>
                <a:lnTo>
                  <a:pt x="1605" y="352"/>
                </a:lnTo>
                <a:lnTo>
                  <a:pt x="1619" y="373"/>
                </a:lnTo>
                <a:lnTo>
                  <a:pt x="1630" y="394"/>
                </a:lnTo>
                <a:lnTo>
                  <a:pt x="1640" y="415"/>
                </a:lnTo>
                <a:lnTo>
                  <a:pt x="1647" y="436"/>
                </a:lnTo>
                <a:lnTo>
                  <a:pt x="1653" y="458"/>
                </a:lnTo>
                <a:lnTo>
                  <a:pt x="1656" y="479"/>
                </a:lnTo>
                <a:lnTo>
                  <a:pt x="1657" y="501"/>
                </a:lnTo>
                <a:lnTo>
                  <a:pt x="1657" y="522"/>
                </a:lnTo>
                <a:lnTo>
                  <a:pt x="1654" y="543"/>
                </a:lnTo>
                <a:lnTo>
                  <a:pt x="1648" y="565"/>
                </a:lnTo>
                <a:lnTo>
                  <a:pt x="1642" y="585"/>
                </a:lnTo>
                <a:lnTo>
                  <a:pt x="1633" y="606"/>
                </a:lnTo>
                <a:lnTo>
                  <a:pt x="1622" y="627"/>
                </a:lnTo>
                <a:lnTo>
                  <a:pt x="1609" y="648"/>
                </a:lnTo>
                <a:lnTo>
                  <a:pt x="1595" y="668"/>
                </a:lnTo>
                <a:lnTo>
                  <a:pt x="1578" y="688"/>
                </a:lnTo>
                <a:lnTo>
                  <a:pt x="1560" y="707"/>
                </a:lnTo>
                <a:lnTo>
                  <a:pt x="1539" y="727"/>
                </a:lnTo>
                <a:lnTo>
                  <a:pt x="1516" y="746"/>
                </a:lnTo>
                <a:lnTo>
                  <a:pt x="1492" y="763"/>
                </a:lnTo>
                <a:lnTo>
                  <a:pt x="1466" y="781"/>
                </a:lnTo>
                <a:lnTo>
                  <a:pt x="1437" y="799"/>
                </a:lnTo>
                <a:lnTo>
                  <a:pt x="1408" y="816"/>
                </a:lnTo>
                <a:lnTo>
                  <a:pt x="1376" y="832"/>
                </a:lnTo>
                <a:lnTo>
                  <a:pt x="1342" y="847"/>
                </a:lnTo>
                <a:lnTo>
                  <a:pt x="1306" y="862"/>
                </a:lnTo>
                <a:lnTo>
                  <a:pt x="1269" y="876"/>
                </a:lnTo>
                <a:lnTo>
                  <a:pt x="1231" y="889"/>
                </a:lnTo>
                <a:lnTo>
                  <a:pt x="1192" y="901"/>
                </a:lnTo>
                <a:lnTo>
                  <a:pt x="1152" y="912"/>
                </a:lnTo>
                <a:lnTo>
                  <a:pt x="1112" y="922"/>
                </a:lnTo>
                <a:lnTo>
                  <a:pt x="1070" y="931"/>
                </a:lnTo>
                <a:lnTo>
                  <a:pt x="1029" y="939"/>
                </a:lnTo>
                <a:lnTo>
                  <a:pt x="986" y="946"/>
                </a:lnTo>
                <a:lnTo>
                  <a:pt x="943" y="952"/>
                </a:lnTo>
                <a:lnTo>
                  <a:pt x="900" y="957"/>
                </a:lnTo>
                <a:lnTo>
                  <a:pt x="857" y="961"/>
                </a:lnTo>
                <a:lnTo>
                  <a:pt x="812" y="964"/>
                </a:lnTo>
                <a:lnTo>
                  <a:pt x="769" y="966"/>
                </a:lnTo>
                <a:lnTo>
                  <a:pt x="725" y="968"/>
                </a:lnTo>
                <a:lnTo>
                  <a:pt x="680" y="968"/>
                </a:lnTo>
                <a:lnTo>
                  <a:pt x="636" y="966"/>
                </a:lnTo>
                <a:lnTo>
                  <a:pt x="593" y="965"/>
                </a:lnTo>
                <a:lnTo>
                  <a:pt x="548" y="962"/>
                </a:lnTo>
                <a:lnTo>
                  <a:pt x="505" y="958"/>
                </a:lnTo>
                <a:lnTo>
                  <a:pt x="463" y="953"/>
                </a:lnTo>
                <a:lnTo>
                  <a:pt x="420" y="948"/>
                </a:lnTo>
                <a:lnTo>
                  <a:pt x="377" y="941"/>
                </a:lnTo>
                <a:lnTo>
                  <a:pt x="336" y="933"/>
                </a:lnTo>
                <a:lnTo>
                  <a:pt x="295" y="925"/>
                </a:lnTo>
                <a:lnTo>
                  <a:pt x="255" y="915"/>
                </a:lnTo>
                <a:lnTo>
                  <a:pt x="216" y="905"/>
                </a:lnTo>
                <a:lnTo>
                  <a:pt x="177" y="893"/>
                </a:lnTo>
                <a:lnTo>
                  <a:pt x="140" y="881"/>
                </a:lnTo>
                <a:lnTo>
                  <a:pt x="103" y="867"/>
                </a:lnTo>
                <a:lnTo>
                  <a:pt x="68" y="853"/>
                </a:lnTo>
                <a:lnTo>
                  <a:pt x="33" y="838"/>
                </a:lnTo>
                <a:lnTo>
                  <a:pt x="0" y="822"/>
                </a:lnTo>
                <a:lnTo>
                  <a:pt x="0" y="829"/>
                </a:lnTo>
                <a:lnTo>
                  <a:pt x="1" y="836"/>
                </a:lnTo>
                <a:lnTo>
                  <a:pt x="1" y="843"/>
                </a:lnTo>
                <a:lnTo>
                  <a:pt x="2" y="850"/>
                </a:lnTo>
                <a:lnTo>
                  <a:pt x="4" y="857"/>
                </a:lnTo>
                <a:lnTo>
                  <a:pt x="5" y="864"/>
                </a:lnTo>
                <a:lnTo>
                  <a:pt x="5" y="871"/>
                </a:lnTo>
                <a:lnTo>
                  <a:pt x="6" y="878"/>
                </a:lnTo>
                <a:lnTo>
                  <a:pt x="43" y="893"/>
                </a:lnTo>
                <a:lnTo>
                  <a:pt x="82" y="908"/>
                </a:lnTo>
                <a:lnTo>
                  <a:pt x="121" y="921"/>
                </a:lnTo>
                <a:lnTo>
                  <a:pt x="161" y="933"/>
                </a:lnTo>
                <a:lnTo>
                  <a:pt x="202" y="945"/>
                </a:lnTo>
                <a:lnTo>
                  <a:pt x="244" y="955"/>
                </a:lnTo>
                <a:lnTo>
                  <a:pt x="286" y="965"/>
                </a:lnTo>
                <a:lnTo>
                  <a:pt x="330" y="973"/>
                </a:lnTo>
                <a:lnTo>
                  <a:pt x="374" y="981"/>
                </a:lnTo>
                <a:lnTo>
                  <a:pt x="418" y="987"/>
                </a:lnTo>
                <a:lnTo>
                  <a:pt x="463" y="993"/>
                </a:lnTo>
                <a:lnTo>
                  <a:pt x="508" y="997"/>
                </a:lnTo>
                <a:lnTo>
                  <a:pt x="554" y="1001"/>
                </a:lnTo>
                <a:lnTo>
                  <a:pt x="599" y="1003"/>
                </a:lnTo>
                <a:lnTo>
                  <a:pt x="644" y="1005"/>
                </a:lnTo>
                <a:lnTo>
                  <a:pt x="691" y="1006"/>
                </a:lnTo>
                <a:lnTo>
                  <a:pt x="736" y="1005"/>
                </a:lnTo>
                <a:lnTo>
                  <a:pt x="783" y="1004"/>
                </a:lnTo>
                <a:lnTo>
                  <a:pt x="828" y="1002"/>
                </a:lnTo>
                <a:lnTo>
                  <a:pt x="873" y="999"/>
                </a:lnTo>
                <a:lnTo>
                  <a:pt x="919" y="994"/>
                </a:lnTo>
                <a:lnTo>
                  <a:pt x="963" y="989"/>
                </a:lnTo>
                <a:lnTo>
                  <a:pt x="1009" y="983"/>
                </a:lnTo>
                <a:lnTo>
                  <a:pt x="1052" y="976"/>
                </a:lnTo>
                <a:lnTo>
                  <a:pt x="1095" y="968"/>
                </a:lnTo>
                <a:lnTo>
                  <a:pt x="1139" y="958"/>
                </a:lnTo>
                <a:lnTo>
                  <a:pt x="1181" y="948"/>
                </a:lnTo>
                <a:lnTo>
                  <a:pt x="1222" y="937"/>
                </a:lnTo>
                <a:lnTo>
                  <a:pt x="1262" y="925"/>
                </a:lnTo>
                <a:lnTo>
                  <a:pt x="1302" y="912"/>
                </a:lnTo>
                <a:lnTo>
                  <a:pt x="1340" y="897"/>
                </a:lnTo>
                <a:lnTo>
                  <a:pt x="1378" y="883"/>
                </a:lnTo>
                <a:lnTo>
                  <a:pt x="1414" y="867"/>
                </a:lnTo>
                <a:lnTo>
                  <a:pt x="1448" y="850"/>
                </a:lnTo>
                <a:lnTo>
                  <a:pt x="1481" y="833"/>
                </a:lnTo>
                <a:lnTo>
                  <a:pt x="1511" y="816"/>
                </a:lnTo>
                <a:lnTo>
                  <a:pt x="1540" y="797"/>
                </a:lnTo>
                <a:lnTo>
                  <a:pt x="1566" y="778"/>
                </a:lnTo>
                <a:lnTo>
                  <a:pt x="1590" y="759"/>
                </a:lnTo>
                <a:lnTo>
                  <a:pt x="1614" y="739"/>
                </a:lnTo>
                <a:lnTo>
                  <a:pt x="1635" y="719"/>
                </a:lnTo>
                <a:lnTo>
                  <a:pt x="1654" y="699"/>
                </a:lnTo>
                <a:lnTo>
                  <a:pt x="1671" y="679"/>
                </a:lnTo>
                <a:lnTo>
                  <a:pt x="1685" y="657"/>
                </a:lnTo>
                <a:lnTo>
                  <a:pt x="1699" y="636"/>
                </a:lnTo>
                <a:lnTo>
                  <a:pt x="1710" y="614"/>
                </a:lnTo>
                <a:lnTo>
                  <a:pt x="1719" y="593"/>
                </a:lnTo>
                <a:lnTo>
                  <a:pt x="1727" y="571"/>
                </a:lnTo>
                <a:lnTo>
                  <a:pt x="1732" y="549"/>
                </a:lnTo>
                <a:lnTo>
                  <a:pt x="1735" y="527"/>
                </a:lnTo>
                <a:lnTo>
                  <a:pt x="1736" y="504"/>
                </a:lnTo>
                <a:lnTo>
                  <a:pt x="1735" y="482"/>
                </a:lnTo>
                <a:lnTo>
                  <a:pt x="1732" y="460"/>
                </a:lnTo>
                <a:lnTo>
                  <a:pt x="1728" y="438"/>
                </a:lnTo>
                <a:lnTo>
                  <a:pt x="1720" y="415"/>
                </a:lnTo>
                <a:lnTo>
                  <a:pt x="1711" y="393"/>
                </a:lnTo>
                <a:lnTo>
                  <a:pt x="1700" y="371"/>
                </a:lnTo>
                <a:lnTo>
                  <a:pt x="1686" y="350"/>
                </a:lnTo>
                <a:lnTo>
                  <a:pt x="1672" y="328"/>
                </a:lnTo>
                <a:lnTo>
                  <a:pt x="1654" y="307"/>
                </a:lnTo>
                <a:lnTo>
                  <a:pt x="1635" y="286"/>
                </a:lnTo>
                <a:lnTo>
                  <a:pt x="1613" y="265"/>
                </a:lnTo>
                <a:lnTo>
                  <a:pt x="1589" y="245"/>
                </a:lnTo>
                <a:lnTo>
                  <a:pt x="1563" y="225"/>
                </a:lnTo>
                <a:lnTo>
                  <a:pt x="1535" y="206"/>
                </a:lnTo>
                <a:lnTo>
                  <a:pt x="1506" y="187"/>
                </a:lnTo>
                <a:lnTo>
                  <a:pt x="1475" y="169"/>
                </a:lnTo>
                <a:lnTo>
                  <a:pt x="1443" y="152"/>
                </a:lnTo>
                <a:lnTo>
                  <a:pt x="1409" y="136"/>
                </a:lnTo>
                <a:lnTo>
                  <a:pt x="1374" y="121"/>
                </a:lnTo>
                <a:lnTo>
                  <a:pt x="1338" y="107"/>
                </a:lnTo>
                <a:lnTo>
                  <a:pt x="1300" y="93"/>
                </a:lnTo>
                <a:lnTo>
                  <a:pt x="1262" y="81"/>
                </a:lnTo>
                <a:lnTo>
                  <a:pt x="1223" y="69"/>
                </a:lnTo>
                <a:lnTo>
                  <a:pt x="1182" y="58"/>
                </a:lnTo>
                <a:lnTo>
                  <a:pt x="1141" y="48"/>
                </a:lnTo>
                <a:lnTo>
                  <a:pt x="1099" y="39"/>
                </a:lnTo>
                <a:lnTo>
                  <a:pt x="1056" y="31"/>
                </a:lnTo>
                <a:lnTo>
                  <a:pt x="1013" y="23"/>
                </a:lnTo>
                <a:lnTo>
                  <a:pt x="969" y="17"/>
                </a:lnTo>
                <a:lnTo>
                  <a:pt x="924" y="12"/>
                </a:lnTo>
                <a:lnTo>
                  <a:pt x="879" y="8"/>
                </a:lnTo>
                <a:lnTo>
                  <a:pt x="833" y="4"/>
                </a:lnTo>
                <a:lnTo>
                  <a:pt x="787" y="2"/>
                </a:lnTo>
                <a:lnTo>
                  <a:pt x="742" y="0"/>
                </a:lnTo>
                <a:lnTo>
                  <a:pt x="695" y="0"/>
                </a:lnTo>
                <a:lnTo>
                  <a:pt x="649" y="0"/>
                </a:lnTo>
                <a:lnTo>
                  <a:pt x="602" y="2"/>
                </a:lnTo>
                <a:lnTo>
                  <a:pt x="555" y="5"/>
                </a:lnTo>
                <a:lnTo>
                  <a:pt x="508" y="8"/>
                </a:lnTo>
                <a:lnTo>
                  <a:pt x="463" y="13"/>
                </a:lnTo>
                <a:lnTo>
                  <a:pt x="416" y="18"/>
                </a:lnTo>
                <a:lnTo>
                  <a:pt x="370" y="25"/>
                </a:lnTo>
                <a:lnTo>
                  <a:pt x="324" y="33"/>
                </a:lnTo>
                <a:lnTo>
                  <a:pt x="279" y="42"/>
                </a:lnTo>
                <a:lnTo>
                  <a:pt x="235" y="52"/>
                </a:lnTo>
              </a:path>
            </a:pathLst>
          </a:cu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675320" y="2781360"/>
            <a:ext cx="2636640" cy="1477800"/>
          </a:xfrm>
          <a:custGeom>
            <a:avLst/>
            <a:gdLst/>
            <a:ahLst/>
            <a:rect l="l" t="t" r="r" b="b"/>
            <a:pathLst>
              <a:path w="1661" h="931">
                <a:moveTo>
                  <a:pt x="197" y="69"/>
                </a:moveTo>
                <a:lnTo>
                  <a:pt x="191" y="76"/>
                </a:lnTo>
                <a:lnTo>
                  <a:pt x="186" y="84"/>
                </a:lnTo>
                <a:lnTo>
                  <a:pt x="181" y="91"/>
                </a:lnTo>
                <a:lnTo>
                  <a:pt x="177" y="99"/>
                </a:lnTo>
                <a:lnTo>
                  <a:pt x="171" y="107"/>
                </a:lnTo>
                <a:lnTo>
                  <a:pt x="166" y="114"/>
                </a:lnTo>
                <a:lnTo>
                  <a:pt x="162" y="122"/>
                </a:lnTo>
                <a:lnTo>
                  <a:pt x="156" y="130"/>
                </a:lnTo>
                <a:lnTo>
                  <a:pt x="183" y="120"/>
                </a:lnTo>
                <a:lnTo>
                  <a:pt x="211" y="111"/>
                </a:lnTo>
                <a:lnTo>
                  <a:pt x="239" y="102"/>
                </a:lnTo>
                <a:lnTo>
                  <a:pt x="267" y="94"/>
                </a:lnTo>
                <a:lnTo>
                  <a:pt x="297" y="86"/>
                </a:lnTo>
                <a:lnTo>
                  <a:pt x="325" y="79"/>
                </a:lnTo>
                <a:lnTo>
                  <a:pt x="356" y="73"/>
                </a:lnTo>
                <a:lnTo>
                  <a:pt x="386" y="67"/>
                </a:lnTo>
                <a:lnTo>
                  <a:pt x="416" y="62"/>
                </a:lnTo>
                <a:lnTo>
                  <a:pt x="447" y="57"/>
                </a:lnTo>
                <a:lnTo>
                  <a:pt x="478" y="52"/>
                </a:lnTo>
                <a:lnTo>
                  <a:pt x="510" y="49"/>
                </a:lnTo>
                <a:lnTo>
                  <a:pt x="541" y="46"/>
                </a:lnTo>
                <a:lnTo>
                  <a:pt x="573" y="43"/>
                </a:lnTo>
                <a:lnTo>
                  <a:pt x="605" y="41"/>
                </a:lnTo>
                <a:lnTo>
                  <a:pt x="637" y="40"/>
                </a:lnTo>
                <a:lnTo>
                  <a:pt x="669" y="39"/>
                </a:lnTo>
                <a:lnTo>
                  <a:pt x="701" y="39"/>
                </a:lnTo>
                <a:lnTo>
                  <a:pt x="733" y="39"/>
                </a:lnTo>
                <a:lnTo>
                  <a:pt x="766" y="40"/>
                </a:lnTo>
                <a:lnTo>
                  <a:pt x="797" y="41"/>
                </a:lnTo>
                <a:lnTo>
                  <a:pt x="829" y="43"/>
                </a:lnTo>
                <a:lnTo>
                  <a:pt x="861" y="46"/>
                </a:lnTo>
                <a:lnTo>
                  <a:pt x="892" y="49"/>
                </a:lnTo>
                <a:lnTo>
                  <a:pt x="924" y="52"/>
                </a:lnTo>
                <a:lnTo>
                  <a:pt x="956" y="57"/>
                </a:lnTo>
                <a:lnTo>
                  <a:pt x="986" y="62"/>
                </a:lnTo>
                <a:lnTo>
                  <a:pt x="1017" y="67"/>
                </a:lnTo>
                <a:lnTo>
                  <a:pt x="1048" y="73"/>
                </a:lnTo>
                <a:lnTo>
                  <a:pt x="1077" y="80"/>
                </a:lnTo>
                <a:lnTo>
                  <a:pt x="1107" y="87"/>
                </a:lnTo>
                <a:lnTo>
                  <a:pt x="1136" y="95"/>
                </a:lnTo>
                <a:lnTo>
                  <a:pt x="1165" y="103"/>
                </a:lnTo>
                <a:lnTo>
                  <a:pt x="1193" y="112"/>
                </a:lnTo>
                <a:lnTo>
                  <a:pt x="1220" y="121"/>
                </a:lnTo>
                <a:lnTo>
                  <a:pt x="1246" y="131"/>
                </a:lnTo>
                <a:lnTo>
                  <a:pt x="1271" y="141"/>
                </a:lnTo>
                <a:lnTo>
                  <a:pt x="1296" y="151"/>
                </a:lnTo>
                <a:lnTo>
                  <a:pt x="1319" y="162"/>
                </a:lnTo>
                <a:lnTo>
                  <a:pt x="1342" y="173"/>
                </a:lnTo>
                <a:lnTo>
                  <a:pt x="1363" y="185"/>
                </a:lnTo>
                <a:lnTo>
                  <a:pt x="1384" y="197"/>
                </a:lnTo>
                <a:lnTo>
                  <a:pt x="1404" y="209"/>
                </a:lnTo>
                <a:lnTo>
                  <a:pt x="1422" y="222"/>
                </a:lnTo>
                <a:lnTo>
                  <a:pt x="1440" y="235"/>
                </a:lnTo>
                <a:lnTo>
                  <a:pt x="1457" y="248"/>
                </a:lnTo>
                <a:lnTo>
                  <a:pt x="1473" y="262"/>
                </a:lnTo>
                <a:lnTo>
                  <a:pt x="1488" y="275"/>
                </a:lnTo>
                <a:lnTo>
                  <a:pt x="1502" y="289"/>
                </a:lnTo>
                <a:lnTo>
                  <a:pt x="1514" y="304"/>
                </a:lnTo>
                <a:lnTo>
                  <a:pt x="1526" y="318"/>
                </a:lnTo>
                <a:lnTo>
                  <a:pt x="1536" y="333"/>
                </a:lnTo>
                <a:lnTo>
                  <a:pt x="1546" y="348"/>
                </a:lnTo>
                <a:lnTo>
                  <a:pt x="1554" y="362"/>
                </a:lnTo>
                <a:lnTo>
                  <a:pt x="1562" y="378"/>
                </a:lnTo>
                <a:lnTo>
                  <a:pt x="1567" y="393"/>
                </a:lnTo>
                <a:lnTo>
                  <a:pt x="1572" y="409"/>
                </a:lnTo>
                <a:lnTo>
                  <a:pt x="1575" y="424"/>
                </a:lnTo>
                <a:lnTo>
                  <a:pt x="1579" y="440"/>
                </a:lnTo>
                <a:lnTo>
                  <a:pt x="1580" y="456"/>
                </a:lnTo>
                <a:lnTo>
                  <a:pt x="1580" y="472"/>
                </a:lnTo>
                <a:lnTo>
                  <a:pt x="1579" y="488"/>
                </a:lnTo>
                <a:lnTo>
                  <a:pt x="1576" y="504"/>
                </a:lnTo>
                <a:lnTo>
                  <a:pt x="1572" y="520"/>
                </a:lnTo>
                <a:lnTo>
                  <a:pt x="1567" y="536"/>
                </a:lnTo>
                <a:lnTo>
                  <a:pt x="1561" y="552"/>
                </a:lnTo>
                <a:lnTo>
                  <a:pt x="1553" y="567"/>
                </a:lnTo>
                <a:lnTo>
                  <a:pt x="1545" y="583"/>
                </a:lnTo>
                <a:lnTo>
                  <a:pt x="1535" y="598"/>
                </a:lnTo>
                <a:lnTo>
                  <a:pt x="1525" y="613"/>
                </a:lnTo>
                <a:lnTo>
                  <a:pt x="1513" y="627"/>
                </a:lnTo>
                <a:lnTo>
                  <a:pt x="1500" y="642"/>
                </a:lnTo>
                <a:lnTo>
                  <a:pt x="1486" y="656"/>
                </a:lnTo>
                <a:lnTo>
                  <a:pt x="1471" y="670"/>
                </a:lnTo>
                <a:lnTo>
                  <a:pt x="1455" y="684"/>
                </a:lnTo>
                <a:lnTo>
                  <a:pt x="1438" y="697"/>
                </a:lnTo>
                <a:lnTo>
                  <a:pt x="1420" y="710"/>
                </a:lnTo>
                <a:lnTo>
                  <a:pt x="1401" y="722"/>
                </a:lnTo>
                <a:lnTo>
                  <a:pt x="1381" y="734"/>
                </a:lnTo>
                <a:lnTo>
                  <a:pt x="1361" y="746"/>
                </a:lnTo>
                <a:lnTo>
                  <a:pt x="1339" y="758"/>
                </a:lnTo>
                <a:lnTo>
                  <a:pt x="1317" y="768"/>
                </a:lnTo>
                <a:lnTo>
                  <a:pt x="1294" y="779"/>
                </a:lnTo>
                <a:lnTo>
                  <a:pt x="1269" y="789"/>
                </a:lnTo>
                <a:lnTo>
                  <a:pt x="1244" y="800"/>
                </a:lnTo>
                <a:lnTo>
                  <a:pt x="1219" y="809"/>
                </a:lnTo>
                <a:lnTo>
                  <a:pt x="1192" y="818"/>
                </a:lnTo>
                <a:lnTo>
                  <a:pt x="1166" y="826"/>
                </a:lnTo>
                <a:lnTo>
                  <a:pt x="1137" y="834"/>
                </a:lnTo>
                <a:lnTo>
                  <a:pt x="1109" y="842"/>
                </a:lnTo>
                <a:lnTo>
                  <a:pt x="1080" y="849"/>
                </a:lnTo>
                <a:lnTo>
                  <a:pt x="1050" y="855"/>
                </a:lnTo>
                <a:lnTo>
                  <a:pt x="1020" y="862"/>
                </a:lnTo>
                <a:lnTo>
                  <a:pt x="988" y="867"/>
                </a:lnTo>
                <a:lnTo>
                  <a:pt x="957" y="872"/>
                </a:lnTo>
                <a:lnTo>
                  <a:pt x="925" y="876"/>
                </a:lnTo>
                <a:lnTo>
                  <a:pt x="892" y="880"/>
                </a:lnTo>
                <a:lnTo>
                  <a:pt x="860" y="883"/>
                </a:lnTo>
                <a:lnTo>
                  <a:pt x="828" y="886"/>
                </a:lnTo>
                <a:lnTo>
                  <a:pt x="795" y="888"/>
                </a:lnTo>
                <a:lnTo>
                  <a:pt x="762" y="890"/>
                </a:lnTo>
                <a:lnTo>
                  <a:pt x="730" y="890"/>
                </a:lnTo>
                <a:lnTo>
                  <a:pt x="697" y="891"/>
                </a:lnTo>
                <a:lnTo>
                  <a:pt x="665" y="890"/>
                </a:lnTo>
                <a:lnTo>
                  <a:pt x="633" y="890"/>
                </a:lnTo>
                <a:lnTo>
                  <a:pt x="601" y="888"/>
                </a:lnTo>
                <a:lnTo>
                  <a:pt x="568" y="886"/>
                </a:lnTo>
                <a:lnTo>
                  <a:pt x="537" y="883"/>
                </a:lnTo>
                <a:lnTo>
                  <a:pt x="506" y="880"/>
                </a:lnTo>
                <a:lnTo>
                  <a:pt x="474" y="876"/>
                </a:lnTo>
                <a:lnTo>
                  <a:pt x="444" y="872"/>
                </a:lnTo>
                <a:lnTo>
                  <a:pt x="413" y="868"/>
                </a:lnTo>
                <a:lnTo>
                  <a:pt x="383" y="862"/>
                </a:lnTo>
                <a:lnTo>
                  <a:pt x="354" y="856"/>
                </a:lnTo>
                <a:lnTo>
                  <a:pt x="324" y="850"/>
                </a:lnTo>
                <a:lnTo>
                  <a:pt x="296" y="843"/>
                </a:lnTo>
                <a:lnTo>
                  <a:pt x="267" y="836"/>
                </a:lnTo>
                <a:lnTo>
                  <a:pt x="240" y="828"/>
                </a:lnTo>
                <a:lnTo>
                  <a:pt x="212" y="820"/>
                </a:lnTo>
                <a:lnTo>
                  <a:pt x="186" y="810"/>
                </a:lnTo>
                <a:lnTo>
                  <a:pt x="161" y="801"/>
                </a:lnTo>
                <a:lnTo>
                  <a:pt x="135" y="791"/>
                </a:lnTo>
                <a:lnTo>
                  <a:pt x="111" y="781"/>
                </a:lnTo>
                <a:lnTo>
                  <a:pt x="87" y="770"/>
                </a:lnTo>
                <a:lnTo>
                  <a:pt x="64" y="759"/>
                </a:lnTo>
                <a:lnTo>
                  <a:pt x="42" y="747"/>
                </a:lnTo>
                <a:lnTo>
                  <a:pt x="20" y="735"/>
                </a:lnTo>
                <a:lnTo>
                  <a:pt x="0" y="722"/>
                </a:lnTo>
                <a:lnTo>
                  <a:pt x="0" y="730"/>
                </a:lnTo>
                <a:lnTo>
                  <a:pt x="1" y="738"/>
                </a:lnTo>
                <a:lnTo>
                  <a:pt x="1" y="745"/>
                </a:lnTo>
                <a:lnTo>
                  <a:pt x="2" y="753"/>
                </a:lnTo>
                <a:lnTo>
                  <a:pt x="2" y="761"/>
                </a:lnTo>
                <a:lnTo>
                  <a:pt x="2" y="768"/>
                </a:lnTo>
                <a:lnTo>
                  <a:pt x="3" y="776"/>
                </a:lnTo>
                <a:lnTo>
                  <a:pt x="3" y="784"/>
                </a:lnTo>
                <a:lnTo>
                  <a:pt x="36" y="800"/>
                </a:lnTo>
                <a:lnTo>
                  <a:pt x="71" y="815"/>
                </a:lnTo>
                <a:lnTo>
                  <a:pt x="106" y="829"/>
                </a:lnTo>
                <a:lnTo>
                  <a:pt x="143" y="843"/>
                </a:lnTo>
                <a:lnTo>
                  <a:pt x="180" y="855"/>
                </a:lnTo>
                <a:lnTo>
                  <a:pt x="219" y="867"/>
                </a:lnTo>
                <a:lnTo>
                  <a:pt x="258" y="877"/>
                </a:lnTo>
                <a:lnTo>
                  <a:pt x="298" y="887"/>
                </a:lnTo>
                <a:lnTo>
                  <a:pt x="339" y="895"/>
                </a:lnTo>
                <a:lnTo>
                  <a:pt x="380" y="903"/>
                </a:lnTo>
                <a:lnTo>
                  <a:pt x="423" y="910"/>
                </a:lnTo>
                <a:lnTo>
                  <a:pt x="466" y="915"/>
                </a:lnTo>
                <a:lnTo>
                  <a:pt x="508" y="920"/>
                </a:lnTo>
                <a:lnTo>
                  <a:pt x="551" y="924"/>
                </a:lnTo>
                <a:lnTo>
                  <a:pt x="596" y="927"/>
                </a:lnTo>
                <a:lnTo>
                  <a:pt x="639" y="928"/>
                </a:lnTo>
                <a:lnTo>
                  <a:pt x="683" y="930"/>
                </a:lnTo>
                <a:lnTo>
                  <a:pt x="728" y="930"/>
                </a:lnTo>
                <a:lnTo>
                  <a:pt x="772" y="928"/>
                </a:lnTo>
                <a:lnTo>
                  <a:pt x="815" y="926"/>
                </a:lnTo>
                <a:lnTo>
                  <a:pt x="860" y="923"/>
                </a:lnTo>
                <a:lnTo>
                  <a:pt x="903" y="919"/>
                </a:lnTo>
                <a:lnTo>
                  <a:pt x="946" y="914"/>
                </a:lnTo>
                <a:lnTo>
                  <a:pt x="989" y="908"/>
                </a:lnTo>
                <a:lnTo>
                  <a:pt x="1032" y="901"/>
                </a:lnTo>
                <a:lnTo>
                  <a:pt x="1073" y="893"/>
                </a:lnTo>
                <a:lnTo>
                  <a:pt x="1115" y="884"/>
                </a:lnTo>
                <a:lnTo>
                  <a:pt x="1155" y="874"/>
                </a:lnTo>
                <a:lnTo>
                  <a:pt x="1195" y="863"/>
                </a:lnTo>
                <a:lnTo>
                  <a:pt x="1234" y="851"/>
                </a:lnTo>
                <a:lnTo>
                  <a:pt x="1272" y="838"/>
                </a:lnTo>
                <a:lnTo>
                  <a:pt x="1309" y="824"/>
                </a:lnTo>
                <a:lnTo>
                  <a:pt x="1345" y="809"/>
                </a:lnTo>
                <a:lnTo>
                  <a:pt x="1379" y="794"/>
                </a:lnTo>
                <a:lnTo>
                  <a:pt x="1411" y="778"/>
                </a:lnTo>
                <a:lnTo>
                  <a:pt x="1440" y="761"/>
                </a:lnTo>
                <a:lnTo>
                  <a:pt x="1469" y="743"/>
                </a:lnTo>
                <a:lnTo>
                  <a:pt x="1495" y="725"/>
                </a:lnTo>
                <a:lnTo>
                  <a:pt x="1519" y="708"/>
                </a:lnTo>
                <a:lnTo>
                  <a:pt x="1542" y="689"/>
                </a:lnTo>
                <a:lnTo>
                  <a:pt x="1563" y="669"/>
                </a:lnTo>
                <a:lnTo>
                  <a:pt x="1581" y="650"/>
                </a:lnTo>
                <a:lnTo>
                  <a:pt x="1598" y="630"/>
                </a:lnTo>
                <a:lnTo>
                  <a:pt x="1612" y="610"/>
                </a:lnTo>
                <a:lnTo>
                  <a:pt x="1625" y="589"/>
                </a:lnTo>
                <a:lnTo>
                  <a:pt x="1636" y="568"/>
                </a:lnTo>
                <a:lnTo>
                  <a:pt x="1645" y="547"/>
                </a:lnTo>
                <a:lnTo>
                  <a:pt x="1651" y="527"/>
                </a:lnTo>
                <a:lnTo>
                  <a:pt x="1657" y="505"/>
                </a:lnTo>
                <a:lnTo>
                  <a:pt x="1660" y="484"/>
                </a:lnTo>
                <a:lnTo>
                  <a:pt x="1660" y="463"/>
                </a:lnTo>
                <a:lnTo>
                  <a:pt x="1659" y="441"/>
                </a:lnTo>
                <a:lnTo>
                  <a:pt x="1656" y="420"/>
                </a:lnTo>
                <a:lnTo>
                  <a:pt x="1650" y="398"/>
                </a:lnTo>
                <a:lnTo>
                  <a:pt x="1643" y="377"/>
                </a:lnTo>
                <a:lnTo>
                  <a:pt x="1633" y="356"/>
                </a:lnTo>
                <a:lnTo>
                  <a:pt x="1622" y="335"/>
                </a:lnTo>
                <a:lnTo>
                  <a:pt x="1608" y="314"/>
                </a:lnTo>
                <a:lnTo>
                  <a:pt x="1592" y="294"/>
                </a:lnTo>
                <a:lnTo>
                  <a:pt x="1575" y="273"/>
                </a:lnTo>
                <a:lnTo>
                  <a:pt x="1555" y="253"/>
                </a:lnTo>
                <a:lnTo>
                  <a:pt x="1533" y="234"/>
                </a:lnTo>
                <a:lnTo>
                  <a:pt x="1509" y="215"/>
                </a:lnTo>
                <a:lnTo>
                  <a:pt x="1483" y="196"/>
                </a:lnTo>
                <a:lnTo>
                  <a:pt x="1454" y="177"/>
                </a:lnTo>
                <a:lnTo>
                  <a:pt x="1424" y="160"/>
                </a:lnTo>
                <a:lnTo>
                  <a:pt x="1394" y="143"/>
                </a:lnTo>
                <a:lnTo>
                  <a:pt x="1361" y="128"/>
                </a:lnTo>
                <a:lnTo>
                  <a:pt x="1327" y="113"/>
                </a:lnTo>
                <a:lnTo>
                  <a:pt x="1292" y="99"/>
                </a:lnTo>
                <a:lnTo>
                  <a:pt x="1257" y="86"/>
                </a:lnTo>
                <a:lnTo>
                  <a:pt x="1220" y="73"/>
                </a:lnTo>
                <a:lnTo>
                  <a:pt x="1182" y="62"/>
                </a:lnTo>
                <a:lnTo>
                  <a:pt x="1143" y="52"/>
                </a:lnTo>
                <a:lnTo>
                  <a:pt x="1102" y="43"/>
                </a:lnTo>
                <a:lnTo>
                  <a:pt x="1061" y="34"/>
                </a:lnTo>
                <a:lnTo>
                  <a:pt x="1020" y="26"/>
                </a:lnTo>
                <a:lnTo>
                  <a:pt x="978" y="20"/>
                </a:lnTo>
                <a:lnTo>
                  <a:pt x="936" y="14"/>
                </a:lnTo>
                <a:lnTo>
                  <a:pt x="892" y="9"/>
                </a:lnTo>
                <a:lnTo>
                  <a:pt x="849" y="5"/>
                </a:lnTo>
                <a:lnTo>
                  <a:pt x="806" y="3"/>
                </a:lnTo>
                <a:lnTo>
                  <a:pt x="761" y="1"/>
                </a:lnTo>
                <a:lnTo>
                  <a:pt x="717" y="0"/>
                </a:lnTo>
                <a:lnTo>
                  <a:pt x="673" y="0"/>
                </a:lnTo>
                <a:lnTo>
                  <a:pt x="628" y="1"/>
                </a:lnTo>
                <a:lnTo>
                  <a:pt x="584" y="3"/>
                </a:lnTo>
                <a:lnTo>
                  <a:pt x="540" y="6"/>
                </a:lnTo>
                <a:lnTo>
                  <a:pt x="495" y="11"/>
                </a:lnTo>
                <a:lnTo>
                  <a:pt x="451" y="16"/>
                </a:lnTo>
                <a:lnTo>
                  <a:pt x="408" y="22"/>
                </a:lnTo>
                <a:lnTo>
                  <a:pt x="364" y="29"/>
                </a:lnTo>
                <a:lnTo>
                  <a:pt x="321" y="38"/>
                </a:lnTo>
                <a:lnTo>
                  <a:pt x="279" y="47"/>
                </a:lnTo>
                <a:lnTo>
                  <a:pt x="238" y="58"/>
                </a:lnTo>
                <a:lnTo>
                  <a:pt x="197" y="69"/>
                </a:lnTo>
              </a:path>
            </a:pathLst>
          </a:cu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675320" y="2843280"/>
            <a:ext cx="2509560" cy="1353960"/>
          </a:xfrm>
          <a:custGeom>
            <a:avLst/>
            <a:gdLst/>
            <a:ahLst/>
            <a:rect l="l" t="t" r="r" b="b"/>
            <a:pathLst>
              <a:path w="1581" h="853">
                <a:moveTo>
                  <a:pt x="156" y="91"/>
                </a:moveTo>
                <a:lnTo>
                  <a:pt x="151" y="99"/>
                </a:lnTo>
                <a:lnTo>
                  <a:pt x="146" y="108"/>
                </a:lnTo>
                <a:lnTo>
                  <a:pt x="142" y="117"/>
                </a:lnTo>
                <a:lnTo>
                  <a:pt x="136" y="125"/>
                </a:lnTo>
                <a:lnTo>
                  <a:pt x="132" y="134"/>
                </a:lnTo>
                <a:lnTo>
                  <a:pt x="127" y="143"/>
                </a:lnTo>
                <a:lnTo>
                  <a:pt x="123" y="152"/>
                </a:lnTo>
                <a:lnTo>
                  <a:pt x="118" y="161"/>
                </a:lnTo>
                <a:lnTo>
                  <a:pt x="141" y="149"/>
                </a:lnTo>
                <a:lnTo>
                  <a:pt x="164" y="139"/>
                </a:lnTo>
                <a:lnTo>
                  <a:pt x="188" y="129"/>
                </a:lnTo>
                <a:lnTo>
                  <a:pt x="212" y="119"/>
                </a:lnTo>
                <a:lnTo>
                  <a:pt x="238" y="110"/>
                </a:lnTo>
                <a:lnTo>
                  <a:pt x="264" y="101"/>
                </a:lnTo>
                <a:lnTo>
                  <a:pt x="291" y="93"/>
                </a:lnTo>
                <a:lnTo>
                  <a:pt x="318" y="86"/>
                </a:lnTo>
                <a:lnTo>
                  <a:pt x="345" y="79"/>
                </a:lnTo>
                <a:lnTo>
                  <a:pt x="373" y="72"/>
                </a:lnTo>
                <a:lnTo>
                  <a:pt x="401" y="67"/>
                </a:lnTo>
                <a:lnTo>
                  <a:pt x="431" y="61"/>
                </a:lnTo>
                <a:lnTo>
                  <a:pt x="461" y="56"/>
                </a:lnTo>
                <a:lnTo>
                  <a:pt x="490" y="52"/>
                </a:lnTo>
                <a:lnTo>
                  <a:pt x="520" y="48"/>
                </a:lnTo>
                <a:lnTo>
                  <a:pt x="550" y="45"/>
                </a:lnTo>
                <a:lnTo>
                  <a:pt x="581" y="43"/>
                </a:lnTo>
                <a:lnTo>
                  <a:pt x="611" y="41"/>
                </a:lnTo>
                <a:lnTo>
                  <a:pt x="642" y="40"/>
                </a:lnTo>
                <a:lnTo>
                  <a:pt x="673" y="39"/>
                </a:lnTo>
                <a:lnTo>
                  <a:pt x="703" y="39"/>
                </a:lnTo>
                <a:lnTo>
                  <a:pt x="735" y="39"/>
                </a:lnTo>
                <a:lnTo>
                  <a:pt x="766" y="40"/>
                </a:lnTo>
                <a:lnTo>
                  <a:pt x="797" y="41"/>
                </a:lnTo>
                <a:lnTo>
                  <a:pt x="828" y="44"/>
                </a:lnTo>
                <a:lnTo>
                  <a:pt x="859" y="46"/>
                </a:lnTo>
                <a:lnTo>
                  <a:pt x="889" y="49"/>
                </a:lnTo>
                <a:lnTo>
                  <a:pt x="920" y="53"/>
                </a:lnTo>
                <a:lnTo>
                  <a:pt x="950" y="58"/>
                </a:lnTo>
                <a:lnTo>
                  <a:pt x="981" y="63"/>
                </a:lnTo>
                <a:lnTo>
                  <a:pt x="1011" y="69"/>
                </a:lnTo>
                <a:lnTo>
                  <a:pt x="1040" y="75"/>
                </a:lnTo>
                <a:lnTo>
                  <a:pt x="1069" y="82"/>
                </a:lnTo>
                <a:lnTo>
                  <a:pt x="1097" y="90"/>
                </a:lnTo>
                <a:lnTo>
                  <a:pt x="1125" y="98"/>
                </a:lnTo>
                <a:lnTo>
                  <a:pt x="1151" y="106"/>
                </a:lnTo>
                <a:lnTo>
                  <a:pt x="1177" y="115"/>
                </a:lnTo>
                <a:lnTo>
                  <a:pt x="1202" y="124"/>
                </a:lnTo>
                <a:lnTo>
                  <a:pt x="1226" y="134"/>
                </a:lnTo>
                <a:lnTo>
                  <a:pt x="1249" y="144"/>
                </a:lnTo>
                <a:lnTo>
                  <a:pt x="1271" y="155"/>
                </a:lnTo>
                <a:lnTo>
                  <a:pt x="1292" y="166"/>
                </a:lnTo>
                <a:lnTo>
                  <a:pt x="1314" y="178"/>
                </a:lnTo>
                <a:lnTo>
                  <a:pt x="1333" y="189"/>
                </a:lnTo>
                <a:lnTo>
                  <a:pt x="1352" y="201"/>
                </a:lnTo>
                <a:lnTo>
                  <a:pt x="1368" y="213"/>
                </a:lnTo>
                <a:lnTo>
                  <a:pt x="1385" y="226"/>
                </a:lnTo>
                <a:lnTo>
                  <a:pt x="1400" y="239"/>
                </a:lnTo>
                <a:lnTo>
                  <a:pt x="1415" y="253"/>
                </a:lnTo>
                <a:lnTo>
                  <a:pt x="1428" y="266"/>
                </a:lnTo>
                <a:lnTo>
                  <a:pt x="1440" y="280"/>
                </a:lnTo>
                <a:lnTo>
                  <a:pt x="1452" y="294"/>
                </a:lnTo>
                <a:lnTo>
                  <a:pt x="1461" y="308"/>
                </a:lnTo>
                <a:lnTo>
                  <a:pt x="1470" y="322"/>
                </a:lnTo>
                <a:lnTo>
                  <a:pt x="1478" y="337"/>
                </a:lnTo>
                <a:lnTo>
                  <a:pt x="1485" y="352"/>
                </a:lnTo>
                <a:lnTo>
                  <a:pt x="1490" y="367"/>
                </a:lnTo>
                <a:lnTo>
                  <a:pt x="1494" y="382"/>
                </a:lnTo>
                <a:lnTo>
                  <a:pt x="1497" y="397"/>
                </a:lnTo>
                <a:lnTo>
                  <a:pt x="1499" y="412"/>
                </a:lnTo>
                <a:lnTo>
                  <a:pt x="1499" y="428"/>
                </a:lnTo>
                <a:lnTo>
                  <a:pt x="1498" y="443"/>
                </a:lnTo>
                <a:lnTo>
                  <a:pt x="1496" y="459"/>
                </a:lnTo>
                <a:lnTo>
                  <a:pt x="1493" y="474"/>
                </a:lnTo>
                <a:lnTo>
                  <a:pt x="1483" y="505"/>
                </a:lnTo>
                <a:lnTo>
                  <a:pt x="1467" y="535"/>
                </a:lnTo>
                <a:lnTo>
                  <a:pt x="1447" y="564"/>
                </a:lnTo>
                <a:lnTo>
                  <a:pt x="1422" y="592"/>
                </a:lnTo>
                <a:lnTo>
                  <a:pt x="1393" y="619"/>
                </a:lnTo>
                <a:lnTo>
                  <a:pt x="1360" y="645"/>
                </a:lnTo>
                <a:lnTo>
                  <a:pt x="1323" y="669"/>
                </a:lnTo>
                <a:lnTo>
                  <a:pt x="1282" y="691"/>
                </a:lnTo>
                <a:lnTo>
                  <a:pt x="1239" y="712"/>
                </a:lnTo>
                <a:lnTo>
                  <a:pt x="1191" y="731"/>
                </a:lnTo>
                <a:lnTo>
                  <a:pt x="1140" y="749"/>
                </a:lnTo>
                <a:lnTo>
                  <a:pt x="1087" y="765"/>
                </a:lnTo>
                <a:lnTo>
                  <a:pt x="1031" y="778"/>
                </a:lnTo>
                <a:lnTo>
                  <a:pt x="973" y="790"/>
                </a:lnTo>
                <a:lnTo>
                  <a:pt x="911" y="799"/>
                </a:lnTo>
                <a:lnTo>
                  <a:pt x="849" y="806"/>
                </a:lnTo>
                <a:lnTo>
                  <a:pt x="817" y="809"/>
                </a:lnTo>
                <a:lnTo>
                  <a:pt x="786" y="811"/>
                </a:lnTo>
                <a:lnTo>
                  <a:pt x="754" y="812"/>
                </a:lnTo>
                <a:lnTo>
                  <a:pt x="721" y="813"/>
                </a:lnTo>
                <a:lnTo>
                  <a:pt x="690" y="813"/>
                </a:lnTo>
                <a:lnTo>
                  <a:pt x="659" y="812"/>
                </a:lnTo>
                <a:lnTo>
                  <a:pt x="627" y="811"/>
                </a:lnTo>
                <a:lnTo>
                  <a:pt x="597" y="810"/>
                </a:lnTo>
                <a:lnTo>
                  <a:pt x="565" y="807"/>
                </a:lnTo>
                <a:lnTo>
                  <a:pt x="534" y="805"/>
                </a:lnTo>
                <a:lnTo>
                  <a:pt x="505" y="801"/>
                </a:lnTo>
                <a:lnTo>
                  <a:pt x="475" y="797"/>
                </a:lnTo>
                <a:lnTo>
                  <a:pt x="446" y="793"/>
                </a:lnTo>
                <a:lnTo>
                  <a:pt x="416" y="788"/>
                </a:lnTo>
                <a:lnTo>
                  <a:pt x="388" y="782"/>
                </a:lnTo>
                <a:lnTo>
                  <a:pt x="359" y="776"/>
                </a:lnTo>
                <a:lnTo>
                  <a:pt x="332" y="769"/>
                </a:lnTo>
                <a:lnTo>
                  <a:pt x="304" y="762"/>
                </a:lnTo>
                <a:lnTo>
                  <a:pt x="278" y="754"/>
                </a:lnTo>
                <a:lnTo>
                  <a:pt x="253" y="746"/>
                </a:lnTo>
                <a:lnTo>
                  <a:pt x="227" y="738"/>
                </a:lnTo>
                <a:lnTo>
                  <a:pt x="203" y="729"/>
                </a:lnTo>
                <a:lnTo>
                  <a:pt x="179" y="719"/>
                </a:lnTo>
                <a:lnTo>
                  <a:pt x="155" y="709"/>
                </a:lnTo>
                <a:lnTo>
                  <a:pt x="133" y="699"/>
                </a:lnTo>
                <a:lnTo>
                  <a:pt x="111" y="687"/>
                </a:lnTo>
                <a:lnTo>
                  <a:pt x="91" y="676"/>
                </a:lnTo>
                <a:lnTo>
                  <a:pt x="71" y="664"/>
                </a:lnTo>
                <a:lnTo>
                  <a:pt x="52" y="652"/>
                </a:lnTo>
                <a:lnTo>
                  <a:pt x="34" y="640"/>
                </a:lnTo>
                <a:lnTo>
                  <a:pt x="17" y="627"/>
                </a:lnTo>
                <a:lnTo>
                  <a:pt x="1" y="613"/>
                </a:lnTo>
                <a:lnTo>
                  <a:pt x="1" y="619"/>
                </a:lnTo>
                <a:lnTo>
                  <a:pt x="0" y="625"/>
                </a:lnTo>
                <a:lnTo>
                  <a:pt x="0" y="631"/>
                </a:lnTo>
                <a:lnTo>
                  <a:pt x="0" y="636"/>
                </a:lnTo>
                <a:lnTo>
                  <a:pt x="0" y="642"/>
                </a:lnTo>
                <a:lnTo>
                  <a:pt x="0" y="648"/>
                </a:lnTo>
                <a:lnTo>
                  <a:pt x="0" y="654"/>
                </a:lnTo>
                <a:lnTo>
                  <a:pt x="0" y="659"/>
                </a:lnTo>
                <a:lnTo>
                  <a:pt x="0" y="662"/>
                </a:lnTo>
                <a:lnTo>
                  <a:pt x="0" y="665"/>
                </a:lnTo>
                <a:lnTo>
                  <a:pt x="0" y="669"/>
                </a:lnTo>
                <a:lnTo>
                  <a:pt x="0" y="671"/>
                </a:lnTo>
                <a:lnTo>
                  <a:pt x="0" y="674"/>
                </a:lnTo>
                <a:lnTo>
                  <a:pt x="0" y="677"/>
                </a:lnTo>
                <a:lnTo>
                  <a:pt x="0" y="680"/>
                </a:lnTo>
                <a:lnTo>
                  <a:pt x="0" y="683"/>
                </a:lnTo>
                <a:lnTo>
                  <a:pt x="20" y="696"/>
                </a:lnTo>
                <a:lnTo>
                  <a:pt x="42" y="708"/>
                </a:lnTo>
                <a:lnTo>
                  <a:pt x="64" y="720"/>
                </a:lnTo>
                <a:lnTo>
                  <a:pt x="87" y="731"/>
                </a:lnTo>
                <a:lnTo>
                  <a:pt x="111" y="742"/>
                </a:lnTo>
                <a:lnTo>
                  <a:pt x="135" y="752"/>
                </a:lnTo>
                <a:lnTo>
                  <a:pt x="161" y="762"/>
                </a:lnTo>
                <a:lnTo>
                  <a:pt x="186" y="771"/>
                </a:lnTo>
                <a:lnTo>
                  <a:pt x="212" y="781"/>
                </a:lnTo>
                <a:lnTo>
                  <a:pt x="240" y="789"/>
                </a:lnTo>
                <a:lnTo>
                  <a:pt x="267" y="797"/>
                </a:lnTo>
                <a:lnTo>
                  <a:pt x="296" y="804"/>
                </a:lnTo>
                <a:lnTo>
                  <a:pt x="324" y="811"/>
                </a:lnTo>
                <a:lnTo>
                  <a:pt x="354" y="817"/>
                </a:lnTo>
                <a:lnTo>
                  <a:pt x="383" y="823"/>
                </a:lnTo>
                <a:lnTo>
                  <a:pt x="413" y="829"/>
                </a:lnTo>
                <a:lnTo>
                  <a:pt x="444" y="833"/>
                </a:lnTo>
                <a:lnTo>
                  <a:pt x="474" y="837"/>
                </a:lnTo>
                <a:lnTo>
                  <a:pt x="506" y="841"/>
                </a:lnTo>
                <a:lnTo>
                  <a:pt x="537" y="844"/>
                </a:lnTo>
                <a:lnTo>
                  <a:pt x="568" y="847"/>
                </a:lnTo>
                <a:lnTo>
                  <a:pt x="601" y="849"/>
                </a:lnTo>
                <a:lnTo>
                  <a:pt x="633" y="851"/>
                </a:lnTo>
                <a:lnTo>
                  <a:pt x="665" y="851"/>
                </a:lnTo>
                <a:lnTo>
                  <a:pt x="697" y="852"/>
                </a:lnTo>
                <a:lnTo>
                  <a:pt x="730" y="851"/>
                </a:lnTo>
                <a:lnTo>
                  <a:pt x="762" y="851"/>
                </a:lnTo>
                <a:lnTo>
                  <a:pt x="795" y="849"/>
                </a:lnTo>
                <a:lnTo>
                  <a:pt x="828" y="847"/>
                </a:lnTo>
                <a:lnTo>
                  <a:pt x="860" y="844"/>
                </a:lnTo>
                <a:lnTo>
                  <a:pt x="892" y="841"/>
                </a:lnTo>
                <a:lnTo>
                  <a:pt x="925" y="837"/>
                </a:lnTo>
                <a:lnTo>
                  <a:pt x="957" y="833"/>
                </a:lnTo>
                <a:lnTo>
                  <a:pt x="988" y="828"/>
                </a:lnTo>
                <a:lnTo>
                  <a:pt x="1020" y="823"/>
                </a:lnTo>
                <a:lnTo>
                  <a:pt x="1050" y="816"/>
                </a:lnTo>
                <a:lnTo>
                  <a:pt x="1080" y="810"/>
                </a:lnTo>
                <a:lnTo>
                  <a:pt x="1109" y="803"/>
                </a:lnTo>
                <a:lnTo>
                  <a:pt x="1137" y="795"/>
                </a:lnTo>
                <a:lnTo>
                  <a:pt x="1166" y="787"/>
                </a:lnTo>
                <a:lnTo>
                  <a:pt x="1192" y="779"/>
                </a:lnTo>
                <a:lnTo>
                  <a:pt x="1219" y="770"/>
                </a:lnTo>
                <a:lnTo>
                  <a:pt x="1244" y="761"/>
                </a:lnTo>
                <a:lnTo>
                  <a:pt x="1269" y="750"/>
                </a:lnTo>
                <a:lnTo>
                  <a:pt x="1294" y="740"/>
                </a:lnTo>
                <a:lnTo>
                  <a:pt x="1317" y="729"/>
                </a:lnTo>
                <a:lnTo>
                  <a:pt x="1339" y="719"/>
                </a:lnTo>
                <a:lnTo>
                  <a:pt x="1361" y="707"/>
                </a:lnTo>
                <a:lnTo>
                  <a:pt x="1381" y="695"/>
                </a:lnTo>
                <a:lnTo>
                  <a:pt x="1401" y="683"/>
                </a:lnTo>
                <a:lnTo>
                  <a:pt x="1420" y="671"/>
                </a:lnTo>
                <a:lnTo>
                  <a:pt x="1438" y="658"/>
                </a:lnTo>
                <a:lnTo>
                  <a:pt x="1455" y="645"/>
                </a:lnTo>
                <a:lnTo>
                  <a:pt x="1471" y="631"/>
                </a:lnTo>
                <a:lnTo>
                  <a:pt x="1486" y="617"/>
                </a:lnTo>
                <a:lnTo>
                  <a:pt x="1500" y="603"/>
                </a:lnTo>
                <a:lnTo>
                  <a:pt x="1513" y="588"/>
                </a:lnTo>
                <a:lnTo>
                  <a:pt x="1525" y="574"/>
                </a:lnTo>
                <a:lnTo>
                  <a:pt x="1535" y="559"/>
                </a:lnTo>
                <a:lnTo>
                  <a:pt x="1545" y="544"/>
                </a:lnTo>
                <a:lnTo>
                  <a:pt x="1553" y="528"/>
                </a:lnTo>
                <a:lnTo>
                  <a:pt x="1561" y="513"/>
                </a:lnTo>
                <a:lnTo>
                  <a:pt x="1567" y="497"/>
                </a:lnTo>
                <a:lnTo>
                  <a:pt x="1572" y="481"/>
                </a:lnTo>
                <a:lnTo>
                  <a:pt x="1576" y="465"/>
                </a:lnTo>
                <a:lnTo>
                  <a:pt x="1579" y="449"/>
                </a:lnTo>
                <a:lnTo>
                  <a:pt x="1580" y="433"/>
                </a:lnTo>
                <a:lnTo>
                  <a:pt x="1580" y="417"/>
                </a:lnTo>
                <a:lnTo>
                  <a:pt x="1579" y="401"/>
                </a:lnTo>
                <a:lnTo>
                  <a:pt x="1575" y="385"/>
                </a:lnTo>
                <a:lnTo>
                  <a:pt x="1572" y="370"/>
                </a:lnTo>
                <a:lnTo>
                  <a:pt x="1567" y="354"/>
                </a:lnTo>
                <a:lnTo>
                  <a:pt x="1562" y="339"/>
                </a:lnTo>
                <a:lnTo>
                  <a:pt x="1554" y="323"/>
                </a:lnTo>
                <a:lnTo>
                  <a:pt x="1546" y="309"/>
                </a:lnTo>
                <a:lnTo>
                  <a:pt x="1536" y="294"/>
                </a:lnTo>
                <a:lnTo>
                  <a:pt x="1526" y="279"/>
                </a:lnTo>
                <a:lnTo>
                  <a:pt x="1514" y="265"/>
                </a:lnTo>
                <a:lnTo>
                  <a:pt x="1502" y="250"/>
                </a:lnTo>
                <a:lnTo>
                  <a:pt x="1488" y="236"/>
                </a:lnTo>
                <a:lnTo>
                  <a:pt x="1473" y="223"/>
                </a:lnTo>
                <a:lnTo>
                  <a:pt x="1457" y="209"/>
                </a:lnTo>
                <a:lnTo>
                  <a:pt x="1440" y="196"/>
                </a:lnTo>
                <a:lnTo>
                  <a:pt x="1422" y="183"/>
                </a:lnTo>
                <a:lnTo>
                  <a:pt x="1404" y="170"/>
                </a:lnTo>
                <a:lnTo>
                  <a:pt x="1384" y="158"/>
                </a:lnTo>
                <a:lnTo>
                  <a:pt x="1363" y="146"/>
                </a:lnTo>
                <a:lnTo>
                  <a:pt x="1342" y="134"/>
                </a:lnTo>
                <a:lnTo>
                  <a:pt x="1319" y="123"/>
                </a:lnTo>
                <a:lnTo>
                  <a:pt x="1296" y="112"/>
                </a:lnTo>
                <a:lnTo>
                  <a:pt x="1271" y="102"/>
                </a:lnTo>
                <a:lnTo>
                  <a:pt x="1246" y="92"/>
                </a:lnTo>
                <a:lnTo>
                  <a:pt x="1220" y="82"/>
                </a:lnTo>
                <a:lnTo>
                  <a:pt x="1193" y="73"/>
                </a:lnTo>
                <a:lnTo>
                  <a:pt x="1165" y="64"/>
                </a:lnTo>
                <a:lnTo>
                  <a:pt x="1136" y="56"/>
                </a:lnTo>
                <a:lnTo>
                  <a:pt x="1107" y="48"/>
                </a:lnTo>
                <a:lnTo>
                  <a:pt x="1077" y="41"/>
                </a:lnTo>
                <a:lnTo>
                  <a:pt x="1048" y="34"/>
                </a:lnTo>
                <a:lnTo>
                  <a:pt x="1017" y="28"/>
                </a:lnTo>
                <a:lnTo>
                  <a:pt x="986" y="23"/>
                </a:lnTo>
                <a:lnTo>
                  <a:pt x="956" y="18"/>
                </a:lnTo>
                <a:lnTo>
                  <a:pt x="924" y="13"/>
                </a:lnTo>
                <a:lnTo>
                  <a:pt x="892" y="10"/>
                </a:lnTo>
                <a:lnTo>
                  <a:pt x="861" y="7"/>
                </a:lnTo>
                <a:lnTo>
                  <a:pt x="829" y="4"/>
                </a:lnTo>
                <a:lnTo>
                  <a:pt x="797" y="2"/>
                </a:lnTo>
                <a:lnTo>
                  <a:pt x="766" y="1"/>
                </a:lnTo>
                <a:lnTo>
                  <a:pt x="733" y="0"/>
                </a:lnTo>
                <a:lnTo>
                  <a:pt x="701" y="0"/>
                </a:lnTo>
                <a:lnTo>
                  <a:pt x="669" y="0"/>
                </a:lnTo>
                <a:lnTo>
                  <a:pt x="637" y="1"/>
                </a:lnTo>
                <a:lnTo>
                  <a:pt x="605" y="2"/>
                </a:lnTo>
                <a:lnTo>
                  <a:pt x="573" y="4"/>
                </a:lnTo>
                <a:lnTo>
                  <a:pt x="541" y="7"/>
                </a:lnTo>
                <a:lnTo>
                  <a:pt x="510" y="10"/>
                </a:lnTo>
                <a:lnTo>
                  <a:pt x="478" y="13"/>
                </a:lnTo>
                <a:lnTo>
                  <a:pt x="447" y="18"/>
                </a:lnTo>
                <a:lnTo>
                  <a:pt x="416" y="23"/>
                </a:lnTo>
                <a:lnTo>
                  <a:pt x="386" y="28"/>
                </a:lnTo>
                <a:lnTo>
                  <a:pt x="356" y="34"/>
                </a:lnTo>
                <a:lnTo>
                  <a:pt x="325" y="40"/>
                </a:lnTo>
                <a:lnTo>
                  <a:pt x="297" y="47"/>
                </a:lnTo>
                <a:lnTo>
                  <a:pt x="267" y="55"/>
                </a:lnTo>
                <a:lnTo>
                  <a:pt x="239" y="63"/>
                </a:lnTo>
                <a:lnTo>
                  <a:pt x="211" y="72"/>
                </a:lnTo>
                <a:lnTo>
                  <a:pt x="183" y="81"/>
                </a:lnTo>
                <a:lnTo>
                  <a:pt x="156" y="91"/>
                </a:lnTo>
              </a:path>
            </a:pathLst>
          </a:cu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676760" y="2905200"/>
            <a:ext cx="2379600" cy="1230120"/>
          </a:xfrm>
          <a:custGeom>
            <a:avLst/>
            <a:gdLst/>
            <a:ahLst/>
            <a:rect l="l" t="t" r="r" b="b"/>
            <a:pathLst>
              <a:path w="1499" h="775">
                <a:moveTo>
                  <a:pt x="117" y="122"/>
                </a:moveTo>
                <a:lnTo>
                  <a:pt x="114" y="127"/>
                </a:lnTo>
                <a:lnTo>
                  <a:pt x="112" y="133"/>
                </a:lnTo>
                <a:lnTo>
                  <a:pt x="109" y="139"/>
                </a:lnTo>
                <a:lnTo>
                  <a:pt x="107" y="144"/>
                </a:lnTo>
                <a:lnTo>
                  <a:pt x="104" y="150"/>
                </a:lnTo>
                <a:lnTo>
                  <a:pt x="102" y="155"/>
                </a:lnTo>
                <a:lnTo>
                  <a:pt x="98" y="161"/>
                </a:lnTo>
                <a:lnTo>
                  <a:pt x="96" y="167"/>
                </a:lnTo>
                <a:lnTo>
                  <a:pt x="93" y="173"/>
                </a:lnTo>
                <a:lnTo>
                  <a:pt x="91" y="178"/>
                </a:lnTo>
                <a:lnTo>
                  <a:pt x="89" y="184"/>
                </a:lnTo>
                <a:lnTo>
                  <a:pt x="86" y="190"/>
                </a:lnTo>
                <a:lnTo>
                  <a:pt x="84" y="196"/>
                </a:lnTo>
                <a:lnTo>
                  <a:pt x="82" y="202"/>
                </a:lnTo>
                <a:lnTo>
                  <a:pt x="78" y="208"/>
                </a:lnTo>
                <a:lnTo>
                  <a:pt x="76" y="213"/>
                </a:lnTo>
                <a:lnTo>
                  <a:pt x="92" y="200"/>
                </a:lnTo>
                <a:lnTo>
                  <a:pt x="110" y="187"/>
                </a:lnTo>
                <a:lnTo>
                  <a:pt x="128" y="175"/>
                </a:lnTo>
                <a:lnTo>
                  <a:pt x="147" y="164"/>
                </a:lnTo>
                <a:lnTo>
                  <a:pt x="167" y="152"/>
                </a:lnTo>
                <a:lnTo>
                  <a:pt x="188" y="141"/>
                </a:lnTo>
                <a:lnTo>
                  <a:pt x="210" y="131"/>
                </a:lnTo>
                <a:lnTo>
                  <a:pt x="234" y="121"/>
                </a:lnTo>
                <a:lnTo>
                  <a:pt x="257" y="112"/>
                </a:lnTo>
                <a:lnTo>
                  <a:pt x="281" y="103"/>
                </a:lnTo>
                <a:lnTo>
                  <a:pt x="306" y="95"/>
                </a:lnTo>
                <a:lnTo>
                  <a:pt x="332" y="87"/>
                </a:lnTo>
                <a:lnTo>
                  <a:pt x="358" y="80"/>
                </a:lnTo>
                <a:lnTo>
                  <a:pt x="386" y="73"/>
                </a:lnTo>
                <a:lnTo>
                  <a:pt x="413" y="67"/>
                </a:lnTo>
                <a:lnTo>
                  <a:pt x="441" y="61"/>
                </a:lnTo>
                <a:lnTo>
                  <a:pt x="469" y="57"/>
                </a:lnTo>
                <a:lnTo>
                  <a:pt x="499" y="52"/>
                </a:lnTo>
                <a:lnTo>
                  <a:pt x="527" y="49"/>
                </a:lnTo>
                <a:lnTo>
                  <a:pt x="557" y="46"/>
                </a:lnTo>
                <a:lnTo>
                  <a:pt x="587" y="42"/>
                </a:lnTo>
                <a:lnTo>
                  <a:pt x="617" y="40"/>
                </a:lnTo>
                <a:lnTo>
                  <a:pt x="647" y="39"/>
                </a:lnTo>
                <a:lnTo>
                  <a:pt x="678" y="38"/>
                </a:lnTo>
                <a:lnTo>
                  <a:pt x="709" y="38"/>
                </a:lnTo>
                <a:lnTo>
                  <a:pt x="739" y="39"/>
                </a:lnTo>
                <a:lnTo>
                  <a:pt x="770" y="40"/>
                </a:lnTo>
                <a:lnTo>
                  <a:pt x="802" y="42"/>
                </a:lnTo>
                <a:lnTo>
                  <a:pt x="832" y="45"/>
                </a:lnTo>
                <a:lnTo>
                  <a:pt x="863" y="48"/>
                </a:lnTo>
                <a:lnTo>
                  <a:pt x="893" y="51"/>
                </a:lnTo>
                <a:lnTo>
                  <a:pt x="924" y="56"/>
                </a:lnTo>
                <a:lnTo>
                  <a:pt x="955" y="61"/>
                </a:lnTo>
                <a:lnTo>
                  <a:pt x="984" y="66"/>
                </a:lnTo>
                <a:lnTo>
                  <a:pt x="1013" y="73"/>
                </a:lnTo>
                <a:lnTo>
                  <a:pt x="1040" y="80"/>
                </a:lnTo>
                <a:lnTo>
                  <a:pt x="1068" y="87"/>
                </a:lnTo>
                <a:lnTo>
                  <a:pt x="1094" y="96"/>
                </a:lnTo>
                <a:lnTo>
                  <a:pt x="1119" y="104"/>
                </a:lnTo>
                <a:lnTo>
                  <a:pt x="1144" y="113"/>
                </a:lnTo>
                <a:lnTo>
                  <a:pt x="1168" y="122"/>
                </a:lnTo>
                <a:lnTo>
                  <a:pt x="1190" y="132"/>
                </a:lnTo>
                <a:lnTo>
                  <a:pt x="1212" y="143"/>
                </a:lnTo>
                <a:lnTo>
                  <a:pt x="1233" y="153"/>
                </a:lnTo>
                <a:lnTo>
                  <a:pt x="1252" y="164"/>
                </a:lnTo>
                <a:lnTo>
                  <a:pt x="1271" y="176"/>
                </a:lnTo>
                <a:lnTo>
                  <a:pt x="1289" y="188"/>
                </a:lnTo>
                <a:lnTo>
                  <a:pt x="1306" y="200"/>
                </a:lnTo>
                <a:lnTo>
                  <a:pt x="1322" y="213"/>
                </a:lnTo>
                <a:lnTo>
                  <a:pt x="1337" y="226"/>
                </a:lnTo>
                <a:lnTo>
                  <a:pt x="1350" y="239"/>
                </a:lnTo>
                <a:lnTo>
                  <a:pt x="1362" y="252"/>
                </a:lnTo>
                <a:lnTo>
                  <a:pt x="1374" y="266"/>
                </a:lnTo>
                <a:lnTo>
                  <a:pt x="1383" y="280"/>
                </a:lnTo>
                <a:lnTo>
                  <a:pt x="1392" y="294"/>
                </a:lnTo>
                <a:lnTo>
                  <a:pt x="1400" y="308"/>
                </a:lnTo>
                <a:lnTo>
                  <a:pt x="1407" y="323"/>
                </a:lnTo>
                <a:lnTo>
                  <a:pt x="1411" y="338"/>
                </a:lnTo>
                <a:lnTo>
                  <a:pt x="1415" y="353"/>
                </a:lnTo>
                <a:lnTo>
                  <a:pt x="1417" y="368"/>
                </a:lnTo>
                <a:lnTo>
                  <a:pt x="1418" y="383"/>
                </a:lnTo>
                <a:lnTo>
                  <a:pt x="1418" y="398"/>
                </a:lnTo>
                <a:lnTo>
                  <a:pt x="1416" y="414"/>
                </a:lnTo>
                <a:lnTo>
                  <a:pt x="1413" y="429"/>
                </a:lnTo>
                <a:lnTo>
                  <a:pt x="1402" y="459"/>
                </a:lnTo>
                <a:lnTo>
                  <a:pt x="1387" y="489"/>
                </a:lnTo>
                <a:lnTo>
                  <a:pt x="1365" y="518"/>
                </a:lnTo>
                <a:lnTo>
                  <a:pt x="1340" y="545"/>
                </a:lnTo>
                <a:lnTo>
                  <a:pt x="1310" y="570"/>
                </a:lnTo>
                <a:lnTo>
                  <a:pt x="1276" y="595"/>
                </a:lnTo>
                <a:lnTo>
                  <a:pt x="1238" y="617"/>
                </a:lnTo>
                <a:lnTo>
                  <a:pt x="1195" y="639"/>
                </a:lnTo>
                <a:lnTo>
                  <a:pt x="1150" y="658"/>
                </a:lnTo>
                <a:lnTo>
                  <a:pt x="1101" y="676"/>
                </a:lnTo>
                <a:lnTo>
                  <a:pt x="1049" y="691"/>
                </a:lnTo>
                <a:lnTo>
                  <a:pt x="995" y="704"/>
                </a:lnTo>
                <a:lnTo>
                  <a:pt x="938" y="715"/>
                </a:lnTo>
                <a:lnTo>
                  <a:pt x="878" y="724"/>
                </a:lnTo>
                <a:lnTo>
                  <a:pt x="816" y="730"/>
                </a:lnTo>
                <a:lnTo>
                  <a:pt x="753" y="734"/>
                </a:lnTo>
                <a:lnTo>
                  <a:pt x="721" y="735"/>
                </a:lnTo>
                <a:lnTo>
                  <a:pt x="690" y="735"/>
                </a:lnTo>
                <a:lnTo>
                  <a:pt x="658" y="734"/>
                </a:lnTo>
                <a:lnTo>
                  <a:pt x="626" y="733"/>
                </a:lnTo>
                <a:lnTo>
                  <a:pt x="596" y="731"/>
                </a:lnTo>
                <a:lnTo>
                  <a:pt x="565" y="729"/>
                </a:lnTo>
                <a:lnTo>
                  <a:pt x="534" y="726"/>
                </a:lnTo>
                <a:lnTo>
                  <a:pt x="505" y="722"/>
                </a:lnTo>
                <a:lnTo>
                  <a:pt x="475" y="718"/>
                </a:lnTo>
                <a:lnTo>
                  <a:pt x="447" y="713"/>
                </a:lnTo>
                <a:lnTo>
                  <a:pt x="418" y="707"/>
                </a:lnTo>
                <a:lnTo>
                  <a:pt x="391" y="701"/>
                </a:lnTo>
                <a:lnTo>
                  <a:pt x="363" y="695"/>
                </a:lnTo>
                <a:lnTo>
                  <a:pt x="337" y="688"/>
                </a:lnTo>
                <a:lnTo>
                  <a:pt x="312" y="680"/>
                </a:lnTo>
                <a:lnTo>
                  <a:pt x="286" y="672"/>
                </a:lnTo>
                <a:lnTo>
                  <a:pt x="262" y="663"/>
                </a:lnTo>
                <a:lnTo>
                  <a:pt x="238" y="654"/>
                </a:lnTo>
                <a:lnTo>
                  <a:pt x="216" y="644"/>
                </a:lnTo>
                <a:lnTo>
                  <a:pt x="193" y="635"/>
                </a:lnTo>
                <a:lnTo>
                  <a:pt x="172" y="624"/>
                </a:lnTo>
                <a:lnTo>
                  <a:pt x="152" y="613"/>
                </a:lnTo>
                <a:lnTo>
                  <a:pt x="132" y="602"/>
                </a:lnTo>
                <a:lnTo>
                  <a:pt x="114" y="590"/>
                </a:lnTo>
                <a:lnTo>
                  <a:pt x="97" y="578"/>
                </a:lnTo>
                <a:lnTo>
                  <a:pt x="80" y="565"/>
                </a:lnTo>
                <a:lnTo>
                  <a:pt x="66" y="552"/>
                </a:lnTo>
                <a:lnTo>
                  <a:pt x="52" y="539"/>
                </a:lnTo>
                <a:lnTo>
                  <a:pt x="39" y="525"/>
                </a:lnTo>
                <a:lnTo>
                  <a:pt x="28" y="511"/>
                </a:lnTo>
                <a:lnTo>
                  <a:pt x="17" y="497"/>
                </a:lnTo>
                <a:lnTo>
                  <a:pt x="8" y="482"/>
                </a:lnTo>
                <a:lnTo>
                  <a:pt x="7" y="488"/>
                </a:lnTo>
                <a:lnTo>
                  <a:pt x="7" y="494"/>
                </a:lnTo>
                <a:lnTo>
                  <a:pt x="6" y="499"/>
                </a:lnTo>
                <a:lnTo>
                  <a:pt x="4" y="505"/>
                </a:lnTo>
                <a:lnTo>
                  <a:pt x="4" y="511"/>
                </a:lnTo>
                <a:lnTo>
                  <a:pt x="3" y="517"/>
                </a:lnTo>
                <a:lnTo>
                  <a:pt x="3" y="522"/>
                </a:lnTo>
                <a:lnTo>
                  <a:pt x="2" y="528"/>
                </a:lnTo>
                <a:lnTo>
                  <a:pt x="2" y="534"/>
                </a:lnTo>
                <a:lnTo>
                  <a:pt x="2" y="540"/>
                </a:lnTo>
                <a:lnTo>
                  <a:pt x="1" y="545"/>
                </a:lnTo>
                <a:lnTo>
                  <a:pt x="1" y="551"/>
                </a:lnTo>
                <a:lnTo>
                  <a:pt x="1" y="557"/>
                </a:lnTo>
                <a:lnTo>
                  <a:pt x="0" y="563"/>
                </a:lnTo>
                <a:lnTo>
                  <a:pt x="0" y="569"/>
                </a:lnTo>
                <a:lnTo>
                  <a:pt x="0" y="574"/>
                </a:lnTo>
                <a:lnTo>
                  <a:pt x="16" y="588"/>
                </a:lnTo>
                <a:lnTo>
                  <a:pt x="33" y="601"/>
                </a:lnTo>
                <a:lnTo>
                  <a:pt x="51" y="613"/>
                </a:lnTo>
                <a:lnTo>
                  <a:pt x="70" y="625"/>
                </a:lnTo>
                <a:lnTo>
                  <a:pt x="90" y="637"/>
                </a:lnTo>
                <a:lnTo>
                  <a:pt x="110" y="648"/>
                </a:lnTo>
                <a:lnTo>
                  <a:pt x="132" y="660"/>
                </a:lnTo>
                <a:lnTo>
                  <a:pt x="154" y="670"/>
                </a:lnTo>
                <a:lnTo>
                  <a:pt x="178" y="680"/>
                </a:lnTo>
                <a:lnTo>
                  <a:pt x="202" y="690"/>
                </a:lnTo>
                <a:lnTo>
                  <a:pt x="226" y="699"/>
                </a:lnTo>
                <a:lnTo>
                  <a:pt x="252" y="707"/>
                </a:lnTo>
                <a:lnTo>
                  <a:pt x="277" y="715"/>
                </a:lnTo>
                <a:lnTo>
                  <a:pt x="303" y="723"/>
                </a:lnTo>
                <a:lnTo>
                  <a:pt x="331" y="730"/>
                </a:lnTo>
                <a:lnTo>
                  <a:pt x="358" y="737"/>
                </a:lnTo>
                <a:lnTo>
                  <a:pt x="387" y="743"/>
                </a:lnTo>
                <a:lnTo>
                  <a:pt x="415" y="749"/>
                </a:lnTo>
                <a:lnTo>
                  <a:pt x="445" y="754"/>
                </a:lnTo>
                <a:lnTo>
                  <a:pt x="474" y="758"/>
                </a:lnTo>
                <a:lnTo>
                  <a:pt x="504" y="762"/>
                </a:lnTo>
                <a:lnTo>
                  <a:pt x="533" y="766"/>
                </a:lnTo>
                <a:lnTo>
                  <a:pt x="564" y="768"/>
                </a:lnTo>
                <a:lnTo>
                  <a:pt x="596" y="771"/>
                </a:lnTo>
                <a:lnTo>
                  <a:pt x="626" y="772"/>
                </a:lnTo>
                <a:lnTo>
                  <a:pt x="658" y="773"/>
                </a:lnTo>
                <a:lnTo>
                  <a:pt x="689" y="774"/>
                </a:lnTo>
                <a:lnTo>
                  <a:pt x="720" y="774"/>
                </a:lnTo>
                <a:lnTo>
                  <a:pt x="753" y="773"/>
                </a:lnTo>
                <a:lnTo>
                  <a:pt x="785" y="772"/>
                </a:lnTo>
                <a:lnTo>
                  <a:pt x="816" y="770"/>
                </a:lnTo>
                <a:lnTo>
                  <a:pt x="848" y="767"/>
                </a:lnTo>
                <a:lnTo>
                  <a:pt x="910" y="760"/>
                </a:lnTo>
                <a:lnTo>
                  <a:pt x="972" y="751"/>
                </a:lnTo>
                <a:lnTo>
                  <a:pt x="1030" y="739"/>
                </a:lnTo>
                <a:lnTo>
                  <a:pt x="1086" y="726"/>
                </a:lnTo>
                <a:lnTo>
                  <a:pt x="1139" y="710"/>
                </a:lnTo>
                <a:lnTo>
                  <a:pt x="1190" y="692"/>
                </a:lnTo>
                <a:lnTo>
                  <a:pt x="1238" y="673"/>
                </a:lnTo>
                <a:lnTo>
                  <a:pt x="1281" y="652"/>
                </a:lnTo>
                <a:lnTo>
                  <a:pt x="1322" y="630"/>
                </a:lnTo>
                <a:lnTo>
                  <a:pt x="1359" y="606"/>
                </a:lnTo>
                <a:lnTo>
                  <a:pt x="1392" y="580"/>
                </a:lnTo>
                <a:lnTo>
                  <a:pt x="1421" y="553"/>
                </a:lnTo>
                <a:lnTo>
                  <a:pt x="1446" y="525"/>
                </a:lnTo>
                <a:lnTo>
                  <a:pt x="1466" y="496"/>
                </a:lnTo>
                <a:lnTo>
                  <a:pt x="1482" y="466"/>
                </a:lnTo>
                <a:lnTo>
                  <a:pt x="1492" y="435"/>
                </a:lnTo>
                <a:lnTo>
                  <a:pt x="1495" y="420"/>
                </a:lnTo>
                <a:lnTo>
                  <a:pt x="1497" y="404"/>
                </a:lnTo>
                <a:lnTo>
                  <a:pt x="1498" y="389"/>
                </a:lnTo>
                <a:lnTo>
                  <a:pt x="1498" y="373"/>
                </a:lnTo>
                <a:lnTo>
                  <a:pt x="1496" y="358"/>
                </a:lnTo>
                <a:lnTo>
                  <a:pt x="1493" y="343"/>
                </a:lnTo>
                <a:lnTo>
                  <a:pt x="1489" y="328"/>
                </a:lnTo>
                <a:lnTo>
                  <a:pt x="1484" y="313"/>
                </a:lnTo>
                <a:lnTo>
                  <a:pt x="1477" y="298"/>
                </a:lnTo>
                <a:lnTo>
                  <a:pt x="1469" y="283"/>
                </a:lnTo>
                <a:lnTo>
                  <a:pt x="1460" y="269"/>
                </a:lnTo>
                <a:lnTo>
                  <a:pt x="1451" y="255"/>
                </a:lnTo>
                <a:lnTo>
                  <a:pt x="1439" y="241"/>
                </a:lnTo>
                <a:lnTo>
                  <a:pt x="1427" y="227"/>
                </a:lnTo>
                <a:lnTo>
                  <a:pt x="1414" y="214"/>
                </a:lnTo>
                <a:lnTo>
                  <a:pt x="1399" y="200"/>
                </a:lnTo>
                <a:lnTo>
                  <a:pt x="1384" y="187"/>
                </a:lnTo>
                <a:lnTo>
                  <a:pt x="1367" y="174"/>
                </a:lnTo>
                <a:lnTo>
                  <a:pt x="1351" y="162"/>
                </a:lnTo>
                <a:lnTo>
                  <a:pt x="1332" y="150"/>
                </a:lnTo>
                <a:lnTo>
                  <a:pt x="1313" y="139"/>
                </a:lnTo>
                <a:lnTo>
                  <a:pt x="1291" y="127"/>
                </a:lnTo>
                <a:lnTo>
                  <a:pt x="1270" y="116"/>
                </a:lnTo>
                <a:lnTo>
                  <a:pt x="1248" y="105"/>
                </a:lnTo>
                <a:lnTo>
                  <a:pt x="1225" y="95"/>
                </a:lnTo>
                <a:lnTo>
                  <a:pt x="1201" y="85"/>
                </a:lnTo>
                <a:lnTo>
                  <a:pt x="1176" y="76"/>
                </a:lnTo>
                <a:lnTo>
                  <a:pt x="1150" y="67"/>
                </a:lnTo>
                <a:lnTo>
                  <a:pt x="1124" y="59"/>
                </a:lnTo>
                <a:lnTo>
                  <a:pt x="1096" y="51"/>
                </a:lnTo>
                <a:lnTo>
                  <a:pt x="1068" y="43"/>
                </a:lnTo>
                <a:lnTo>
                  <a:pt x="1039" y="36"/>
                </a:lnTo>
                <a:lnTo>
                  <a:pt x="1010" y="30"/>
                </a:lnTo>
                <a:lnTo>
                  <a:pt x="980" y="24"/>
                </a:lnTo>
                <a:lnTo>
                  <a:pt x="949" y="19"/>
                </a:lnTo>
                <a:lnTo>
                  <a:pt x="919" y="14"/>
                </a:lnTo>
                <a:lnTo>
                  <a:pt x="888" y="10"/>
                </a:lnTo>
                <a:lnTo>
                  <a:pt x="858" y="7"/>
                </a:lnTo>
                <a:lnTo>
                  <a:pt x="827" y="5"/>
                </a:lnTo>
                <a:lnTo>
                  <a:pt x="796" y="2"/>
                </a:lnTo>
                <a:lnTo>
                  <a:pt x="765" y="1"/>
                </a:lnTo>
                <a:lnTo>
                  <a:pt x="734" y="0"/>
                </a:lnTo>
                <a:lnTo>
                  <a:pt x="702" y="0"/>
                </a:lnTo>
                <a:lnTo>
                  <a:pt x="672" y="0"/>
                </a:lnTo>
                <a:lnTo>
                  <a:pt x="641" y="1"/>
                </a:lnTo>
                <a:lnTo>
                  <a:pt x="610" y="2"/>
                </a:lnTo>
                <a:lnTo>
                  <a:pt x="580" y="4"/>
                </a:lnTo>
                <a:lnTo>
                  <a:pt x="549" y="6"/>
                </a:lnTo>
                <a:lnTo>
                  <a:pt x="519" y="9"/>
                </a:lnTo>
                <a:lnTo>
                  <a:pt x="489" y="13"/>
                </a:lnTo>
                <a:lnTo>
                  <a:pt x="460" y="17"/>
                </a:lnTo>
                <a:lnTo>
                  <a:pt x="430" y="22"/>
                </a:lnTo>
                <a:lnTo>
                  <a:pt x="400" y="28"/>
                </a:lnTo>
                <a:lnTo>
                  <a:pt x="372" y="33"/>
                </a:lnTo>
                <a:lnTo>
                  <a:pt x="344" y="40"/>
                </a:lnTo>
                <a:lnTo>
                  <a:pt x="317" y="47"/>
                </a:lnTo>
                <a:lnTo>
                  <a:pt x="290" y="54"/>
                </a:lnTo>
                <a:lnTo>
                  <a:pt x="263" y="62"/>
                </a:lnTo>
                <a:lnTo>
                  <a:pt x="237" y="71"/>
                </a:lnTo>
                <a:lnTo>
                  <a:pt x="211" y="80"/>
                </a:lnTo>
                <a:lnTo>
                  <a:pt x="187" y="90"/>
                </a:lnTo>
                <a:lnTo>
                  <a:pt x="163" y="100"/>
                </a:lnTo>
                <a:lnTo>
                  <a:pt x="140" y="110"/>
                </a:lnTo>
                <a:lnTo>
                  <a:pt x="117" y="122"/>
                </a:lnTo>
              </a:path>
            </a:pathLst>
          </a:cu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89360" y="2965320"/>
            <a:ext cx="2239920" cy="1108080"/>
          </a:xfrm>
          <a:custGeom>
            <a:avLst/>
            <a:gdLst/>
            <a:ahLst/>
            <a:rect l="l" t="t" r="r" b="b"/>
            <a:pathLst>
              <a:path w="1411" h="698">
                <a:moveTo>
                  <a:pt x="1331" y="349"/>
                </a:moveTo>
                <a:lnTo>
                  <a:pt x="1328" y="317"/>
                </a:lnTo>
                <a:lnTo>
                  <a:pt x="1318" y="286"/>
                </a:lnTo>
                <a:lnTo>
                  <a:pt x="1302" y="257"/>
                </a:lnTo>
                <a:lnTo>
                  <a:pt x="1280" y="228"/>
                </a:lnTo>
                <a:lnTo>
                  <a:pt x="1254" y="201"/>
                </a:lnTo>
                <a:lnTo>
                  <a:pt x="1221" y="175"/>
                </a:lnTo>
                <a:lnTo>
                  <a:pt x="1184" y="152"/>
                </a:lnTo>
                <a:lnTo>
                  <a:pt x="1143" y="130"/>
                </a:lnTo>
                <a:lnTo>
                  <a:pt x="1098" y="110"/>
                </a:lnTo>
                <a:lnTo>
                  <a:pt x="1049" y="92"/>
                </a:lnTo>
                <a:lnTo>
                  <a:pt x="996" y="76"/>
                </a:lnTo>
                <a:lnTo>
                  <a:pt x="940" y="63"/>
                </a:lnTo>
                <a:lnTo>
                  <a:pt x="881" y="53"/>
                </a:lnTo>
                <a:lnTo>
                  <a:pt x="820" y="45"/>
                </a:lnTo>
                <a:lnTo>
                  <a:pt x="757" y="40"/>
                </a:lnTo>
                <a:lnTo>
                  <a:pt x="691" y="39"/>
                </a:lnTo>
                <a:lnTo>
                  <a:pt x="626" y="40"/>
                </a:lnTo>
                <a:lnTo>
                  <a:pt x="562" y="45"/>
                </a:lnTo>
                <a:lnTo>
                  <a:pt x="501" y="53"/>
                </a:lnTo>
                <a:lnTo>
                  <a:pt x="442" y="63"/>
                </a:lnTo>
                <a:lnTo>
                  <a:pt x="386" y="76"/>
                </a:lnTo>
                <a:lnTo>
                  <a:pt x="333" y="92"/>
                </a:lnTo>
                <a:lnTo>
                  <a:pt x="285" y="110"/>
                </a:lnTo>
                <a:lnTo>
                  <a:pt x="239" y="130"/>
                </a:lnTo>
                <a:lnTo>
                  <a:pt x="198" y="152"/>
                </a:lnTo>
                <a:lnTo>
                  <a:pt x="161" y="175"/>
                </a:lnTo>
                <a:lnTo>
                  <a:pt x="128" y="201"/>
                </a:lnTo>
                <a:lnTo>
                  <a:pt x="102" y="228"/>
                </a:lnTo>
                <a:lnTo>
                  <a:pt x="80" y="257"/>
                </a:lnTo>
                <a:lnTo>
                  <a:pt x="64" y="286"/>
                </a:lnTo>
                <a:lnTo>
                  <a:pt x="55" y="317"/>
                </a:lnTo>
                <a:lnTo>
                  <a:pt x="51" y="349"/>
                </a:lnTo>
                <a:lnTo>
                  <a:pt x="55" y="380"/>
                </a:lnTo>
                <a:lnTo>
                  <a:pt x="64" y="411"/>
                </a:lnTo>
                <a:lnTo>
                  <a:pt x="80" y="441"/>
                </a:lnTo>
                <a:lnTo>
                  <a:pt x="102" y="469"/>
                </a:lnTo>
                <a:lnTo>
                  <a:pt x="128" y="496"/>
                </a:lnTo>
                <a:lnTo>
                  <a:pt x="161" y="522"/>
                </a:lnTo>
                <a:lnTo>
                  <a:pt x="198" y="546"/>
                </a:lnTo>
                <a:lnTo>
                  <a:pt x="239" y="568"/>
                </a:lnTo>
                <a:lnTo>
                  <a:pt x="285" y="587"/>
                </a:lnTo>
                <a:lnTo>
                  <a:pt x="333" y="605"/>
                </a:lnTo>
                <a:lnTo>
                  <a:pt x="386" y="621"/>
                </a:lnTo>
                <a:lnTo>
                  <a:pt x="442" y="634"/>
                </a:lnTo>
                <a:lnTo>
                  <a:pt x="501" y="645"/>
                </a:lnTo>
                <a:lnTo>
                  <a:pt x="562" y="652"/>
                </a:lnTo>
                <a:lnTo>
                  <a:pt x="626" y="657"/>
                </a:lnTo>
                <a:lnTo>
                  <a:pt x="691" y="659"/>
                </a:lnTo>
                <a:lnTo>
                  <a:pt x="757" y="657"/>
                </a:lnTo>
                <a:lnTo>
                  <a:pt x="820" y="652"/>
                </a:lnTo>
                <a:lnTo>
                  <a:pt x="881" y="645"/>
                </a:lnTo>
                <a:lnTo>
                  <a:pt x="940" y="634"/>
                </a:lnTo>
                <a:lnTo>
                  <a:pt x="996" y="621"/>
                </a:lnTo>
                <a:lnTo>
                  <a:pt x="1049" y="605"/>
                </a:lnTo>
                <a:lnTo>
                  <a:pt x="1098" y="587"/>
                </a:lnTo>
                <a:lnTo>
                  <a:pt x="1143" y="568"/>
                </a:lnTo>
                <a:lnTo>
                  <a:pt x="1184" y="546"/>
                </a:lnTo>
                <a:lnTo>
                  <a:pt x="1221" y="522"/>
                </a:lnTo>
                <a:lnTo>
                  <a:pt x="1254" y="496"/>
                </a:lnTo>
                <a:lnTo>
                  <a:pt x="1280" y="469"/>
                </a:lnTo>
                <a:lnTo>
                  <a:pt x="1302" y="441"/>
                </a:lnTo>
                <a:lnTo>
                  <a:pt x="1318" y="411"/>
                </a:lnTo>
                <a:lnTo>
                  <a:pt x="1328" y="380"/>
                </a:lnTo>
                <a:lnTo>
                  <a:pt x="1331" y="349"/>
                </a:lnTo>
                <a:lnTo>
                  <a:pt x="68" y="175"/>
                </a:lnTo>
                <a:lnTo>
                  <a:pt x="62" y="191"/>
                </a:lnTo>
                <a:lnTo>
                  <a:pt x="56" y="207"/>
                </a:lnTo>
                <a:lnTo>
                  <a:pt x="50" y="223"/>
                </a:lnTo>
                <a:lnTo>
                  <a:pt x="45" y="240"/>
                </a:lnTo>
                <a:lnTo>
                  <a:pt x="40" y="256"/>
                </a:lnTo>
                <a:lnTo>
                  <a:pt x="34" y="273"/>
                </a:lnTo>
                <a:lnTo>
                  <a:pt x="30" y="289"/>
                </a:lnTo>
                <a:lnTo>
                  <a:pt x="26" y="306"/>
                </a:lnTo>
                <a:lnTo>
                  <a:pt x="22" y="323"/>
                </a:lnTo>
                <a:lnTo>
                  <a:pt x="18" y="340"/>
                </a:lnTo>
                <a:lnTo>
                  <a:pt x="14" y="357"/>
                </a:lnTo>
                <a:lnTo>
                  <a:pt x="10" y="375"/>
                </a:lnTo>
                <a:lnTo>
                  <a:pt x="7" y="392"/>
                </a:lnTo>
                <a:lnTo>
                  <a:pt x="5" y="409"/>
                </a:lnTo>
                <a:lnTo>
                  <a:pt x="2" y="427"/>
                </a:lnTo>
                <a:lnTo>
                  <a:pt x="0" y="444"/>
                </a:lnTo>
                <a:lnTo>
                  <a:pt x="9" y="459"/>
                </a:lnTo>
                <a:lnTo>
                  <a:pt x="20" y="473"/>
                </a:lnTo>
                <a:lnTo>
                  <a:pt x="31" y="487"/>
                </a:lnTo>
                <a:lnTo>
                  <a:pt x="44" y="501"/>
                </a:lnTo>
                <a:lnTo>
                  <a:pt x="58" y="514"/>
                </a:lnTo>
                <a:lnTo>
                  <a:pt x="72" y="527"/>
                </a:lnTo>
                <a:lnTo>
                  <a:pt x="89" y="540"/>
                </a:lnTo>
                <a:lnTo>
                  <a:pt x="106" y="552"/>
                </a:lnTo>
                <a:lnTo>
                  <a:pt x="124" y="564"/>
                </a:lnTo>
                <a:lnTo>
                  <a:pt x="144" y="575"/>
                </a:lnTo>
                <a:lnTo>
                  <a:pt x="164" y="586"/>
                </a:lnTo>
                <a:lnTo>
                  <a:pt x="185" y="597"/>
                </a:lnTo>
                <a:lnTo>
                  <a:pt x="208" y="606"/>
                </a:lnTo>
                <a:lnTo>
                  <a:pt x="230" y="616"/>
                </a:lnTo>
                <a:lnTo>
                  <a:pt x="254" y="625"/>
                </a:lnTo>
                <a:lnTo>
                  <a:pt x="278" y="634"/>
                </a:lnTo>
                <a:lnTo>
                  <a:pt x="304" y="642"/>
                </a:lnTo>
                <a:lnTo>
                  <a:pt x="329" y="650"/>
                </a:lnTo>
                <a:lnTo>
                  <a:pt x="355" y="657"/>
                </a:lnTo>
                <a:lnTo>
                  <a:pt x="383" y="663"/>
                </a:lnTo>
                <a:lnTo>
                  <a:pt x="410" y="669"/>
                </a:lnTo>
                <a:lnTo>
                  <a:pt x="439" y="675"/>
                </a:lnTo>
                <a:lnTo>
                  <a:pt x="467" y="680"/>
                </a:lnTo>
                <a:lnTo>
                  <a:pt x="497" y="684"/>
                </a:lnTo>
                <a:lnTo>
                  <a:pt x="526" y="688"/>
                </a:lnTo>
                <a:lnTo>
                  <a:pt x="557" y="691"/>
                </a:lnTo>
                <a:lnTo>
                  <a:pt x="588" y="693"/>
                </a:lnTo>
                <a:lnTo>
                  <a:pt x="618" y="695"/>
                </a:lnTo>
                <a:lnTo>
                  <a:pt x="650" y="696"/>
                </a:lnTo>
                <a:lnTo>
                  <a:pt x="682" y="697"/>
                </a:lnTo>
                <a:lnTo>
                  <a:pt x="713" y="697"/>
                </a:lnTo>
                <a:lnTo>
                  <a:pt x="745" y="696"/>
                </a:lnTo>
                <a:lnTo>
                  <a:pt x="808" y="692"/>
                </a:lnTo>
                <a:lnTo>
                  <a:pt x="870" y="686"/>
                </a:lnTo>
                <a:lnTo>
                  <a:pt x="930" y="677"/>
                </a:lnTo>
                <a:lnTo>
                  <a:pt x="987" y="666"/>
                </a:lnTo>
                <a:lnTo>
                  <a:pt x="1041" y="653"/>
                </a:lnTo>
                <a:lnTo>
                  <a:pt x="1093" y="638"/>
                </a:lnTo>
                <a:lnTo>
                  <a:pt x="1142" y="620"/>
                </a:lnTo>
                <a:lnTo>
                  <a:pt x="1187" y="601"/>
                </a:lnTo>
                <a:lnTo>
                  <a:pt x="1230" y="579"/>
                </a:lnTo>
                <a:lnTo>
                  <a:pt x="1268" y="557"/>
                </a:lnTo>
                <a:lnTo>
                  <a:pt x="1302" y="532"/>
                </a:lnTo>
                <a:lnTo>
                  <a:pt x="1332" y="507"/>
                </a:lnTo>
                <a:lnTo>
                  <a:pt x="1357" y="480"/>
                </a:lnTo>
                <a:lnTo>
                  <a:pt x="1379" y="451"/>
                </a:lnTo>
                <a:lnTo>
                  <a:pt x="1394" y="421"/>
                </a:lnTo>
                <a:lnTo>
                  <a:pt x="1405" y="391"/>
                </a:lnTo>
                <a:lnTo>
                  <a:pt x="1408" y="376"/>
                </a:lnTo>
                <a:lnTo>
                  <a:pt x="1410" y="360"/>
                </a:lnTo>
                <a:lnTo>
                  <a:pt x="1410" y="345"/>
                </a:lnTo>
                <a:lnTo>
                  <a:pt x="1409" y="330"/>
                </a:lnTo>
                <a:lnTo>
                  <a:pt x="1407" y="315"/>
                </a:lnTo>
                <a:lnTo>
                  <a:pt x="1403" y="300"/>
                </a:lnTo>
                <a:lnTo>
                  <a:pt x="1399" y="285"/>
                </a:lnTo>
                <a:lnTo>
                  <a:pt x="1392" y="270"/>
                </a:lnTo>
                <a:lnTo>
                  <a:pt x="1384" y="256"/>
                </a:lnTo>
                <a:lnTo>
                  <a:pt x="1375" y="242"/>
                </a:lnTo>
                <a:lnTo>
                  <a:pt x="1366" y="228"/>
                </a:lnTo>
                <a:lnTo>
                  <a:pt x="1354" y="214"/>
                </a:lnTo>
                <a:lnTo>
                  <a:pt x="1342" y="201"/>
                </a:lnTo>
                <a:lnTo>
                  <a:pt x="1329" y="188"/>
                </a:lnTo>
                <a:lnTo>
                  <a:pt x="1314" y="175"/>
                </a:lnTo>
                <a:lnTo>
                  <a:pt x="1298" y="162"/>
                </a:lnTo>
                <a:lnTo>
                  <a:pt x="1281" y="150"/>
                </a:lnTo>
                <a:lnTo>
                  <a:pt x="1263" y="138"/>
                </a:lnTo>
                <a:lnTo>
                  <a:pt x="1244" y="126"/>
                </a:lnTo>
                <a:lnTo>
                  <a:pt x="1225" y="115"/>
                </a:lnTo>
                <a:lnTo>
                  <a:pt x="1204" y="105"/>
                </a:lnTo>
                <a:lnTo>
                  <a:pt x="1182" y="94"/>
                </a:lnTo>
                <a:lnTo>
                  <a:pt x="1160" y="84"/>
                </a:lnTo>
                <a:lnTo>
                  <a:pt x="1136" y="75"/>
                </a:lnTo>
                <a:lnTo>
                  <a:pt x="1111" y="66"/>
                </a:lnTo>
                <a:lnTo>
                  <a:pt x="1086" y="58"/>
                </a:lnTo>
                <a:lnTo>
                  <a:pt x="1060" y="49"/>
                </a:lnTo>
                <a:lnTo>
                  <a:pt x="1032" y="42"/>
                </a:lnTo>
                <a:lnTo>
                  <a:pt x="1005" y="35"/>
                </a:lnTo>
                <a:lnTo>
                  <a:pt x="976" y="28"/>
                </a:lnTo>
                <a:lnTo>
                  <a:pt x="947" y="23"/>
                </a:lnTo>
                <a:lnTo>
                  <a:pt x="916" y="18"/>
                </a:lnTo>
                <a:lnTo>
                  <a:pt x="885" y="13"/>
                </a:lnTo>
                <a:lnTo>
                  <a:pt x="855" y="10"/>
                </a:lnTo>
                <a:lnTo>
                  <a:pt x="824" y="7"/>
                </a:lnTo>
                <a:lnTo>
                  <a:pt x="794" y="4"/>
                </a:lnTo>
                <a:lnTo>
                  <a:pt x="762" y="2"/>
                </a:lnTo>
                <a:lnTo>
                  <a:pt x="731" y="1"/>
                </a:lnTo>
                <a:lnTo>
                  <a:pt x="701" y="0"/>
                </a:lnTo>
                <a:lnTo>
                  <a:pt x="670" y="0"/>
                </a:lnTo>
                <a:lnTo>
                  <a:pt x="639" y="1"/>
                </a:lnTo>
                <a:lnTo>
                  <a:pt x="609" y="2"/>
                </a:lnTo>
                <a:lnTo>
                  <a:pt x="579" y="4"/>
                </a:lnTo>
                <a:lnTo>
                  <a:pt x="549" y="8"/>
                </a:lnTo>
                <a:lnTo>
                  <a:pt x="519" y="11"/>
                </a:lnTo>
                <a:lnTo>
                  <a:pt x="491" y="14"/>
                </a:lnTo>
                <a:lnTo>
                  <a:pt x="461" y="19"/>
                </a:lnTo>
                <a:lnTo>
                  <a:pt x="433" y="23"/>
                </a:lnTo>
                <a:lnTo>
                  <a:pt x="405" y="29"/>
                </a:lnTo>
                <a:lnTo>
                  <a:pt x="378" y="35"/>
                </a:lnTo>
                <a:lnTo>
                  <a:pt x="350" y="42"/>
                </a:lnTo>
                <a:lnTo>
                  <a:pt x="324" y="49"/>
                </a:lnTo>
                <a:lnTo>
                  <a:pt x="298" y="57"/>
                </a:lnTo>
                <a:lnTo>
                  <a:pt x="273" y="65"/>
                </a:lnTo>
                <a:lnTo>
                  <a:pt x="249" y="74"/>
                </a:lnTo>
                <a:lnTo>
                  <a:pt x="226" y="83"/>
                </a:lnTo>
                <a:lnTo>
                  <a:pt x="202" y="93"/>
                </a:lnTo>
                <a:lnTo>
                  <a:pt x="180" y="103"/>
                </a:lnTo>
                <a:lnTo>
                  <a:pt x="159" y="114"/>
                </a:lnTo>
                <a:lnTo>
                  <a:pt x="139" y="126"/>
                </a:lnTo>
                <a:lnTo>
                  <a:pt x="120" y="137"/>
                </a:lnTo>
                <a:lnTo>
                  <a:pt x="102" y="149"/>
                </a:lnTo>
                <a:lnTo>
                  <a:pt x="84" y="162"/>
                </a:lnTo>
                <a:lnTo>
                  <a:pt x="68" y="175"/>
                </a:lnTo>
                <a:lnTo>
                  <a:pt x="1331" y="349"/>
                </a:lnTo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770360" y="3027240"/>
            <a:ext cx="2033640" cy="986040"/>
          </a:xfrm>
          <a:custGeom>
            <a:avLst/>
            <a:gdLst/>
            <a:ahLst/>
            <a:rect l="l" t="t" r="r" b="b"/>
            <a:pathLst>
              <a:path w="1281" h="621">
                <a:moveTo>
                  <a:pt x="1280" y="310"/>
                </a:moveTo>
                <a:lnTo>
                  <a:pt x="1277" y="278"/>
                </a:lnTo>
                <a:lnTo>
                  <a:pt x="1267" y="247"/>
                </a:lnTo>
                <a:lnTo>
                  <a:pt x="1251" y="218"/>
                </a:lnTo>
                <a:lnTo>
                  <a:pt x="1229" y="189"/>
                </a:lnTo>
                <a:lnTo>
                  <a:pt x="1203" y="162"/>
                </a:lnTo>
                <a:lnTo>
                  <a:pt x="1170" y="136"/>
                </a:lnTo>
                <a:lnTo>
                  <a:pt x="1133" y="113"/>
                </a:lnTo>
                <a:lnTo>
                  <a:pt x="1092" y="91"/>
                </a:lnTo>
                <a:lnTo>
                  <a:pt x="1047" y="71"/>
                </a:lnTo>
                <a:lnTo>
                  <a:pt x="998" y="53"/>
                </a:lnTo>
                <a:lnTo>
                  <a:pt x="945" y="37"/>
                </a:lnTo>
                <a:lnTo>
                  <a:pt x="889" y="24"/>
                </a:lnTo>
                <a:lnTo>
                  <a:pt x="830" y="14"/>
                </a:lnTo>
                <a:lnTo>
                  <a:pt x="769" y="6"/>
                </a:lnTo>
                <a:lnTo>
                  <a:pt x="706" y="1"/>
                </a:lnTo>
                <a:lnTo>
                  <a:pt x="640" y="0"/>
                </a:lnTo>
                <a:lnTo>
                  <a:pt x="575" y="1"/>
                </a:lnTo>
                <a:lnTo>
                  <a:pt x="511" y="6"/>
                </a:lnTo>
                <a:lnTo>
                  <a:pt x="450" y="14"/>
                </a:lnTo>
                <a:lnTo>
                  <a:pt x="391" y="24"/>
                </a:lnTo>
                <a:lnTo>
                  <a:pt x="335" y="37"/>
                </a:lnTo>
                <a:lnTo>
                  <a:pt x="282" y="53"/>
                </a:lnTo>
                <a:lnTo>
                  <a:pt x="234" y="71"/>
                </a:lnTo>
                <a:lnTo>
                  <a:pt x="188" y="91"/>
                </a:lnTo>
                <a:lnTo>
                  <a:pt x="147" y="113"/>
                </a:lnTo>
                <a:lnTo>
                  <a:pt x="110" y="136"/>
                </a:lnTo>
                <a:lnTo>
                  <a:pt x="77" y="162"/>
                </a:lnTo>
                <a:lnTo>
                  <a:pt x="51" y="189"/>
                </a:lnTo>
                <a:lnTo>
                  <a:pt x="29" y="218"/>
                </a:lnTo>
                <a:lnTo>
                  <a:pt x="13" y="247"/>
                </a:lnTo>
                <a:lnTo>
                  <a:pt x="4" y="278"/>
                </a:lnTo>
                <a:lnTo>
                  <a:pt x="0" y="310"/>
                </a:lnTo>
                <a:lnTo>
                  <a:pt x="4" y="341"/>
                </a:lnTo>
                <a:lnTo>
                  <a:pt x="13" y="372"/>
                </a:lnTo>
                <a:lnTo>
                  <a:pt x="29" y="402"/>
                </a:lnTo>
                <a:lnTo>
                  <a:pt x="51" y="430"/>
                </a:lnTo>
                <a:lnTo>
                  <a:pt x="77" y="457"/>
                </a:lnTo>
                <a:lnTo>
                  <a:pt x="110" y="483"/>
                </a:lnTo>
                <a:lnTo>
                  <a:pt x="147" y="507"/>
                </a:lnTo>
                <a:lnTo>
                  <a:pt x="188" y="529"/>
                </a:lnTo>
                <a:lnTo>
                  <a:pt x="234" y="548"/>
                </a:lnTo>
                <a:lnTo>
                  <a:pt x="282" y="566"/>
                </a:lnTo>
                <a:lnTo>
                  <a:pt x="335" y="582"/>
                </a:lnTo>
                <a:lnTo>
                  <a:pt x="391" y="595"/>
                </a:lnTo>
                <a:lnTo>
                  <a:pt x="450" y="606"/>
                </a:lnTo>
                <a:lnTo>
                  <a:pt x="511" y="613"/>
                </a:lnTo>
                <a:lnTo>
                  <a:pt x="575" y="618"/>
                </a:lnTo>
                <a:lnTo>
                  <a:pt x="640" y="620"/>
                </a:lnTo>
                <a:lnTo>
                  <a:pt x="706" y="618"/>
                </a:lnTo>
                <a:lnTo>
                  <a:pt x="769" y="613"/>
                </a:lnTo>
                <a:lnTo>
                  <a:pt x="830" y="606"/>
                </a:lnTo>
                <a:lnTo>
                  <a:pt x="889" y="595"/>
                </a:lnTo>
                <a:lnTo>
                  <a:pt x="945" y="582"/>
                </a:lnTo>
                <a:lnTo>
                  <a:pt x="998" y="566"/>
                </a:lnTo>
                <a:lnTo>
                  <a:pt x="1047" y="548"/>
                </a:lnTo>
                <a:lnTo>
                  <a:pt x="1092" y="529"/>
                </a:lnTo>
                <a:lnTo>
                  <a:pt x="1133" y="507"/>
                </a:lnTo>
                <a:lnTo>
                  <a:pt x="1170" y="483"/>
                </a:lnTo>
                <a:lnTo>
                  <a:pt x="1203" y="457"/>
                </a:lnTo>
                <a:lnTo>
                  <a:pt x="1229" y="430"/>
                </a:lnTo>
                <a:lnTo>
                  <a:pt x="1251" y="402"/>
                </a:lnTo>
                <a:lnTo>
                  <a:pt x="1267" y="372"/>
                </a:lnTo>
                <a:lnTo>
                  <a:pt x="1277" y="341"/>
                </a:lnTo>
                <a:lnTo>
                  <a:pt x="1280" y="310"/>
                </a:lnTo>
                <a:lnTo>
                  <a:pt x="1200" y="310"/>
                </a:lnTo>
                <a:lnTo>
                  <a:pt x="1197" y="282"/>
                </a:lnTo>
                <a:lnTo>
                  <a:pt x="1188" y="255"/>
                </a:lnTo>
                <a:lnTo>
                  <a:pt x="1174" y="229"/>
                </a:lnTo>
                <a:lnTo>
                  <a:pt x="1155" y="204"/>
                </a:lnTo>
                <a:lnTo>
                  <a:pt x="1132" y="181"/>
                </a:lnTo>
                <a:lnTo>
                  <a:pt x="1104" y="158"/>
                </a:lnTo>
                <a:lnTo>
                  <a:pt x="1072" y="137"/>
                </a:lnTo>
                <a:lnTo>
                  <a:pt x="1036" y="118"/>
                </a:lnTo>
                <a:lnTo>
                  <a:pt x="996" y="100"/>
                </a:lnTo>
                <a:lnTo>
                  <a:pt x="953" y="85"/>
                </a:lnTo>
                <a:lnTo>
                  <a:pt x="906" y="71"/>
                </a:lnTo>
                <a:lnTo>
                  <a:pt x="858" y="60"/>
                </a:lnTo>
                <a:lnTo>
                  <a:pt x="806" y="51"/>
                </a:lnTo>
                <a:lnTo>
                  <a:pt x="753" y="44"/>
                </a:lnTo>
                <a:lnTo>
                  <a:pt x="697" y="40"/>
                </a:lnTo>
                <a:lnTo>
                  <a:pt x="640" y="39"/>
                </a:lnTo>
                <a:lnTo>
                  <a:pt x="583" y="40"/>
                </a:lnTo>
                <a:lnTo>
                  <a:pt x="527" y="44"/>
                </a:lnTo>
                <a:lnTo>
                  <a:pt x="474" y="51"/>
                </a:lnTo>
                <a:lnTo>
                  <a:pt x="423" y="60"/>
                </a:lnTo>
                <a:lnTo>
                  <a:pt x="374" y="71"/>
                </a:lnTo>
                <a:lnTo>
                  <a:pt x="328" y="85"/>
                </a:lnTo>
                <a:lnTo>
                  <a:pt x="284" y="100"/>
                </a:lnTo>
                <a:lnTo>
                  <a:pt x="245" y="118"/>
                </a:lnTo>
                <a:lnTo>
                  <a:pt x="208" y="137"/>
                </a:lnTo>
                <a:lnTo>
                  <a:pt x="177" y="158"/>
                </a:lnTo>
                <a:lnTo>
                  <a:pt x="148" y="181"/>
                </a:lnTo>
                <a:lnTo>
                  <a:pt x="125" y="204"/>
                </a:lnTo>
                <a:lnTo>
                  <a:pt x="106" y="229"/>
                </a:lnTo>
                <a:lnTo>
                  <a:pt x="92" y="255"/>
                </a:lnTo>
                <a:lnTo>
                  <a:pt x="84" y="282"/>
                </a:lnTo>
                <a:lnTo>
                  <a:pt x="81" y="310"/>
                </a:lnTo>
                <a:lnTo>
                  <a:pt x="84" y="337"/>
                </a:lnTo>
                <a:lnTo>
                  <a:pt x="92" y="364"/>
                </a:lnTo>
                <a:lnTo>
                  <a:pt x="106" y="390"/>
                </a:lnTo>
                <a:lnTo>
                  <a:pt x="125" y="415"/>
                </a:lnTo>
                <a:lnTo>
                  <a:pt x="148" y="439"/>
                </a:lnTo>
                <a:lnTo>
                  <a:pt x="177" y="461"/>
                </a:lnTo>
                <a:lnTo>
                  <a:pt x="208" y="482"/>
                </a:lnTo>
                <a:lnTo>
                  <a:pt x="245" y="501"/>
                </a:lnTo>
                <a:lnTo>
                  <a:pt x="284" y="519"/>
                </a:lnTo>
                <a:lnTo>
                  <a:pt x="328" y="534"/>
                </a:lnTo>
                <a:lnTo>
                  <a:pt x="374" y="548"/>
                </a:lnTo>
                <a:lnTo>
                  <a:pt x="423" y="559"/>
                </a:lnTo>
                <a:lnTo>
                  <a:pt x="474" y="568"/>
                </a:lnTo>
                <a:lnTo>
                  <a:pt x="527" y="575"/>
                </a:lnTo>
                <a:lnTo>
                  <a:pt x="583" y="579"/>
                </a:lnTo>
                <a:lnTo>
                  <a:pt x="640" y="581"/>
                </a:lnTo>
                <a:lnTo>
                  <a:pt x="697" y="579"/>
                </a:lnTo>
                <a:lnTo>
                  <a:pt x="753" y="575"/>
                </a:lnTo>
                <a:lnTo>
                  <a:pt x="806" y="568"/>
                </a:lnTo>
                <a:lnTo>
                  <a:pt x="858" y="559"/>
                </a:lnTo>
                <a:lnTo>
                  <a:pt x="906" y="548"/>
                </a:lnTo>
                <a:lnTo>
                  <a:pt x="953" y="534"/>
                </a:lnTo>
                <a:lnTo>
                  <a:pt x="996" y="519"/>
                </a:lnTo>
                <a:lnTo>
                  <a:pt x="1036" y="501"/>
                </a:lnTo>
                <a:lnTo>
                  <a:pt x="1072" y="482"/>
                </a:lnTo>
                <a:lnTo>
                  <a:pt x="1104" y="461"/>
                </a:lnTo>
                <a:lnTo>
                  <a:pt x="1132" y="439"/>
                </a:lnTo>
                <a:lnTo>
                  <a:pt x="1155" y="415"/>
                </a:lnTo>
                <a:lnTo>
                  <a:pt x="1174" y="390"/>
                </a:lnTo>
                <a:lnTo>
                  <a:pt x="1188" y="364"/>
                </a:lnTo>
                <a:lnTo>
                  <a:pt x="1197" y="337"/>
                </a:lnTo>
                <a:lnTo>
                  <a:pt x="1200" y="310"/>
                </a:lnTo>
                <a:lnTo>
                  <a:pt x="1280" y="310"/>
                </a:lnTo>
              </a:path>
            </a:pathLst>
          </a:cu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98880" y="3089160"/>
            <a:ext cx="1778040" cy="862200"/>
          </a:xfrm>
          <a:custGeom>
            <a:avLst/>
            <a:gdLst/>
            <a:ahLst/>
            <a:rect l="l" t="t" r="r" b="b"/>
            <a:pathLst>
              <a:path w="1120" h="543">
                <a:moveTo>
                  <a:pt x="1119" y="271"/>
                </a:moveTo>
                <a:lnTo>
                  <a:pt x="1116" y="243"/>
                </a:lnTo>
                <a:lnTo>
                  <a:pt x="1107" y="216"/>
                </a:lnTo>
                <a:lnTo>
                  <a:pt x="1093" y="190"/>
                </a:lnTo>
                <a:lnTo>
                  <a:pt x="1074" y="165"/>
                </a:lnTo>
                <a:lnTo>
                  <a:pt x="1051" y="142"/>
                </a:lnTo>
                <a:lnTo>
                  <a:pt x="1023" y="119"/>
                </a:lnTo>
                <a:lnTo>
                  <a:pt x="991" y="98"/>
                </a:lnTo>
                <a:lnTo>
                  <a:pt x="955" y="79"/>
                </a:lnTo>
                <a:lnTo>
                  <a:pt x="915" y="61"/>
                </a:lnTo>
                <a:lnTo>
                  <a:pt x="872" y="46"/>
                </a:lnTo>
                <a:lnTo>
                  <a:pt x="825" y="32"/>
                </a:lnTo>
                <a:lnTo>
                  <a:pt x="777" y="21"/>
                </a:lnTo>
                <a:lnTo>
                  <a:pt x="725" y="12"/>
                </a:lnTo>
                <a:lnTo>
                  <a:pt x="672" y="5"/>
                </a:lnTo>
                <a:lnTo>
                  <a:pt x="616" y="1"/>
                </a:lnTo>
                <a:lnTo>
                  <a:pt x="559" y="0"/>
                </a:lnTo>
                <a:lnTo>
                  <a:pt x="502" y="1"/>
                </a:lnTo>
                <a:lnTo>
                  <a:pt x="446" y="5"/>
                </a:lnTo>
                <a:lnTo>
                  <a:pt x="393" y="12"/>
                </a:lnTo>
                <a:lnTo>
                  <a:pt x="342" y="21"/>
                </a:lnTo>
                <a:lnTo>
                  <a:pt x="293" y="32"/>
                </a:lnTo>
                <a:lnTo>
                  <a:pt x="247" y="46"/>
                </a:lnTo>
                <a:lnTo>
                  <a:pt x="203" y="61"/>
                </a:lnTo>
                <a:lnTo>
                  <a:pt x="164" y="79"/>
                </a:lnTo>
                <a:lnTo>
                  <a:pt x="127" y="98"/>
                </a:lnTo>
                <a:lnTo>
                  <a:pt x="96" y="119"/>
                </a:lnTo>
                <a:lnTo>
                  <a:pt x="67" y="142"/>
                </a:lnTo>
                <a:lnTo>
                  <a:pt x="44" y="165"/>
                </a:lnTo>
                <a:lnTo>
                  <a:pt x="25" y="190"/>
                </a:lnTo>
                <a:lnTo>
                  <a:pt x="11" y="216"/>
                </a:lnTo>
                <a:lnTo>
                  <a:pt x="3" y="243"/>
                </a:lnTo>
                <a:lnTo>
                  <a:pt x="0" y="271"/>
                </a:lnTo>
                <a:lnTo>
                  <a:pt x="3" y="298"/>
                </a:lnTo>
                <a:lnTo>
                  <a:pt x="11" y="325"/>
                </a:lnTo>
                <a:lnTo>
                  <a:pt x="25" y="351"/>
                </a:lnTo>
                <a:lnTo>
                  <a:pt x="44" y="376"/>
                </a:lnTo>
                <a:lnTo>
                  <a:pt x="67" y="400"/>
                </a:lnTo>
                <a:lnTo>
                  <a:pt x="96" y="422"/>
                </a:lnTo>
                <a:lnTo>
                  <a:pt x="127" y="443"/>
                </a:lnTo>
                <a:lnTo>
                  <a:pt x="164" y="462"/>
                </a:lnTo>
                <a:lnTo>
                  <a:pt x="203" y="480"/>
                </a:lnTo>
                <a:lnTo>
                  <a:pt x="247" y="495"/>
                </a:lnTo>
                <a:lnTo>
                  <a:pt x="293" y="509"/>
                </a:lnTo>
                <a:lnTo>
                  <a:pt x="342" y="520"/>
                </a:lnTo>
                <a:lnTo>
                  <a:pt x="393" y="529"/>
                </a:lnTo>
                <a:lnTo>
                  <a:pt x="446" y="536"/>
                </a:lnTo>
                <a:lnTo>
                  <a:pt x="502" y="540"/>
                </a:lnTo>
                <a:lnTo>
                  <a:pt x="559" y="542"/>
                </a:lnTo>
                <a:lnTo>
                  <a:pt x="616" y="540"/>
                </a:lnTo>
                <a:lnTo>
                  <a:pt x="672" y="536"/>
                </a:lnTo>
                <a:lnTo>
                  <a:pt x="725" y="529"/>
                </a:lnTo>
                <a:lnTo>
                  <a:pt x="777" y="520"/>
                </a:lnTo>
                <a:lnTo>
                  <a:pt x="825" y="509"/>
                </a:lnTo>
                <a:lnTo>
                  <a:pt x="872" y="495"/>
                </a:lnTo>
                <a:lnTo>
                  <a:pt x="915" y="480"/>
                </a:lnTo>
                <a:lnTo>
                  <a:pt x="955" y="462"/>
                </a:lnTo>
                <a:lnTo>
                  <a:pt x="991" y="443"/>
                </a:lnTo>
                <a:lnTo>
                  <a:pt x="1023" y="422"/>
                </a:lnTo>
                <a:lnTo>
                  <a:pt x="1051" y="400"/>
                </a:lnTo>
                <a:lnTo>
                  <a:pt x="1074" y="376"/>
                </a:lnTo>
                <a:lnTo>
                  <a:pt x="1093" y="351"/>
                </a:lnTo>
                <a:lnTo>
                  <a:pt x="1107" y="325"/>
                </a:lnTo>
                <a:lnTo>
                  <a:pt x="1116" y="298"/>
                </a:lnTo>
                <a:lnTo>
                  <a:pt x="1119" y="271"/>
                </a:lnTo>
                <a:lnTo>
                  <a:pt x="1039" y="271"/>
                </a:lnTo>
                <a:lnTo>
                  <a:pt x="1036" y="247"/>
                </a:lnTo>
                <a:lnTo>
                  <a:pt x="1029" y="224"/>
                </a:lnTo>
                <a:lnTo>
                  <a:pt x="1017" y="202"/>
                </a:lnTo>
                <a:lnTo>
                  <a:pt x="1001" y="181"/>
                </a:lnTo>
                <a:lnTo>
                  <a:pt x="980" y="160"/>
                </a:lnTo>
                <a:lnTo>
                  <a:pt x="956" y="141"/>
                </a:lnTo>
                <a:lnTo>
                  <a:pt x="929" y="123"/>
                </a:lnTo>
                <a:lnTo>
                  <a:pt x="898" y="106"/>
                </a:lnTo>
                <a:lnTo>
                  <a:pt x="863" y="92"/>
                </a:lnTo>
                <a:lnTo>
                  <a:pt x="827" y="78"/>
                </a:lnTo>
                <a:lnTo>
                  <a:pt x="787" y="67"/>
                </a:lnTo>
                <a:lnTo>
                  <a:pt x="745" y="57"/>
                </a:lnTo>
                <a:lnTo>
                  <a:pt x="702" y="49"/>
                </a:lnTo>
                <a:lnTo>
                  <a:pt x="655" y="43"/>
                </a:lnTo>
                <a:lnTo>
                  <a:pt x="608" y="39"/>
                </a:lnTo>
                <a:lnTo>
                  <a:pt x="559" y="38"/>
                </a:lnTo>
                <a:lnTo>
                  <a:pt x="511" y="39"/>
                </a:lnTo>
                <a:lnTo>
                  <a:pt x="463" y="43"/>
                </a:lnTo>
                <a:lnTo>
                  <a:pt x="417" y="49"/>
                </a:lnTo>
                <a:lnTo>
                  <a:pt x="373" y="57"/>
                </a:lnTo>
                <a:lnTo>
                  <a:pt x="331" y="67"/>
                </a:lnTo>
                <a:lnTo>
                  <a:pt x="291" y="78"/>
                </a:lnTo>
                <a:lnTo>
                  <a:pt x="255" y="92"/>
                </a:lnTo>
                <a:lnTo>
                  <a:pt x="220" y="106"/>
                </a:lnTo>
                <a:lnTo>
                  <a:pt x="190" y="123"/>
                </a:lnTo>
                <a:lnTo>
                  <a:pt x="162" y="141"/>
                </a:lnTo>
                <a:lnTo>
                  <a:pt x="138" y="160"/>
                </a:lnTo>
                <a:lnTo>
                  <a:pt x="118" y="181"/>
                </a:lnTo>
                <a:lnTo>
                  <a:pt x="101" y="202"/>
                </a:lnTo>
                <a:lnTo>
                  <a:pt x="89" y="224"/>
                </a:lnTo>
                <a:lnTo>
                  <a:pt x="82" y="247"/>
                </a:lnTo>
                <a:lnTo>
                  <a:pt x="80" y="271"/>
                </a:lnTo>
                <a:lnTo>
                  <a:pt x="82" y="294"/>
                </a:lnTo>
                <a:lnTo>
                  <a:pt x="89" y="317"/>
                </a:lnTo>
                <a:lnTo>
                  <a:pt x="101" y="340"/>
                </a:lnTo>
                <a:lnTo>
                  <a:pt x="118" y="361"/>
                </a:lnTo>
                <a:lnTo>
                  <a:pt x="138" y="381"/>
                </a:lnTo>
                <a:lnTo>
                  <a:pt x="162" y="401"/>
                </a:lnTo>
                <a:lnTo>
                  <a:pt x="190" y="418"/>
                </a:lnTo>
                <a:lnTo>
                  <a:pt x="220" y="435"/>
                </a:lnTo>
                <a:lnTo>
                  <a:pt x="255" y="450"/>
                </a:lnTo>
                <a:lnTo>
                  <a:pt x="291" y="463"/>
                </a:lnTo>
                <a:lnTo>
                  <a:pt x="331" y="475"/>
                </a:lnTo>
                <a:lnTo>
                  <a:pt x="373" y="484"/>
                </a:lnTo>
                <a:lnTo>
                  <a:pt x="417" y="493"/>
                </a:lnTo>
                <a:lnTo>
                  <a:pt x="463" y="498"/>
                </a:lnTo>
                <a:lnTo>
                  <a:pt x="511" y="502"/>
                </a:lnTo>
                <a:lnTo>
                  <a:pt x="559" y="503"/>
                </a:lnTo>
                <a:lnTo>
                  <a:pt x="608" y="502"/>
                </a:lnTo>
                <a:lnTo>
                  <a:pt x="655" y="498"/>
                </a:lnTo>
                <a:lnTo>
                  <a:pt x="702" y="493"/>
                </a:lnTo>
                <a:lnTo>
                  <a:pt x="745" y="484"/>
                </a:lnTo>
                <a:lnTo>
                  <a:pt x="787" y="475"/>
                </a:lnTo>
                <a:lnTo>
                  <a:pt x="827" y="463"/>
                </a:lnTo>
                <a:lnTo>
                  <a:pt x="863" y="450"/>
                </a:lnTo>
                <a:lnTo>
                  <a:pt x="898" y="435"/>
                </a:lnTo>
                <a:lnTo>
                  <a:pt x="929" y="418"/>
                </a:lnTo>
                <a:lnTo>
                  <a:pt x="956" y="401"/>
                </a:lnTo>
                <a:lnTo>
                  <a:pt x="980" y="381"/>
                </a:lnTo>
                <a:lnTo>
                  <a:pt x="1001" y="361"/>
                </a:lnTo>
                <a:lnTo>
                  <a:pt x="1017" y="340"/>
                </a:lnTo>
                <a:lnTo>
                  <a:pt x="1029" y="317"/>
                </a:lnTo>
                <a:lnTo>
                  <a:pt x="1036" y="294"/>
                </a:lnTo>
                <a:lnTo>
                  <a:pt x="1039" y="271"/>
                </a:lnTo>
                <a:lnTo>
                  <a:pt x="1119" y="271"/>
                </a:lnTo>
              </a:path>
            </a:pathLst>
          </a:cu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025960" y="3149640"/>
            <a:ext cx="1524240" cy="739800"/>
          </a:xfrm>
          <a:custGeom>
            <a:avLst/>
            <a:gdLst/>
            <a:ahLst/>
            <a:rect l="l" t="t" r="r" b="b"/>
            <a:pathLst>
              <a:path w="960" h="466">
                <a:moveTo>
                  <a:pt x="959" y="233"/>
                </a:moveTo>
                <a:lnTo>
                  <a:pt x="956" y="209"/>
                </a:lnTo>
                <a:lnTo>
                  <a:pt x="949" y="186"/>
                </a:lnTo>
                <a:lnTo>
                  <a:pt x="937" y="164"/>
                </a:lnTo>
                <a:lnTo>
                  <a:pt x="921" y="143"/>
                </a:lnTo>
                <a:lnTo>
                  <a:pt x="900" y="122"/>
                </a:lnTo>
                <a:lnTo>
                  <a:pt x="876" y="103"/>
                </a:lnTo>
                <a:lnTo>
                  <a:pt x="849" y="85"/>
                </a:lnTo>
                <a:lnTo>
                  <a:pt x="818" y="68"/>
                </a:lnTo>
                <a:lnTo>
                  <a:pt x="783" y="54"/>
                </a:lnTo>
                <a:lnTo>
                  <a:pt x="747" y="40"/>
                </a:lnTo>
                <a:lnTo>
                  <a:pt x="707" y="29"/>
                </a:lnTo>
                <a:lnTo>
                  <a:pt x="665" y="19"/>
                </a:lnTo>
                <a:lnTo>
                  <a:pt x="622" y="11"/>
                </a:lnTo>
                <a:lnTo>
                  <a:pt x="575" y="5"/>
                </a:lnTo>
                <a:lnTo>
                  <a:pt x="528" y="1"/>
                </a:lnTo>
                <a:lnTo>
                  <a:pt x="479" y="0"/>
                </a:lnTo>
                <a:lnTo>
                  <a:pt x="431" y="1"/>
                </a:lnTo>
                <a:lnTo>
                  <a:pt x="383" y="5"/>
                </a:lnTo>
                <a:lnTo>
                  <a:pt x="337" y="11"/>
                </a:lnTo>
                <a:lnTo>
                  <a:pt x="293" y="19"/>
                </a:lnTo>
                <a:lnTo>
                  <a:pt x="251" y="29"/>
                </a:lnTo>
                <a:lnTo>
                  <a:pt x="211" y="40"/>
                </a:lnTo>
                <a:lnTo>
                  <a:pt x="175" y="54"/>
                </a:lnTo>
                <a:lnTo>
                  <a:pt x="140" y="68"/>
                </a:lnTo>
                <a:lnTo>
                  <a:pt x="110" y="85"/>
                </a:lnTo>
                <a:lnTo>
                  <a:pt x="82" y="103"/>
                </a:lnTo>
                <a:lnTo>
                  <a:pt x="58" y="122"/>
                </a:lnTo>
                <a:lnTo>
                  <a:pt x="38" y="143"/>
                </a:lnTo>
                <a:lnTo>
                  <a:pt x="21" y="164"/>
                </a:lnTo>
                <a:lnTo>
                  <a:pt x="9" y="186"/>
                </a:lnTo>
                <a:lnTo>
                  <a:pt x="2" y="209"/>
                </a:lnTo>
                <a:lnTo>
                  <a:pt x="0" y="233"/>
                </a:lnTo>
                <a:lnTo>
                  <a:pt x="2" y="256"/>
                </a:lnTo>
                <a:lnTo>
                  <a:pt x="9" y="279"/>
                </a:lnTo>
                <a:lnTo>
                  <a:pt x="21" y="302"/>
                </a:lnTo>
                <a:lnTo>
                  <a:pt x="38" y="323"/>
                </a:lnTo>
                <a:lnTo>
                  <a:pt x="58" y="343"/>
                </a:lnTo>
                <a:lnTo>
                  <a:pt x="82" y="363"/>
                </a:lnTo>
                <a:lnTo>
                  <a:pt x="110" y="380"/>
                </a:lnTo>
                <a:lnTo>
                  <a:pt x="140" y="397"/>
                </a:lnTo>
                <a:lnTo>
                  <a:pt x="175" y="412"/>
                </a:lnTo>
                <a:lnTo>
                  <a:pt x="211" y="425"/>
                </a:lnTo>
                <a:lnTo>
                  <a:pt x="251" y="437"/>
                </a:lnTo>
                <a:lnTo>
                  <a:pt x="293" y="446"/>
                </a:lnTo>
                <a:lnTo>
                  <a:pt x="337" y="455"/>
                </a:lnTo>
                <a:lnTo>
                  <a:pt x="383" y="460"/>
                </a:lnTo>
                <a:lnTo>
                  <a:pt x="431" y="464"/>
                </a:lnTo>
                <a:lnTo>
                  <a:pt x="479" y="465"/>
                </a:lnTo>
                <a:lnTo>
                  <a:pt x="528" y="464"/>
                </a:lnTo>
                <a:lnTo>
                  <a:pt x="575" y="460"/>
                </a:lnTo>
                <a:lnTo>
                  <a:pt x="622" y="455"/>
                </a:lnTo>
                <a:lnTo>
                  <a:pt x="665" y="446"/>
                </a:lnTo>
                <a:lnTo>
                  <a:pt x="707" y="437"/>
                </a:lnTo>
                <a:lnTo>
                  <a:pt x="747" y="425"/>
                </a:lnTo>
                <a:lnTo>
                  <a:pt x="783" y="412"/>
                </a:lnTo>
                <a:lnTo>
                  <a:pt x="818" y="397"/>
                </a:lnTo>
                <a:lnTo>
                  <a:pt x="849" y="380"/>
                </a:lnTo>
                <a:lnTo>
                  <a:pt x="876" y="363"/>
                </a:lnTo>
                <a:lnTo>
                  <a:pt x="900" y="343"/>
                </a:lnTo>
                <a:lnTo>
                  <a:pt x="921" y="323"/>
                </a:lnTo>
                <a:lnTo>
                  <a:pt x="937" y="302"/>
                </a:lnTo>
                <a:lnTo>
                  <a:pt x="949" y="279"/>
                </a:lnTo>
                <a:lnTo>
                  <a:pt x="956" y="256"/>
                </a:lnTo>
                <a:lnTo>
                  <a:pt x="959" y="233"/>
                </a:lnTo>
                <a:lnTo>
                  <a:pt x="878" y="233"/>
                </a:lnTo>
                <a:lnTo>
                  <a:pt x="876" y="213"/>
                </a:lnTo>
                <a:lnTo>
                  <a:pt x="870" y="194"/>
                </a:lnTo>
                <a:lnTo>
                  <a:pt x="860" y="175"/>
                </a:lnTo>
                <a:lnTo>
                  <a:pt x="847" y="157"/>
                </a:lnTo>
                <a:lnTo>
                  <a:pt x="830" y="141"/>
                </a:lnTo>
                <a:lnTo>
                  <a:pt x="810" y="125"/>
                </a:lnTo>
                <a:lnTo>
                  <a:pt x="786" y="110"/>
                </a:lnTo>
                <a:lnTo>
                  <a:pt x="761" y="96"/>
                </a:lnTo>
                <a:lnTo>
                  <a:pt x="733" y="84"/>
                </a:lnTo>
                <a:lnTo>
                  <a:pt x="702" y="73"/>
                </a:lnTo>
                <a:lnTo>
                  <a:pt x="669" y="63"/>
                </a:lnTo>
                <a:lnTo>
                  <a:pt x="634" y="55"/>
                </a:lnTo>
                <a:lnTo>
                  <a:pt x="597" y="48"/>
                </a:lnTo>
                <a:lnTo>
                  <a:pt x="559" y="43"/>
                </a:lnTo>
                <a:lnTo>
                  <a:pt x="520" y="40"/>
                </a:lnTo>
                <a:lnTo>
                  <a:pt x="479" y="39"/>
                </a:lnTo>
                <a:lnTo>
                  <a:pt x="438" y="40"/>
                </a:lnTo>
                <a:lnTo>
                  <a:pt x="399" y="43"/>
                </a:lnTo>
                <a:lnTo>
                  <a:pt x="361" y="48"/>
                </a:lnTo>
                <a:lnTo>
                  <a:pt x="324" y="55"/>
                </a:lnTo>
                <a:lnTo>
                  <a:pt x="289" y="63"/>
                </a:lnTo>
                <a:lnTo>
                  <a:pt x="256" y="73"/>
                </a:lnTo>
                <a:lnTo>
                  <a:pt x="226" y="84"/>
                </a:lnTo>
                <a:lnTo>
                  <a:pt x="197" y="96"/>
                </a:lnTo>
                <a:lnTo>
                  <a:pt x="172" y="110"/>
                </a:lnTo>
                <a:lnTo>
                  <a:pt x="149" y="125"/>
                </a:lnTo>
                <a:lnTo>
                  <a:pt x="129" y="141"/>
                </a:lnTo>
                <a:lnTo>
                  <a:pt x="112" y="157"/>
                </a:lnTo>
                <a:lnTo>
                  <a:pt x="98" y="175"/>
                </a:lnTo>
                <a:lnTo>
                  <a:pt x="89" y="194"/>
                </a:lnTo>
                <a:lnTo>
                  <a:pt x="82" y="213"/>
                </a:lnTo>
                <a:lnTo>
                  <a:pt x="80" y="233"/>
                </a:lnTo>
                <a:lnTo>
                  <a:pt x="82" y="253"/>
                </a:lnTo>
                <a:lnTo>
                  <a:pt x="89" y="272"/>
                </a:lnTo>
                <a:lnTo>
                  <a:pt x="98" y="290"/>
                </a:lnTo>
                <a:lnTo>
                  <a:pt x="112" y="308"/>
                </a:lnTo>
                <a:lnTo>
                  <a:pt x="129" y="325"/>
                </a:lnTo>
                <a:lnTo>
                  <a:pt x="149" y="341"/>
                </a:lnTo>
                <a:lnTo>
                  <a:pt x="172" y="355"/>
                </a:lnTo>
                <a:lnTo>
                  <a:pt x="197" y="369"/>
                </a:lnTo>
                <a:lnTo>
                  <a:pt x="226" y="381"/>
                </a:lnTo>
                <a:lnTo>
                  <a:pt x="256" y="393"/>
                </a:lnTo>
                <a:lnTo>
                  <a:pt x="289" y="402"/>
                </a:lnTo>
                <a:lnTo>
                  <a:pt x="324" y="411"/>
                </a:lnTo>
                <a:lnTo>
                  <a:pt x="361" y="417"/>
                </a:lnTo>
                <a:lnTo>
                  <a:pt x="399" y="422"/>
                </a:lnTo>
                <a:lnTo>
                  <a:pt x="438" y="425"/>
                </a:lnTo>
                <a:lnTo>
                  <a:pt x="479" y="426"/>
                </a:lnTo>
                <a:lnTo>
                  <a:pt x="520" y="425"/>
                </a:lnTo>
                <a:lnTo>
                  <a:pt x="559" y="422"/>
                </a:lnTo>
                <a:lnTo>
                  <a:pt x="597" y="417"/>
                </a:lnTo>
                <a:lnTo>
                  <a:pt x="634" y="411"/>
                </a:lnTo>
                <a:lnTo>
                  <a:pt x="669" y="402"/>
                </a:lnTo>
                <a:lnTo>
                  <a:pt x="702" y="393"/>
                </a:lnTo>
                <a:lnTo>
                  <a:pt x="733" y="381"/>
                </a:lnTo>
                <a:lnTo>
                  <a:pt x="761" y="369"/>
                </a:lnTo>
                <a:lnTo>
                  <a:pt x="786" y="355"/>
                </a:lnTo>
                <a:lnTo>
                  <a:pt x="810" y="341"/>
                </a:lnTo>
                <a:lnTo>
                  <a:pt x="830" y="325"/>
                </a:lnTo>
                <a:lnTo>
                  <a:pt x="847" y="308"/>
                </a:lnTo>
                <a:lnTo>
                  <a:pt x="860" y="290"/>
                </a:lnTo>
                <a:lnTo>
                  <a:pt x="870" y="272"/>
                </a:lnTo>
                <a:lnTo>
                  <a:pt x="876" y="253"/>
                </a:lnTo>
                <a:lnTo>
                  <a:pt x="878" y="233"/>
                </a:lnTo>
                <a:lnTo>
                  <a:pt x="959" y="233"/>
                </a:lnTo>
              </a:path>
            </a:pathLst>
          </a:cu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153040" y="3211560"/>
            <a:ext cx="1268280" cy="615960"/>
          </a:xfrm>
          <a:custGeom>
            <a:avLst/>
            <a:gdLst/>
            <a:ahLst/>
            <a:rect l="l" t="t" r="r" b="b"/>
            <a:pathLst>
              <a:path w="799" h="388">
                <a:moveTo>
                  <a:pt x="798" y="194"/>
                </a:moveTo>
                <a:lnTo>
                  <a:pt x="796" y="174"/>
                </a:lnTo>
                <a:lnTo>
                  <a:pt x="790" y="155"/>
                </a:lnTo>
                <a:lnTo>
                  <a:pt x="780" y="136"/>
                </a:lnTo>
                <a:lnTo>
                  <a:pt x="767" y="118"/>
                </a:lnTo>
                <a:lnTo>
                  <a:pt x="750" y="102"/>
                </a:lnTo>
                <a:lnTo>
                  <a:pt x="730" y="86"/>
                </a:lnTo>
                <a:lnTo>
                  <a:pt x="706" y="71"/>
                </a:lnTo>
                <a:lnTo>
                  <a:pt x="681" y="57"/>
                </a:lnTo>
                <a:lnTo>
                  <a:pt x="653" y="45"/>
                </a:lnTo>
                <a:lnTo>
                  <a:pt x="622" y="34"/>
                </a:lnTo>
                <a:lnTo>
                  <a:pt x="589" y="24"/>
                </a:lnTo>
                <a:lnTo>
                  <a:pt x="554" y="16"/>
                </a:lnTo>
                <a:lnTo>
                  <a:pt x="517" y="9"/>
                </a:lnTo>
                <a:lnTo>
                  <a:pt x="479" y="4"/>
                </a:lnTo>
                <a:lnTo>
                  <a:pt x="440" y="1"/>
                </a:lnTo>
                <a:lnTo>
                  <a:pt x="399" y="0"/>
                </a:lnTo>
                <a:lnTo>
                  <a:pt x="358" y="1"/>
                </a:lnTo>
                <a:lnTo>
                  <a:pt x="319" y="4"/>
                </a:lnTo>
                <a:lnTo>
                  <a:pt x="281" y="9"/>
                </a:lnTo>
                <a:lnTo>
                  <a:pt x="244" y="16"/>
                </a:lnTo>
                <a:lnTo>
                  <a:pt x="209" y="24"/>
                </a:lnTo>
                <a:lnTo>
                  <a:pt x="176" y="34"/>
                </a:lnTo>
                <a:lnTo>
                  <a:pt x="146" y="45"/>
                </a:lnTo>
                <a:lnTo>
                  <a:pt x="117" y="57"/>
                </a:lnTo>
                <a:lnTo>
                  <a:pt x="92" y="71"/>
                </a:lnTo>
                <a:lnTo>
                  <a:pt x="69" y="86"/>
                </a:lnTo>
                <a:lnTo>
                  <a:pt x="49" y="102"/>
                </a:lnTo>
                <a:lnTo>
                  <a:pt x="32" y="118"/>
                </a:lnTo>
                <a:lnTo>
                  <a:pt x="18" y="136"/>
                </a:lnTo>
                <a:lnTo>
                  <a:pt x="9" y="155"/>
                </a:lnTo>
                <a:lnTo>
                  <a:pt x="2" y="174"/>
                </a:lnTo>
                <a:lnTo>
                  <a:pt x="0" y="194"/>
                </a:lnTo>
                <a:lnTo>
                  <a:pt x="2" y="214"/>
                </a:lnTo>
                <a:lnTo>
                  <a:pt x="9" y="233"/>
                </a:lnTo>
                <a:lnTo>
                  <a:pt x="18" y="251"/>
                </a:lnTo>
                <a:lnTo>
                  <a:pt x="32" y="269"/>
                </a:lnTo>
                <a:lnTo>
                  <a:pt x="49" y="286"/>
                </a:lnTo>
                <a:lnTo>
                  <a:pt x="69" y="302"/>
                </a:lnTo>
                <a:lnTo>
                  <a:pt x="92" y="316"/>
                </a:lnTo>
                <a:lnTo>
                  <a:pt x="117" y="330"/>
                </a:lnTo>
                <a:lnTo>
                  <a:pt x="146" y="342"/>
                </a:lnTo>
                <a:lnTo>
                  <a:pt x="176" y="354"/>
                </a:lnTo>
                <a:lnTo>
                  <a:pt x="209" y="363"/>
                </a:lnTo>
                <a:lnTo>
                  <a:pt x="244" y="372"/>
                </a:lnTo>
                <a:lnTo>
                  <a:pt x="281" y="378"/>
                </a:lnTo>
                <a:lnTo>
                  <a:pt x="319" y="383"/>
                </a:lnTo>
                <a:lnTo>
                  <a:pt x="358" y="386"/>
                </a:lnTo>
                <a:lnTo>
                  <a:pt x="399" y="387"/>
                </a:lnTo>
                <a:lnTo>
                  <a:pt x="440" y="386"/>
                </a:lnTo>
                <a:lnTo>
                  <a:pt x="479" y="383"/>
                </a:lnTo>
                <a:lnTo>
                  <a:pt x="517" y="378"/>
                </a:lnTo>
                <a:lnTo>
                  <a:pt x="554" y="372"/>
                </a:lnTo>
                <a:lnTo>
                  <a:pt x="589" y="363"/>
                </a:lnTo>
                <a:lnTo>
                  <a:pt x="622" y="354"/>
                </a:lnTo>
                <a:lnTo>
                  <a:pt x="653" y="342"/>
                </a:lnTo>
                <a:lnTo>
                  <a:pt x="681" y="330"/>
                </a:lnTo>
                <a:lnTo>
                  <a:pt x="706" y="316"/>
                </a:lnTo>
                <a:lnTo>
                  <a:pt x="730" y="302"/>
                </a:lnTo>
                <a:lnTo>
                  <a:pt x="750" y="286"/>
                </a:lnTo>
                <a:lnTo>
                  <a:pt x="767" y="269"/>
                </a:lnTo>
                <a:lnTo>
                  <a:pt x="780" y="251"/>
                </a:lnTo>
                <a:lnTo>
                  <a:pt x="790" y="233"/>
                </a:lnTo>
                <a:lnTo>
                  <a:pt x="796" y="214"/>
                </a:lnTo>
                <a:lnTo>
                  <a:pt x="798" y="194"/>
                </a:lnTo>
                <a:lnTo>
                  <a:pt x="719" y="194"/>
                </a:lnTo>
                <a:lnTo>
                  <a:pt x="717" y="178"/>
                </a:lnTo>
                <a:lnTo>
                  <a:pt x="713" y="162"/>
                </a:lnTo>
                <a:lnTo>
                  <a:pt x="704" y="148"/>
                </a:lnTo>
                <a:lnTo>
                  <a:pt x="694" y="133"/>
                </a:lnTo>
                <a:lnTo>
                  <a:pt x="680" y="120"/>
                </a:lnTo>
                <a:lnTo>
                  <a:pt x="664" y="107"/>
                </a:lnTo>
                <a:lnTo>
                  <a:pt x="646" y="95"/>
                </a:lnTo>
                <a:lnTo>
                  <a:pt x="625" y="84"/>
                </a:lnTo>
                <a:lnTo>
                  <a:pt x="603" y="74"/>
                </a:lnTo>
                <a:lnTo>
                  <a:pt x="578" y="65"/>
                </a:lnTo>
                <a:lnTo>
                  <a:pt x="551" y="58"/>
                </a:lnTo>
                <a:lnTo>
                  <a:pt x="524" y="51"/>
                </a:lnTo>
                <a:lnTo>
                  <a:pt x="494" y="46"/>
                </a:lnTo>
                <a:lnTo>
                  <a:pt x="464" y="42"/>
                </a:lnTo>
                <a:lnTo>
                  <a:pt x="432" y="40"/>
                </a:lnTo>
                <a:lnTo>
                  <a:pt x="399" y="39"/>
                </a:lnTo>
                <a:lnTo>
                  <a:pt x="366" y="40"/>
                </a:lnTo>
                <a:lnTo>
                  <a:pt x="335" y="42"/>
                </a:lnTo>
                <a:lnTo>
                  <a:pt x="304" y="46"/>
                </a:lnTo>
                <a:lnTo>
                  <a:pt x="275" y="51"/>
                </a:lnTo>
                <a:lnTo>
                  <a:pt x="247" y="58"/>
                </a:lnTo>
                <a:lnTo>
                  <a:pt x="221" y="65"/>
                </a:lnTo>
                <a:lnTo>
                  <a:pt x="195" y="74"/>
                </a:lnTo>
                <a:lnTo>
                  <a:pt x="173" y="84"/>
                </a:lnTo>
                <a:lnTo>
                  <a:pt x="152" y="95"/>
                </a:lnTo>
                <a:lnTo>
                  <a:pt x="134" y="107"/>
                </a:lnTo>
                <a:lnTo>
                  <a:pt x="118" y="120"/>
                </a:lnTo>
                <a:lnTo>
                  <a:pt x="105" y="133"/>
                </a:lnTo>
                <a:lnTo>
                  <a:pt x="94" y="148"/>
                </a:lnTo>
                <a:lnTo>
                  <a:pt x="86" y="162"/>
                </a:lnTo>
                <a:lnTo>
                  <a:pt x="81" y="178"/>
                </a:lnTo>
                <a:lnTo>
                  <a:pt x="79" y="194"/>
                </a:lnTo>
                <a:lnTo>
                  <a:pt x="81" y="209"/>
                </a:lnTo>
                <a:lnTo>
                  <a:pt x="86" y="225"/>
                </a:lnTo>
                <a:lnTo>
                  <a:pt x="94" y="240"/>
                </a:lnTo>
                <a:lnTo>
                  <a:pt x="105" y="254"/>
                </a:lnTo>
                <a:lnTo>
                  <a:pt x="118" y="267"/>
                </a:lnTo>
                <a:lnTo>
                  <a:pt x="134" y="280"/>
                </a:lnTo>
                <a:lnTo>
                  <a:pt x="152" y="292"/>
                </a:lnTo>
                <a:lnTo>
                  <a:pt x="173" y="303"/>
                </a:lnTo>
                <a:lnTo>
                  <a:pt x="195" y="313"/>
                </a:lnTo>
                <a:lnTo>
                  <a:pt x="221" y="322"/>
                </a:lnTo>
                <a:lnTo>
                  <a:pt x="247" y="330"/>
                </a:lnTo>
                <a:lnTo>
                  <a:pt x="275" y="336"/>
                </a:lnTo>
                <a:lnTo>
                  <a:pt x="304" y="341"/>
                </a:lnTo>
                <a:lnTo>
                  <a:pt x="335" y="346"/>
                </a:lnTo>
                <a:lnTo>
                  <a:pt x="366" y="348"/>
                </a:lnTo>
                <a:lnTo>
                  <a:pt x="399" y="349"/>
                </a:lnTo>
                <a:lnTo>
                  <a:pt x="432" y="348"/>
                </a:lnTo>
                <a:lnTo>
                  <a:pt x="464" y="346"/>
                </a:lnTo>
                <a:lnTo>
                  <a:pt x="494" y="341"/>
                </a:lnTo>
                <a:lnTo>
                  <a:pt x="524" y="336"/>
                </a:lnTo>
                <a:lnTo>
                  <a:pt x="551" y="330"/>
                </a:lnTo>
                <a:lnTo>
                  <a:pt x="578" y="322"/>
                </a:lnTo>
                <a:lnTo>
                  <a:pt x="603" y="313"/>
                </a:lnTo>
                <a:lnTo>
                  <a:pt x="625" y="303"/>
                </a:lnTo>
                <a:lnTo>
                  <a:pt x="646" y="292"/>
                </a:lnTo>
                <a:lnTo>
                  <a:pt x="664" y="280"/>
                </a:lnTo>
                <a:lnTo>
                  <a:pt x="680" y="267"/>
                </a:lnTo>
                <a:lnTo>
                  <a:pt x="694" y="254"/>
                </a:lnTo>
                <a:lnTo>
                  <a:pt x="704" y="240"/>
                </a:lnTo>
                <a:lnTo>
                  <a:pt x="713" y="225"/>
                </a:lnTo>
                <a:lnTo>
                  <a:pt x="717" y="209"/>
                </a:lnTo>
                <a:lnTo>
                  <a:pt x="719" y="194"/>
                </a:lnTo>
                <a:lnTo>
                  <a:pt x="798" y="194"/>
                </a:lnTo>
              </a:path>
            </a:pathLst>
          </a:cu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278320" y="3273480"/>
            <a:ext cx="1017720" cy="493560"/>
          </a:xfrm>
          <a:custGeom>
            <a:avLst/>
            <a:gdLst/>
            <a:ahLst/>
            <a:rect l="l" t="t" r="r" b="b"/>
            <a:pathLst>
              <a:path w="641" h="311">
                <a:moveTo>
                  <a:pt x="640" y="155"/>
                </a:moveTo>
                <a:lnTo>
                  <a:pt x="638" y="139"/>
                </a:lnTo>
                <a:lnTo>
                  <a:pt x="634" y="123"/>
                </a:lnTo>
                <a:lnTo>
                  <a:pt x="625" y="109"/>
                </a:lnTo>
                <a:lnTo>
                  <a:pt x="615" y="94"/>
                </a:lnTo>
                <a:lnTo>
                  <a:pt x="601" y="81"/>
                </a:lnTo>
                <a:lnTo>
                  <a:pt x="585" y="68"/>
                </a:lnTo>
                <a:lnTo>
                  <a:pt x="567" y="56"/>
                </a:lnTo>
                <a:lnTo>
                  <a:pt x="546" y="45"/>
                </a:lnTo>
                <a:lnTo>
                  <a:pt x="524" y="35"/>
                </a:lnTo>
                <a:lnTo>
                  <a:pt x="499" y="26"/>
                </a:lnTo>
                <a:lnTo>
                  <a:pt x="472" y="19"/>
                </a:lnTo>
                <a:lnTo>
                  <a:pt x="445" y="12"/>
                </a:lnTo>
                <a:lnTo>
                  <a:pt x="415" y="7"/>
                </a:lnTo>
                <a:lnTo>
                  <a:pt x="385" y="3"/>
                </a:lnTo>
                <a:lnTo>
                  <a:pt x="353" y="1"/>
                </a:lnTo>
                <a:lnTo>
                  <a:pt x="320" y="0"/>
                </a:lnTo>
                <a:lnTo>
                  <a:pt x="287" y="1"/>
                </a:lnTo>
                <a:lnTo>
                  <a:pt x="256" y="3"/>
                </a:lnTo>
                <a:lnTo>
                  <a:pt x="225" y="7"/>
                </a:lnTo>
                <a:lnTo>
                  <a:pt x="196" y="12"/>
                </a:lnTo>
                <a:lnTo>
                  <a:pt x="168" y="19"/>
                </a:lnTo>
                <a:lnTo>
                  <a:pt x="142" y="26"/>
                </a:lnTo>
                <a:lnTo>
                  <a:pt x="116" y="35"/>
                </a:lnTo>
                <a:lnTo>
                  <a:pt x="94" y="45"/>
                </a:lnTo>
                <a:lnTo>
                  <a:pt x="73" y="56"/>
                </a:lnTo>
                <a:lnTo>
                  <a:pt x="55" y="68"/>
                </a:lnTo>
                <a:lnTo>
                  <a:pt x="39" y="81"/>
                </a:lnTo>
                <a:lnTo>
                  <a:pt x="26" y="94"/>
                </a:lnTo>
                <a:lnTo>
                  <a:pt x="15" y="109"/>
                </a:lnTo>
                <a:lnTo>
                  <a:pt x="7" y="123"/>
                </a:lnTo>
                <a:lnTo>
                  <a:pt x="2" y="139"/>
                </a:lnTo>
                <a:lnTo>
                  <a:pt x="0" y="155"/>
                </a:lnTo>
                <a:lnTo>
                  <a:pt x="2" y="170"/>
                </a:lnTo>
                <a:lnTo>
                  <a:pt x="7" y="186"/>
                </a:lnTo>
                <a:lnTo>
                  <a:pt x="15" y="201"/>
                </a:lnTo>
                <a:lnTo>
                  <a:pt x="26" y="215"/>
                </a:lnTo>
                <a:lnTo>
                  <a:pt x="39" y="228"/>
                </a:lnTo>
                <a:lnTo>
                  <a:pt x="55" y="241"/>
                </a:lnTo>
                <a:lnTo>
                  <a:pt x="73" y="253"/>
                </a:lnTo>
                <a:lnTo>
                  <a:pt x="94" y="264"/>
                </a:lnTo>
                <a:lnTo>
                  <a:pt x="116" y="274"/>
                </a:lnTo>
                <a:lnTo>
                  <a:pt x="142" y="283"/>
                </a:lnTo>
                <a:lnTo>
                  <a:pt x="168" y="291"/>
                </a:lnTo>
                <a:lnTo>
                  <a:pt x="196" y="297"/>
                </a:lnTo>
                <a:lnTo>
                  <a:pt x="225" y="302"/>
                </a:lnTo>
                <a:lnTo>
                  <a:pt x="256" y="307"/>
                </a:lnTo>
                <a:lnTo>
                  <a:pt x="287" y="309"/>
                </a:lnTo>
                <a:lnTo>
                  <a:pt x="320" y="310"/>
                </a:lnTo>
                <a:lnTo>
                  <a:pt x="353" y="309"/>
                </a:lnTo>
                <a:lnTo>
                  <a:pt x="385" y="307"/>
                </a:lnTo>
                <a:lnTo>
                  <a:pt x="415" y="302"/>
                </a:lnTo>
                <a:lnTo>
                  <a:pt x="445" y="297"/>
                </a:lnTo>
                <a:lnTo>
                  <a:pt x="472" y="291"/>
                </a:lnTo>
                <a:lnTo>
                  <a:pt x="499" y="283"/>
                </a:lnTo>
                <a:lnTo>
                  <a:pt x="524" y="274"/>
                </a:lnTo>
                <a:lnTo>
                  <a:pt x="546" y="264"/>
                </a:lnTo>
                <a:lnTo>
                  <a:pt x="567" y="253"/>
                </a:lnTo>
                <a:lnTo>
                  <a:pt x="585" y="241"/>
                </a:lnTo>
                <a:lnTo>
                  <a:pt x="601" y="228"/>
                </a:lnTo>
                <a:lnTo>
                  <a:pt x="615" y="215"/>
                </a:lnTo>
                <a:lnTo>
                  <a:pt x="625" y="201"/>
                </a:lnTo>
                <a:lnTo>
                  <a:pt x="634" y="186"/>
                </a:lnTo>
                <a:lnTo>
                  <a:pt x="638" y="170"/>
                </a:lnTo>
                <a:lnTo>
                  <a:pt x="640" y="155"/>
                </a:lnTo>
                <a:lnTo>
                  <a:pt x="560" y="155"/>
                </a:lnTo>
                <a:lnTo>
                  <a:pt x="559" y="143"/>
                </a:lnTo>
                <a:lnTo>
                  <a:pt x="555" y="131"/>
                </a:lnTo>
                <a:lnTo>
                  <a:pt x="549" y="120"/>
                </a:lnTo>
                <a:lnTo>
                  <a:pt x="541" y="110"/>
                </a:lnTo>
                <a:lnTo>
                  <a:pt x="531" y="99"/>
                </a:lnTo>
                <a:lnTo>
                  <a:pt x="519" y="90"/>
                </a:lnTo>
                <a:lnTo>
                  <a:pt x="505" y="81"/>
                </a:lnTo>
                <a:lnTo>
                  <a:pt x="489" y="73"/>
                </a:lnTo>
                <a:lnTo>
                  <a:pt x="472" y="65"/>
                </a:lnTo>
                <a:lnTo>
                  <a:pt x="454" y="58"/>
                </a:lnTo>
                <a:lnTo>
                  <a:pt x="434" y="52"/>
                </a:lnTo>
                <a:lnTo>
                  <a:pt x="413" y="48"/>
                </a:lnTo>
                <a:lnTo>
                  <a:pt x="391" y="44"/>
                </a:lnTo>
                <a:lnTo>
                  <a:pt x="369" y="41"/>
                </a:lnTo>
                <a:lnTo>
                  <a:pt x="344" y="39"/>
                </a:lnTo>
                <a:lnTo>
                  <a:pt x="320" y="39"/>
                </a:lnTo>
                <a:lnTo>
                  <a:pt x="296" y="39"/>
                </a:lnTo>
                <a:lnTo>
                  <a:pt x="272" y="41"/>
                </a:lnTo>
                <a:lnTo>
                  <a:pt x="249" y="44"/>
                </a:lnTo>
                <a:lnTo>
                  <a:pt x="227" y="48"/>
                </a:lnTo>
                <a:lnTo>
                  <a:pt x="206" y="52"/>
                </a:lnTo>
                <a:lnTo>
                  <a:pt x="186" y="58"/>
                </a:lnTo>
                <a:lnTo>
                  <a:pt x="168" y="65"/>
                </a:lnTo>
                <a:lnTo>
                  <a:pt x="151" y="73"/>
                </a:lnTo>
                <a:lnTo>
                  <a:pt x="135" y="81"/>
                </a:lnTo>
                <a:lnTo>
                  <a:pt x="122" y="90"/>
                </a:lnTo>
                <a:lnTo>
                  <a:pt x="109" y="99"/>
                </a:lnTo>
                <a:lnTo>
                  <a:pt x="100" y="110"/>
                </a:lnTo>
                <a:lnTo>
                  <a:pt x="91" y="120"/>
                </a:lnTo>
                <a:lnTo>
                  <a:pt x="86" y="131"/>
                </a:lnTo>
                <a:lnTo>
                  <a:pt x="82" y="143"/>
                </a:lnTo>
                <a:lnTo>
                  <a:pt x="81" y="155"/>
                </a:lnTo>
                <a:lnTo>
                  <a:pt x="82" y="166"/>
                </a:lnTo>
                <a:lnTo>
                  <a:pt x="86" y="178"/>
                </a:lnTo>
                <a:lnTo>
                  <a:pt x="91" y="189"/>
                </a:lnTo>
                <a:lnTo>
                  <a:pt x="100" y="200"/>
                </a:lnTo>
                <a:lnTo>
                  <a:pt x="109" y="210"/>
                </a:lnTo>
                <a:lnTo>
                  <a:pt x="122" y="220"/>
                </a:lnTo>
                <a:lnTo>
                  <a:pt x="135" y="228"/>
                </a:lnTo>
                <a:lnTo>
                  <a:pt x="151" y="236"/>
                </a:lnTo>
                <a:lnTo>
                  <a:pt x="168" y="244"/>
                </a:lnTo>
                <a:lnTo>
                  <a:pt x="186" y="251"/>
                </a:lnTo>
                <a:lnTo>
                  <a:pt x="206" y="257"/>
                </a:lnTo>
                <a:lnTo>
                  <a:pt x="227" y="262"/>
                </a:lnTo>
                <a:lnTo>
                  <a:pt x="249" y="266"/>
                </a:lnTo>
                <a:lnTo>
                  <a:pt x="272" y="268"/>
                </a:lnTo>
                <a:lnTo>
                  <a:pt x="296" y="270"/>
                </a:lnTo>
                <a:lnTo>
                  <a:pt x="320" y="271"/>
                </a:lnTo>
                <a:lnTo>
                  <a:pt x="344" y="270"/>
                </a:lnTo>
                <a:lnTo>
                  <a:pt x="369" y="268"/>
                </a:lnTo>
                <a:lnTo>
                  <a:pt x="391" y="266"/>
                </a:lnTo>
                <a:lnTo>
                  <a:pt x="413" y="262"/>
                </a:lnTo>
                <a:lnTo>
                  <a:pt x="434" y="257"/>
                </a:lnTo>
                <a:lnTo>
                  <a:pt x="454" y="251"/>
                </a:lnTo>
                <a:lnTo>
                  <a:pt x="472" y="244"/>
                </a:lnTo>
                <a:lnTo>
                  <a:pt x="489" y="236"/>
                </a:lnTo>
                <a:lnTo>
                  <a:pt x="505" y="228"/>
                </a:lnTo>
                <a:lnTo>
                  <a:pt x="519" y="220"/>
                </a:lnTo>
                <a:lnTo>
                  <a:pt x="531" y="210"/>
                </a:lnTo>
                <a:lnTo>
                  <a:pt x="541" y="200"/>
                </a:lnTo>
                <a:lnTo>
                  <a:pt x="549" y="189"/>
                </a:lnTo>
                <a:lnTo>
                  <a:pt x="555" y="178"/>
                </a:lnTo>
                <a:lnTo>
                  <a:pt x="559" y="166"/>
                </a:lnTo>
                <a:lnTo>
                  <a:pt x="560" y="155"/>
                </a:lnTo>
                <a:lnTo>
                  <a:pt x="640" y="155"/>
                </a:lnTo>
              </a:path>
            </a:pathLst>
          </a:cu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407200" y="3335400"/>
            <a:ext cx="761760" cy="369720"/>
          </a:xfrm>
          <a:custGeom>
            <a:avLst/>
            <a:gdLst/>
            <a:ahLst/>
            <a:rect l="l" t="t" r="r" b="b"/>
            <a:pathLst>
              <a:path w="480" h="233">
                <a:moveTo>
                  <a:pt x="479" y="116"/>
                </a:moveTo>
                <a:lnTo>
                  <a:pt x="478" y="104"/>
                </a:lnTo>
                <a:lnTo>
                  <a:pt x="474" y="92"/>
                </a:lnTo>
                <a:lnTo>
                  <a:pt x="468" y="81"/>
                </a:lnTo>
                <a:lnTo>
                  <a:pt x="460" y="71"/>
                </a:lnTo>
                <a:lnTo>
                  <a:pt x="450" y="60"/>
                </a:lnTo>
                <a:lnTo>
                  <a:pt x="438" y="51"/>
                </a:lnTo>
                <a:lnTo>
                  <a:pt x="424" y="42"/>
                </a:lnTo>
                <a:lnTo>
                  <a:pt x="408" y="34"/>
                </a:lnTo>
                <a:lnTo>
                  <a:pt x="391" y="26"/>
                </a:lnTo>
                <a:lnTo>
                  <a:pt x="373" y="19"/>
                </a:lnTo>
                <a:lnTo>
                  <a:pt x="353" y="13"/>
                </a:lnTo>
                <a:lnTo>
                  <a:pt x="332" y="9"/>
                </a:lnTo>
                <a:lnTo>
                  <a:pt x="310" y="5"/>
                </a:lnTo>
                <a:lnTo>
                  <a:pt x="288" y="2"/>
                </a:lnTo>
                <a:lnTo>
                  <a:pt x="263" y="0"/>
                </a:lnTo>
                <a:lnTo>
                  <a:pt x="239" y="0"/>
                </a:lnTo>
                <a:lnTo>
                  <a:pt x="215" y="0"/>
                </a:lnTo>
                <a:lnTo>
                  <a:pt x="191" y="2"/>
                </a:lnTo>
                <a:lnTo>
                  <a:pt x="168" y="5"/>
                </a:lnTo>
                <a:lnTo>
                  <a:pt x="146" y="9"/>
                </a:lnTo>
                <a:lnTo>
                  <a:pt x="125" y="13"/>
                </a:lnTo>
                <a:lnTo>
                  <a:pt x="105" y="19"/>
                </a:lnTo>
                <a:lnTo>
                  <a:pt x="87" y="26"/>
                </a:lnTo>
                <a:lnTo>
                  <a:pt x="70" y="34"/>
                </a:lnTo>
                <a:lnTo>
                  <a:pt x="54" y="42"/>
                </a:lnTo>
                <a:lnTo>
                  <a:pt x="41" y="51"/>
                </a:lnTo>
                <a:lnTo>
                  <a:pt x="28" y="60"/>
                </a:lnTo>
                <a:lnTo>
                  <a:pt x="19" y="71"/>
                </a:lnTo>
                <a:lnTo>
                  <a:pt x="10" y="81"/>
                </a:lnTo>
                <a:lnTo>
                  <a:pt x="5" y="92"/>
                </a:lnTo>
                <a:lnTo>
                  <a:pt x="1" y="104"/>
                </a:lnTo>
                <a:lnTo>
                  <a:pt x="0" y="116"/>
                </a:lnTo>
                <a:lnTo>
                  <a:pt x="1" y="127"/>
                </a:lnTo>
                <a:lnTo>
                  <a:pt x="5" y="139"/>
                </a:lnTo>
                <a:lnTo>
                  <a:pt x="10" y="150"/>
                </a:lnTo>
                <a:lnTo>
                  <a:pt x="19" y="161"/>
                </a:lnTo>
                <a:lnTo>
                  <a:pt x="28" y="171"/>
                </a:lnTo>
                <a:lnTo>
                  <a:pt x="41" y="181"/>
                </a:lnTo>
                <a:lnTo>
                  <a:pt x="54" y="189"/>
                </a:lnTo>
                <a:lnTo>
                  <a:pt x="70" y="197"/>
                </a:lnTo>
                <a:lnTo>
                  <a:pt x="87" y="205"/>
                </a:lnTo>
                <a:lnTo>
                  <a:pt x="105" y="212"/>
                </a:lnTo>
                <a:lnTo>
                  <a:pt x="125" y="218"/>
                </a:lnTo>
                <a:lnTo>
                  <a:pt x="146" y="223"/>
                </a:lnTo>
                <a:lnTo>
                  <a:pt x="168" y="227"/>
                </a:lnTo>
                <a:lnTo>
                  <a:pt x="191" y="229"/>
                </a:lnTo>
                <a:lnTo>
                  <a:pt x="215" y="231"/>
                </a:lnTo>
                <a:lnTo>
                  <a:pt x="239" y="232"/>
                </a:lnTo>
                <a:lnTo>
                  <a:pt x="263" y="231"/>
                </a:lnTo>
                <a:lnTo>
                  <a:pt x="288" y="229"/>
                </a:lnTo>
                <a:lnTo>
                  <a:pt x="310" y="227"/>
                </a:lnTo>
                <a:lnTo>
                  <a:pt x="332" y="223"/>
                </a:lnTo>
                <a:lnTo>
                  <a:pt x="353" y="218"/>
                </a:lnTo>
                <a:lnTo>
                  <a:pt x="373" y="212"/>
                </a:lnTo>
                <a:lnTo>
                  <a:pt x="391" y="205"/>
                </a:lnTo>
                <a:lnTo>
                  <a:pt x="408" y="197"/>
                </a:lnTo>
                <a:lnTo>
                  <a:pt x="424" y="189"/>
                </a:lnTo>
                <a:lnTo>
                  <a:pt x="438" y="181"/>
                </a:lnTo>
                <a:lnTo>
                  <a:pt x="450" y="171"/>
                </a:lnTo>
                <a:lnTo>
                  <a:pt x="460" y="161"/>
                </a:lnTo>
                <a:lnTo>
                  <a:pt x="468" y="150"/>
                </a:lnTo>
                <a:lnTo>
                  <a:pt x="474" y="139"/>
                </a:lnTo>
                <a:lnTo>
                  <a:pt x="478" y="127"/>
                </a:lnTo>
                <a:lnTo>
                  <a:pt x="479" y="116"/>
                </a:lnTo>
                <a:lnTo>
                  <a:pt x="399" y="116"/>
                </a:lnTo>
                <a:lnTo>
                  <a:pt x="395" y="100"/>
                </a:lnTo>
                <a:lnTo>
                  <a:pt x="386" y="85"/>
                </a:lnTo>
                <a:lnTo>
                  <a:pt x="371" y="73"/>
                </a:lnTo>
                <a:lnTo>
                  <a:pt x="352" y="61"/>
                </a:lnTo>
                <a:lnTo>
                  <a:pt x="328" y="52"/>
                </a:lnTo>
                <a:lnTo>
                  <a:pt x="301" y="45"/>
                </a:lnTo>
                <a:lnTo>
                  <a:pt x="271" y="40"/>
                </a:lnTo>
                <a:lnTo>
                  <a:pt x="239" y="38"/>
                </a:lnTo>
                <a:lnTo>
                  <a:pt x="208" y="40"/>
                </a:lnTo>
                <a:lnTo>
                  <a:pt x="177" y="45"/>
                </a:lnTo>
                <a:lnTo>
                  <a:pt x="150" y="52"/>
                </a:lnTo>
                <a:lnTo>
                  <a:pt x="126" y="61"/>
                </a:lnTo>
                <a:lnTo>
                  <a:pt x="107" y="73"/>
                </a:lnTo>
                <a:lnTo>
                  <a:pt x="92" y="85"/>
                </a:lnTo>
                <a:lnTo>
                  <a:pt x="83" y="100"/>
                </a:lnTo>
                <a:lnTo>
                  <a:pt x="80" y="116"/>
                </a:lnTo>
                <a:lnTo>
                  <a:pt x="83" y="131"/>
                </a:lnTo>
                <a:lnTo>
                  <a:pt x="92" y="146"/>
                </a:lnTo>
                <a:lnTo>
                  <a:pt x="107" y="159"/>
                </a:lnTo>
                <a:lnTo>
                  <a:pt x="126" y="170"/>
                </a:lnTo>
                <a:lnTo>
                  <a:pt x="150" y="180"/>
                </a:lnTo>
                <a:lnTo>
                  <a:pt x="177" y="187"/>
                </a:lnTo>
                <a:lnTo>
                  <a:pt x="208" y="191"/>
                </a:lnTo>
                <a:lnTo>
                  <a:pt x="239" y="193"/>
                </a:lnTo>
                <a:lnTo>
                  <a:pt x="271" y="191"/>
                </a:lnTo>
                <a:lnTo>
                  <a:pt x="301" y="187"/>
                </a:lnTo>
                <a:lnTo>
                  <a:pt x="328" y="180"/>
                </a:lnTo>
                <a:lnTo>
                  <a:pt x="352" y="170"/>
                </a:lnTo>
                <a:lnTo>
                  <a:pt x="371" y="159"/>
                </a:lnTo>
                <a:lnTo>
                  <a:pt x="386" y="146"/>
                </a:lnTo>
                <a:lnTo>
                  <a:pt x="395" y="131"/>
                </a:lnTo>
                <a:lnTo>
                  <a:pt x="399" y="116"/>
                </a:lnTo>
                <a:lnTo>
                  <a:pt x="479" y="116"/>
                </a:lnTo>
              </a:path>
            </a:pathLst>
          </a:cu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33920" y="3395520"/>
            <a:ext cx="507960" cy="247680"/>
          </a:xfrm>
          <a:custGeom>
            <a:avLst/>
            <a:gdLst/>
            <a:ahLst/>
            <a:rect l="l" t="t" r="r" b="b"/>
            <a:pathLst>
              <a:path w="320" h="156">
                <a:moveTo>
                  <a:pt x="319" y="78"/>
                </a:moveTo>
                <a:lnTo>
                  <a:pt x="315" y="62"/>
                </a:lnTo>
                <a:lnTo>
                  <a:pt x="306" y="47"/>
                </a:lnTo>
                <a:lnTo>
                  <a:pt x="291" y="35"/>
                </a:lnTo>
                <a:lnTo>
                  <a:pt x="272" y="23"/>
                </a:lnTo>
                <a:lnTo>
                  <a:pt x="248" y="14"/>
                </a:lnTo>
                <a:lnTo>
                  <a:pt x="221" y="7"/>
                </a:lnTo>
                <a:lnTo>
                  <a:pt x="191" y="2"/>
                </a:lnTo>
                <a:lnTo>
                  <a:pt x="159" y="0"/>
                </a:lnTo>
                <a:lnTo>
                  <a:pt x="128" y="2"/>
                </a:lnTo>
                <a:lnTo>
                  <a:pt x="97" y="7"/>
                </a:lnTo>
                <a:lnTo>
                  <a:pt x="70" y="14"/>
                </a:lnTo>
                <a:lnTo>
                  <a:pt x="46" y="23"/>
                </a:lnTo>
                <a:lnTo>
                  <a:pt x="27" y="35"/>
                </a:lnTo>
                <a:lnTo>
                  <a:pt x="12" y="47"/>
                </a:lnTo>
                <a:lnTo>
                  <a:pt x="3" y="62"/>
                </a:lnTo>
                <a:lnTo>
                  <a:pt x="0" y="78"/>
                </a:lnTo>
                <a:lnTo>
                  <a:pt x="3" y="93"/>
                </a:lnTo>
                <a:lnTo>
                  <a:pt x="12" y="108"/>
                </a:lnTo>
                <a:lnTo>
                  <a:pt x="27" y="121"/>
                </a:lnTo>
                <a:lnTo>
                  <a:pt x="46" y="132"/>
                </a:lnTo>
                <a:lnTo>
                  <a:pt x="70" y="142"/>
                </a:lnTo>
                <a:lnTo>
                  <a:pt x="97" y="149"/>
                </a:lnTo>
                <a:lnTo>
                  <a:pt x="128" y="153"/>
                </a:lnTo>
                <a:lnTo>
                  <a:pt x="159" y="155"/>
                </a:lnTo>
                <a:lnTo>
                  <a:pt x="191" y="153"/>
                </a:lnTo>
                <a:lnTo>
                  <a:pt x="221" y="149"/>
                </a:lnTo>
                <a:lnTo>
                  <a:pt x="248" y="142"/>
                </a:lnTo>
                <a:lnTo>
                  <a:pt x="272" y="132"/>
                </a:lnTo>
                <a:lnTo>
                  <a:pt x="291" y="121"/>
                </a:lnTo>
                <a:lnTo>
                  <a:pt x="306" y="108"/>
                </a:lnTo>
                <a:lnTo>
                  <a:pt x="315" y="93"/>
                </a:lnTo>
                <a:lnTo>
                  <a:pt x="319" y="78"/>
                </a:lnTo>
                <a:lnTo>
                  <a:pt x="238" y="78"/>
                </a:lnTo>
                <a:lnTo>
                  <a:pt x="236" y="70"/>
                </a:lnTo>
                <a:lnTo>
                  <a:pt x="232" y="63"/>
                </a:lnTo>
                <a:lnTo>
                  <a:pt x="225" y="56"/>
                </a:lnTo>
                <a:lnTo>
                  <a:pt x="215" y="51"/>
                </a:lnTo>
                <a:lnTo>
                  <a:pt x="204" y="46"/>
                </a:lnTo>
                <a:lnTo>
                  <a:pt x="190" y="42"/>
                </a:lnTo>
                <a:lnTo>
                  <a:pt x="175" y="40"/>
                </a:lnTo>
                <a:lnTo>
                  <a:pt x="159" y="39"/>
                </a:lnTo>
                <a:lnTo>
                  <a:pt x="143" y="40"/>
                </a:lnTo>
                <a:lnTo>
                  <a:pt x="129" y="42"/>
                </a:lnTo>
                <a:lnTo>
                  <a:pt x="115" y="46"/>
                </a:lnTo>
                <a:lnTo>
                  <a:pt x="103" y="51"/>
                </a:lnTo>
                <a:lnTo>
                  <a:pt x="94" y="56"/>
                </a:lnTo>
                <a:lnTo>
                  <a:pt x="86" y="63"/>
                </a:lnTo>
                <a:lnTo>
                  <a:pt x="82" y="70"/>
                </a:lnTo>
                <a:lnTo>
                  <a:pt x="80" y="78"/>
                </a:lnTo>
                <a:lnTo>
                  <a:pt x="82" y="85"/>
                </a:lnTo>
                <a:lnTo>
                  <a:pt x="86" y="92"/>
                </a:lnTo>
                <a:lnTo>
                  <a:pt x="94" y="99"/>
                </a:lnTo>
                <a:lnTo>
                  <a:pt x="103" y="105"/>
                </a:lnTo>
                <a:lnTo>
                  <a:pt x="115" y="109"/>
                </a:lnTo>
                <a:lnTo>
                  <a:pt x="129" y="113"/>
                </a:lnTo>
                <a:lnTo>
                  <a:pt x="143" y="115"/>
                </a:lnTo>
                <a:lnTo>
                  <a:pt x="159" y="116"/>
                </a:lnTo>
                <a:lnTo>
                  <a:pt x="175" y="115"/>
                </a:lnTo>
                <a:lnTo>
                  <a:pt x="190" y="113"/>
                </a:lnTo>
                <a:lnTo>
                  <a:pt x="204" y="109"/>
                </a:lnTo>
                <a:lnTo>
                  <a:pt x="215" y="105"/>
                </a:lnTo>
                <a:lnTo>
                  <a:pt x="225" y="99"/>
                </a:lnTo>
                <a:lnTo>
                  <a:pt x="232" y="92"/>
                </a:lnTo>
                <a:lnTo>
                  <a:pt x="236" y="85"/>
                </a:lnTo>
                <a:lnTo>
                  <a:pt x="238" y="78"/>
                </a:lnTo>
                <a:lnTo>
                  <a:pt x="319" y="78"/>
                </a:lnTo>
              </a:path>
            </a:pathLst>
          </a:cu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661000" y="3457440"/>
            <a:ext cx="252360" cy="123840"/>
          </a:xfrm>
          <a:custGeom>
            <a:avLst/>
            <a:gdLst/>
            <a:ahLst/>
            <a:rect l="l" t="t" r="r" b="b"/>
            <a:pathLst>
              <a:path w="159" h="78">
                <a:moveTo>
                  <a:pt x="158" y="39"/>
                </a:moveTo>
                <a:lnTo>
                  <a:pt x="156" y="31"/>
                </a:lnTo>
                <a:lnTo>
                  <a:pt x="152" y="24"/>
                </a:lnTo>
                <a:lnTo>
                  <a:pt x="145" y="17"/>
                </a:lnTo>
                <a:lnTo>
                  <a:pt x="135" y="12"/>
                </a:lnTo>
                <a:lnTo>
                  <a:pt x="124" y="7"/>
                </a:lnTo>
                <a:lnTo>
                  <a:pt x="110" y="3"/>
                </a:lnTo>
                <a:lnTo>
                  <a:pt x="95" y="1"/>
                </a:lnTo>
                <a:lnTo>
                  <a:pt x="79" y="0"/>
                </a:lnTo>
                <a:lnTo>
                  <a:pt x="63" y="1"/>
                </a:lnTo>
                <a:lnTo>
                  <a:pt x="49" y="3"/>
                </a:lnTo>
                <a:lnTo>
                  <a:pt x="35" y="7"/>
                </a:lnTo>
                <a:lnTo>
                  <a:pt x="23" y="12"/>
                </a:lnTo>
                <a:lnTo>
                  <a:pt x="14" y="17"/>
                </a:lnTo>
                <a:lnTo>
                  <a:pt x="6" y="24"/>
                </a:lnTo>
                <a:lnTo>
                  <a:pt x="2" y="31"/>
                </a:lnTo>
                <a:lnTo>
                  <a:pt x="0" y="39"/>
                </a:lnTo>
                <a:lnTo>
                  <a:pt x="2" y="46"/>
                </a:lnTo>
                <a:lnTo>
                  <a:pt x="6" y="53"/>
                </a:lnTo>
                <a:lnTo>
                  <a:pt x="14" y="60"/>
                </a:lnTo>
                <a:lnTo>
                  <a:pt x="23" y="66"/>
                </a:lnTo>
                <a:lnTo>
                  <a:pt x="35" y="70"/>
                </a:lnTo>
                <a:lnTo>
                  <a:pt x="49" y="74"/>
                </a:lnTo>
                <a:lnTo>
                  <a:pt x="63" y="76"/>
                </a:lnTo>
                <a:lnTo>
                  <a:pt x="79" y="77"/>
                </a:lnTo>
                <a:lnTo>
                  <a:pt x="95" y="76"/>
                </a:lnTo>
                <a:lnTo>
                  <a:pt x="110" y="74"/>
                </a:lnTo>
                <a:lnTo>
                  <a:pt x="124" y="70"/>
                </a:lnTo>
                <a:lnTo>
                  <a:pt x="135" y="66"/>
                </a:lnTo>
                <a:lnTo>
                  <a:pt x="145" y="60"/>
                </a:lnTo>
                <a:lnTo>
                  <a:pt x="152" y="53"/>
                </a:lnTo>
                <a:lnTo>
                  <a:pt x="156" y="46"/>
                </a:lnTo>
                <a:lnTo>
                  <a:pt x="158" y="39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 orbi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457200" y="2286000"/>
          <a:ext cx="8318520" cy="28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6000"/>
                    <a:ext cx="8318520" cy="28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 Orbi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063880" y="1378080"/>
            <a:ext cx="5092560" cy="5045040"/>
            <a:chOff x="2063880" y="1378080"/>
            <a:chExt cx="5092560" cy="5045040"/>
          </a:xfrm>
        </p:grpSpPr>
        <p:sp>
          <p:nvSpPr>
            <p:cNvPr id="527" name=""/>
            <p:cNvSpPr/>
            <p:nvPr/>
          </p:nvSpPr>
          <p:spPr>
            <a:xfrm>
              <a:off x="2063880" y="1378080"/>
              <a:ext cx="5092560" cy="504504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8" name=""/>
            <p:cNvGraphicFramePr/>
            <p:nvPr/>
          </p:nvGraphicFramePr>
          <p:xfrm>
            <a:off x="2430360" y="1609560"/>
            <a:ext cx="4372200" cy="4596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0360" y="1609560"/>
                      <a:ext cx="4372200" cy="459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685800" y="5706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D orbi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838080" y="1136520"/>
            <a:ext cx="7709040" cy="276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2" name=""/>
          <p:cNvGraphicFramePr/>
          <p:nvPr/>
        </p:nvGraphicFramePr>
        <p:xfrm>
          <a:off x="2362320" y="3946680"/>
          <a:ext cx="4755960" cy="23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3946680"/>
                    <a:ext cx="475596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requency = </a:t>
            </a:r>
            <a:r>
              <a:rPr b="0" lang="en-US" sz="4400" spc="-1" strike="noStrike">
                <a:solidFill>
                  <a:srgbClr val="fafd00"/>
                </a:solidFill>
                <a:latin typeface="Symbol"/>
                <a:ea typeface="Symbol"/>
              </a:rPr>
              <a:t>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-152640" y="1139760"/>
            <a:ext cx="9127800" cy="1374480"/>
            <a:chOff x="-152640" y="1139760"/>
            <a:chExt cx="9127800" cy="1374480"/>
          </a:xfrm>
        </p:grpSpPr>
        <p:sp>
          <p:nvSpPr>
            <p:cNvPr id="82" name=""/>
            <p:cNvSpPr/>
            <p:nvPr/>
          </p:nvSpPr>
          <p:spPr>
            <a:xfrm>
              <a:off x="-152640" y="1295640"/>
              <a:ext cx="12196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4" y="13393"/>
                  </a:moveTo>
                  <a:arcTo wR="10800" hR="10800" stAng="833471" swAng="45665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4" y="13393"/>
                  </a:moveTo>
                  <a:arcTo wR="10800" hR="10800" stAng="833471" swAng="4566529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1041480" y="1600200"/>
              <a:ext cx="176040" cy="4572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03840" y="1143000"/>
              <a:ext cx="12178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" y="8161"/>
                  </a:moveTo>
                  <a:arcTo wR="10800" hR="10800" stAng="-9951323" swAng="454237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" y="8161"/>
                  </a:moveTo>
                  <a:arcTo wR="10800" hR="10800" stAng="-9951323" swAng="4542371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42640" y="1139760"/>
              <a:ext cx="1220040" cy="121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2" y="0"/>
                  </a:moveTo>
                  <a:arcTo wR="10800" hR="10800" stAng="-5408952" swAng="45667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2" y="0"/>
                  </a:moveTo>
                  <a:arcTo wR="10800" hR="10800" stAng="-5408952" swAng="4566778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09760" y="1600200"/>
              <a:ext cx="257400" cy="557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98760" y="1292400"/>
              <a:ext cx="12186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2" y="21600"/>
                  </a:moveTo>
                  <a:arcTo wR="10800" hR="10800" stAng="5408976" swAng="45683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2" y="21600"/>
                  </a:moveTo>
                  <a:arcTo wR="10800" hR="10800" stAng="5408976" swAng="4568394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14240" y="1295640"/>
              <a:ext cx="12196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4" y="13393"/>
                  </a:moveTo>
                  <a:arcTo wR="10800" hR="10800" stAng="833471" swAng="45665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4" y="13393"/>
                  </a:moveTo>
                  <a:arcTo wR="10800" hR="10800" stAng="833471" swAng="4566529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3666960" y="1555560"/>
              <a:ext cx="257400" cy="585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71080" y="1143000"/>
              <a:ext cx="121716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" y="8161"/>
                  </a:moveTo>
                  <a:arcTo wR="10800" hR="10800" stAng="-9951323" swAng="454237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" y="8161"/>
                  </a:moveTo>
                  <a:arcTo wR="10800" hR="10800" stAng="-9951323" swAng="4542371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09520" y="1139760"/>
              <a:ext cx="1220040" cy="121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2" y="0"/>
                  </a:moveTo>
                  <a:arcTo wR="10800" hR="10800" stAng="-5408952" swAng="45667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2" y="0"/>
                  </a:moveTo>
                  <a:arcTo wR="10800" hR="10800" stAng="-5408952" swAng="4566778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52880" y="1523880"/>
              <a:ext cx="271440" cy="590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66000" y="1292400"/>
              <a:ext cx="12186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2" y="21600"/>
                  </a:moveTo>
                  <a:arcTo wR="10800" hR="10800" stAng="5408976" swAng="45683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2" y="21600"/>
                  </a:moveTo>
                  <a:arcTo wR="10800" hR="10800" stAng="5408976" swAng="4568394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05160" y="1295640"/>
              <a:ext cx="12196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4" y="13393"/>
                  </a:moveTo>
                  <a:arcTo wR="10800" hR="10800" stAng="833471" swAng="45665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4" y="13393"/>
                  </a:moveTo>
                  <a:arcTo wR="10800" hR="10800" stAng="833471" swAng="4566529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299280" y="1600200"/>
              <a:ext cx="176040" cy="4572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61640" y="1143000"/>
              <a:ext cx="12178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" y="8161"/>
                  </a:moveTo>
                  <a:arcTo wR="10800" hR="10800" stAng="-9951323" swAng="454237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" y="8161"/>
                  </a:moveTo>
                  <a:arcTo wR="10800" hR="10800" stAng="-9951323" swAng="4542371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00440" y="1139760"/>
              <a:ext cx="1220040" cy="121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2" y="0"/>
                  </a:moveTo>
                  <a:arcTo wR="10800" hR="10800" stAng="-5408952" swAng="45667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2" y="0"/>
                  </a:moveTo>
                  <a:arcTo wR="10800" hR="10800" stAng="-5408952" swAng="4566778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43800" y="1523880"/>
              <a:ext cx="295200" cy="604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756560" y="1292400"/>
              <a:ext cx="12186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2" y="21600"/>
                  </a:moveTo>
                  <a:arcTo wR="10800" hR="10800" stAng="5408976" swAng="45683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2" y="21600"/>
                  </a:moveTo>
                  <a:arcTo wR="10800" hR="10800" stAng="5408976" swAng="4568394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35800" y="2717640"/>
            <a:ext cx="8343360" cy="1396800"/>
            <a:chOff x="235800" y="2717640"/>
            <a:chExt cx="8343360" cy="1396800"/>
          </a:xfrm>
        </p:grpSpPr>
        <p:grpSp>
          <p:nvGrpSpPr>
            <p:cNvPr id="101" name=""/>
            <p:cNvGrpSpPr/>
            <p:nvPr/>
          </p:nvGrpSpPr>
          <p:grpSpPr>
            <a:xfrm>
              <a:off x="235800" y="2739960"/>
              <a:ext cx="4485240" cy="1374480"/>
              <a:chOff x="235800" y="2739960"/>
              <a:chExt cx="4485240" cy="1374480"/>
            </a:xfrm>
          </p:grpSpPr>
          <p:sp>
            <p:nvSpPr>
              <p:cNvPr id="102" name=""/>
              <p:cNvSpPr/>
              <p:nvPr/>
            </p:nvSpPr>
            <p:spPr>
              <a:xfrm>
                <a:off x="235800" y="2895840"/>
                <a:ext cx="59832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84" y="13394"/>
                    </a:moveTo>
                    <a:arcTo wR="10800" hR="10800" stAng="833882" swAng="46025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84" y="13394"/>
                    </a:moveTo>
                    <a:arcTo wR="10800" hR="10800" stAng="833882" swAng="4602590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819000" y="3200400"/>
                <a:ext cx="8748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9280" y="2743200"/>
                <a:ext cx="59832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9" y="8193"/>
                    </a:moveTo>
                    <a:arcTo wR="10800" hR="10800" stAng="-9961811" swAng="45436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9" y="8193"/>
                    </a:moveTo>
                    <a:arcTo wR="10800" hR="10800" stAng="-9961811" swAng="4543622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72280" y="2739960"/>
                <a:ext cx="597960" cy="121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43" y="0"/>
                    </a:moveTo>
                    <a:arcTo wR="10800" hR="10800" stAng="-5418189" swAng="45756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43" y="0"/>
                    </a:moveTo>
                    <a:arcTo wR="10800" hR="10800" stAng="-5418189" swAng="4575600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442880" y="3200400"/>
                <a:ext cx="127080" cy="55728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536480" y="2892600"/>
                <a:ext cx="60048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43" y="21600"/>
                    </a:moveTo>
                    <a:arcTo wR="10800" hR="10800" stAng="5418236" swAng="45609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43" y="21600"/>
                    </a:moveTo>
                    <a:arcTo wR="10800" hR="10800" stAng="5418236" swAng="4560916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547640" y="2895840"/>
                <a:ext cx="59760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84" y="13394"/>
                    </a:moveTo>
                    <a:arcTo wR="10800" hR="10800" stAng="833882" swAng="46025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84" y="13394"/>
                    </a:moveTo>
                    <a:arcTo wR="10800" hR="10800" stAng="833882" swAng="4602590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2111400" y="3155760"/>
                <a:ext cx="127080" cy="5857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08960" y="2743200"/>
                <a:ext cx="59832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9" y="8193"/>
                    </a:moveTo>
                    <a:arcTo wR="10800" hR="10800" stAng="-9961811" swAng="45436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9" y="8193"/>
                    </a:moveTo>
                    <a:arcTo wR="10800" hR="10800" stAng="-9961811" swAng="4543622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176920" y="2739960"/>
                <a:ext cx="601920" cy="121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43" y="0"/>
                    </a:moveTo>
                    <a:arcTo wR="10800" hR="10800" stAng="-5418094" swAng="45756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43" y="0"/>
                    </a:moveTo>
                    <a:arcTo wR="10800" hR="10800" stAng="-5418094" swAng="4575645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743200" y="3124080"/>
                <a:ext cx="133200" cy="5907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49400" y="2892600"/>
                <a:ext cx="59688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85" y="21599"/>
                    </a:moveTo>
                    <a:arcTo wR="10800" hR="10800" stAng="5436666" swAng="45423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85" y="21599"/>
                    </a:moveTo>
                    <a:arcTo wR="10800" hR="10800" stAng="5436666" swAng="4542372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18800" y="2895840"/>
                <a:ext cx="59796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84" y="13394"/>
                    </a:moveTo>
                    <a:arcTo wR="10800" hR="10800" stAng="833882" swAng="456611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84" y="13394"/>
                    </a:moveTo>
                    <a:arcTo wR="10800" hR="10800" stAng="833882" swAng="4566118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3406680" y="3200400"/>
                <a:ext cx="8568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483720" y="2743200"/>
                <a:ext cx="59832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9" y="8193"/>
                    </a:moveTo>
                    <a:arcTo wR="10800" hR="10800" stAng="-9961811" swAng="45436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9" y="8193"/>
                    </a:moveTo>
                    <a:arcTo wR="10800" hR="10800" stAng="-9961811" swAng="4543622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456720" y="2739960"/>
                <a:ext cx="597960" cy="121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43" y="0"/>
                    </a:moveTo>
                    <a:arcTo wR="10800" hR="10800" stAng="-5418189" swAng="45756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43" y="0"/>
                    </a:moveTo>
                    <a:arcTo wR="10800" hR="10800" stAng="-5418189" swAng="4575600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016520" y="3124080"/>
                <a:ext cx="144360" cy="6048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124160" y="2892600"/>
                <a:ext cx="59688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85" y="21599"/>
                    </a:moveTo>
                    <a:arcTo wR="10800" hR="10800" stAng="5436666" swAng="45423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85" y="21599"/>
                    </a:moveTo>
                    <a:arcTo wR="10800" hR="10800" stAng="5436666" swAng="4542372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4093560" y="2717640"/>
              <a:ext cx="4485600" cy="1374480"/>
              <a:chOff x="4093560" y="2717640"/>
              <a:chExt cx="4485600" cy="1374480"/>
            </a:xfrm>
          </p:grpSpPr>
          <p:sp>
            <p:nvSpPr>
              <p:cNvPr id="121" name=""/>
              <p:cNvSpPr/>
              <p:nvPr/>
            </p:nvSpPr>
            <p:spPr>
              <a:xfrm>
                <a:off x="4093560" y="2873520"/>
                <a:ext cx="59832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84" y="13394"/>
                    </a:moveTo>
                    <a:arcTo wR="10800" hR="10800" stAng="833882" swAng="46025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84" y="13394"/>
                    </a:moveTo>
                    <a:arcTo wR="10800" hR="10800" stAng="833882" swAng="4602590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4676760" y="3178080"/>
                <a:ext cx="8748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757040" y="2720880"/>
                <a:ext cx="598320" cy="121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9" y="8193"/>
                    </a:moveTo>
                    <a:arcTo wR="10800" hR="10800" stAng="-9961811" swAng="45436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9" y="8193"/>
                    </a:moveTo>
                    <a:arcTo wR="10800" hR="10800" stAng="-9961811" swAng="4543622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30040" y="2717640"/>
                <a:ext cx="597960" cy="121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43" y="0"/>
                    </a:moveTo>
                    <a:arcTo wR="10800" hR="10800" stAng="-5418189" swAng="45756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43" y="0"/>
                    </a:moveTo>
                    <a:arcTo wR="10800" hR="10800" stAng="-5418189" swAng="4575600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00640" y="3178080"/>
                <a:ext cx="127080" cy="55728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93880" y="2870280"/>
                <a:ext cx="60120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43" y="21600"/>
                    </a:moveTo>
                    <a:arcTo wR="10800" hR="10800" stAng="5418236" swAng="45609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43" y="21600"/>
                    </a:moveTo>
                    <a:arcTo wR="10800" hR="10800" stAng="5418236" swAng="4560916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04680" y="2873520"/>
                <a:ext cx="59832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84" y="13394"/>
                    </a:moveTo>
                    <a:arcTo wR="10800" hR="10800" stAng="833882" swAng="46025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84" y="13394"/>
                    </a:moveTo>
                    <a:arcTo wR="10800" hR="10800" stAng="833882" swAng="4602590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5969160" y="3133440"/>
                <a:ext cx="126720" cy="5857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066720" y="2720880"/>
                <a:ext cx="598320" cy="121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9" y="8193"/>
                    </a:moveTo>
                    <a:arcTo wR="10800" hR="10800" stAng="-9961811" swAng="45436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9" y="8193"/>
                    </a:moveTo>
                    <a:arcTo wR="10800" hR="10800" stAng="-9961811" swAng="4543622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34680" y="2717640"/>
                <a:ext cx="601920" cy="121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43" y="0"/>
                    </a:moveTo>
                    <a:arcTo wR="10800" hR="10800" stAng="-5418094" swAng="45756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43" y="0"/>
                    </a:moveTo>
                    <a:arcTo wR="10800" hR="10800" stAng="-5418094" swAng="4575645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00960" y="3102120"/>
                <a:ext cx="133200" cy="5904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706800" y="2870280"/>
                <a:ext cx="59760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85" y="21599"/>
                    </a:moveTo>
                    <a:arcTo wR="10800" hR="10800" stAng="5436666" swAng="45423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85" y="21599"/>
                    </a:moveTo>
                    <a:arcTo wR="10800" hR="10800" stAng="5436666" swAng="4542372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676200" y="2873520"/>
                <a:ext cx="59796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84" y="13394"/>
                    </a:moveTo>
                    <a:arcTo wR="10800" hR="10800" stAng="833882" swAng="456611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84" y="13394"/>
                    </a:moveTo>
                    <a:arcTo wR="10800" hR="10800" stAng="833882" swAng="4566118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7264440" y="3178080"/>
                <a:ext cx="8568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341480" y="2720880"/>
                <a:ext cx="598320" cy="121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9" y="8193"/>
                    </a:moveTo>
                    <a:arcTo wR="10800" hR="10800" stAng="-9961811" swAng="45436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9" y="8193"/>
                    </a:moveTo>
                    <a:arcTo wR="10800" hR="10800" stAng="-9961811" swAng="4543622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314480" y="2717640"/>
                <a:ext cx="597960" cy="121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43" y="0"/>
                    </a:moveTo>
                    <a:arcTo wR="10800" hR="10800" stAng="-5418189" swAng="45756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43" y="0"/>
                    </a:moveTo>
                    <a:arcTo wR="10800" hR="10800" stAng="-5418189" swAng="4575600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873920" y="3102120"/>
                <a:ext cx="144720" cy="6048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981560" y="2870280"/>
                <a:ext cx="59760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85" y="21599"/>
                    </a:moveTo>
                    <a:arcTo wR="10800" hR="10800" stAng="5436666" swAng="45423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85" y="21599"/>
                    </a:moveTo>
                    <a:arcTo wR="10800" hR="10800" stAng="5436666" swAng="4542372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204480" y="4430880"/>
            <a:ext cx="8859600" cy="1402920"/>
            <a:chOff x="204480" y="4430880"/>
            <a:chExt cx="8859600" cy="1402920"/>
          </a:xfrm>
        </p:grpSpPr>
        <p:grpSp>
          <p:nvGrpSpPr>
            <p:cNvPr id="140" name=""/>
            <p:cNvGrpSpPr/>
            <p:nvPr/>
          </p:nvGrpSpPr>
          <p:grpSpPr>
            <a:xfrm>
              <a:off x="4465440" y="4430880"/>
              <a:ext cx="4598640" cy="1387080"/>
              <a:chOff x="4465440" y="4430880"/>
              <a:chExt cx="4598640" cy="138708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4465440" y="4443480"/>
                <a:ext cx="2464920" cy="1374480"/>
                <a:chOff x="4465440" y="4443480"/>
                <a:chExt cx="2464920" cy="13744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465440" y="4598640"/>
                  <a:ext cx="32688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273" y="13439"/>
                      </a:moveTo>
                      <a:arcTo wR="10800" hR="10800" stAng="848555" swAng="46183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273" y="13439"/>
                      </a:moveTo>
                      <a:arcTo wR="10800" hR="10800" stAng="848555" swAng="461836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4782960" y="4903920"/>
                  <a:ext cx="49320" cy="4572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829400" y="4446720"/>
                  <a:ext cx="3268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8" y="8160"/>
                      </a:moveTo>
                      <a:arcTo wR="10800" hR="10800" stAng="-9950920" swAng="45175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8" y="8160"/>
                      </a:moveTo>
                      <a:arcTo wR="10800" hR="10800" stAng="-9950920" swAng="451754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814280" y="4443480"/>
                  <a:ext cx="32760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5" y="1"/>
                      </a:moveTo>
                      <a:arcTo wR="10800" hR="10800" stAng="-5433376" swAng="457606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5" y="1"/>
                      </a:moveTo>
                      <a:arcTo wR="10800" hR="10800" stAng="-5433376" swAng="4576068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127480" y="4903920"/>
                  <a:ext cx="69840" cy="5569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180040" y="4595400"/>
                  <a:ext cx="33012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92" y="21598"/>
                      </a:moveTo>
                      <a:arcTo wR="10800" hR="10800" stAng="5466275" swAng="45109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92" y="21598"/>
                      </a:moveTo>
                      <a:arcTo wR="10800" hR="10800" stAng="5466275" swAng="4510932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186160" y="4598640"/>
                  <a:ext cx="32688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273" y="13439"/>
                      </a:moveTo>
                      <a:arcTo wR="10800" hR="10800" stAng="848555" swAng="46183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273" y="13439"/>
                      </a:moveTo>
                      <a:arcTo wR="10800" hR="10800" stAng="848555" swAng="461836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5494320" y="4858920"/>
                  <a:ext cx="69840" cy="5857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548320" y="4446720"/>
                  <a:ext cx="3304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8" y="8160"/>
                      </a:moveTo>
                      <a:arcTo wR="10800" hR="10800" stAng="-9951155" swAng="45181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8" y="8160"/>
                      </a:moveTo>
                      <a:arcTo wR="10800" hR="10800" stAng="-9951155" swAng="4518101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528880" y="4443480"/>
                  <a:ext cx="3304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6" y="0"/>
                      </a:moveTo>
                      <a:arcTo wR="10800" hR="10800" stAng="-5433054" swAng="457606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6" y="0"/>
                      </a:moveTo>
                      <a:arcTo wR="10800" hR="10800" stAng="-5433054" swAng="4576067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842080" y="4827600"/>
                  <a:ext cx="73080" cy="5904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899320" y="4595400"/>
                  <a:ext cx="32940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92" y="21598"/>
                      </a:moveTo>
                      <a:arcTo wR="10800" hR="10800" stAng="5466275" swAng="45109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92" y="21598"/>
                      </a:moveTo>
                      <a:arcTo wR="10800" hR="10800" stAng="5466275" swAng="4510932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886720" y="4598640"/>
                  <a:ext cx="32616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273" y="13439"/>
                      </a:moveTo>
                      <a:arcTo wR="10800" hR="10800" stAng="848555" swAng="46183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273" y="13439"/>
                      </a:moveTo>
                      <a:arcTo wR="10800" hR="10800" stAng="848555" swAng="461836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6205680" y="4903920"/>
                  <a:ext cx="45720" cy="4572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249960" y="4446720"/>
                  <a:ext cx="3268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8" y="8160"/>
                      </a:moveTo>
                      <a:arcTo wR="10800" hR="10800" stAng="-9950920" swAng="45175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8" y="8160"/>
                      </a:moveTo>
                      <a:arcTo wR="10800" hR="10800" stAng="-9950920" swAng="451754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235200" y="4443480"/>
                  <a:ext cx="32760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5" y="1"/>
                      </a:moveTo>
                      <a:arcTo wR="10800" hR="10800" stAng="-5433376" swAng="457606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5" y="1"/>
                      </a:moveTo>
                      <a:arcTo wR="10800" hR="10800" stAng="-5433376" swAng="4576068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540480" y="4827600"/>
                  <a:ext cx="79560" cy="6048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600960" y="4595400"/>
                  <a:ext cx="32940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92" y="21598"/>
                      </a:moveTo>
                      <a:arcTo wR="10800" hR="10800" stAng="5466275" swAng="45109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92" y="21598"/>
                      </a:moveTo>
                      <a:arcTo wR="10800" hR="10800" stAng="5466275" swAng="4510932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6599520" y="4430880"/>
                <a:ext cx="2464560" cy="1374120"/>
                <a:chOff x="6599520" y="4430880"/>
                <a:chExt cx="2464560" cy="13741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6599520" y="4586400"/>
                  <a:ext cx="32616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273" y="13439"/>
                      </a:moveTo>
                      <a:arcTo wR="10800" hR="10800" stAng="848555" swAng="46183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273" y="13439"/>
                      </a:moveTo>
                      <a:arcTo wR="10800" hR="10800" stAng="848555" swAng="461836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V="1">
                  <a:off x="6916680" y="4890960"/>
                  <a:ext cx="49320" cy="4572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962760" y="4433760"/>
                  <a:ext cx="32688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8" y="8160"/>
                      </a:moveTo>
                      <a:arcTo wR="10800" hR="10800" stAng="-9950920" swAng="45175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8" y="8160"/>
                      </a:moveTo>
                      <a:arcTo wR="10800" hR="10800" stAng="-9950920" swAng="451754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948000" y="4430880"/>
                  <a:ext cx="32760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5" y="1"/>
                      </a:moveTo>
                      <a:arcTo wR="10800" hR="10800" stAng="-5433376" swAng="457606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5" y="1"/>
                      </a:moveTo>
                      <a:arcTo wR="10800" hR="10800" stAng="-5433376" swAng="4576068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261200" y="4890960"/>
                  <a:ext cx="69840" cy="55728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313760" y="4582800"/>
                  <a:ext cx="32940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92" y="21598"/>
                      </a:moveTo>
                      <a:arcTo wR="10800" hR="10800" stAng="5466275" swAng="45109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92" y="21598"/>
                      </a:moveTo>
                      <a:arcTo wR="10800" hR="10800" stAng="5466275" swAng="4510932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320240" y="4586400"/>
                  <a:ext cx="32616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273" y="13439"/>
                      </a:moveTo>
                      <a:arcTo wR="10800" hR="10800" stAng="848555" swAng="46183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273" y="13439"/>
                      </a:moveTo>
                      <a:arcTo wR="10800" hR="10800" stAng="848555" swAng="461836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7628040" y="4846320"/>
                  <a:ext cx="69840" cy="5857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682040" y="4433760"/>
                  <a:ext cx="32976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8" y="8160"/>
                      </a:moveTo>
                      <a:arcTo wR="10800" hR="10800" stAng="-9951155" swAng="45181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8" y="8160"/>
                      </a:moveTo>
                      <a:arcTo wR="10800" hR="10800" stAng="-9951155" swAng="4518101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662600" y="4430880"/>
                  <a:ext cx="3304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6" y="0"/>
                      </a:moveTo>
                      <a:arcTo wR="10800" hR="10800" stAng="-5433054" swAng="457606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6" y="0"/>
                      </a:moveTo>
                      <a:arcTo wR="10800" hR="10800" stAng="-5433054" swAng="4576067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975440" y="4815000"/>
                  <a:ext cx="73080" cy="5904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8032680" y="4582800"/>
                  <a:ext cx="33012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92" y="21598"/>
                      </a:moveTo>
                      <a:arcTo wR="10800" hR="10800" stAng="5466275" swAng="45109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92" y="21598"/>
                      </a:moveTo>
                      <a:arcTo wR="10800" hR="10800" stAng="5466275" swAng="4510932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019720" y="4586400"/>
                  <a:ext cx="3268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273" y="13439"/>
                      </a:moveTo>
                      <a:arcTo wR="10800" hR="10800" stAng="848555" swAng="46183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273" y="13439"/>
                      </a:moveTo>
                      <a:arcTo wR="10800" hR="10800" stAng="848555" swAng="461836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V="1">
                  <a:off x="8339040" y="4890960"/>
                  <a:ext cx="46080" cy="4572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383680" y="4433760"/>
                  <a:ext cx="32688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8" y="8160"/>
                      </a:moveTo>
                      <a:arcTo wR="10800" hR="10800" stAng="-9950920" swAng="45175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8" y="8160"/>
                      </a:moveTo>
                      <a:arcTo wR="10800" hR="10800" stAng="-9950920" swAng="451754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8369280" y="4430880"/>
                  <a:ext cx="3268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5" y="1"/>
                      </a:moveTo>
                      <a:arcTo wR="10800" hR="10800" stAng="-5433376" swAng="457606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5" y="1"/>
                      </a:moveTo>
                      <a:arcTo wR="10800" hR="10800" stAng="-5433376" swAng="4576068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674200" y="4815000"/>
                  <a:ext cx="79200" cy="6048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734680" y="4582800"/>
                  <a:ext cx="32940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92" y="21598"/>
                      </a:moveTo>
                      <a:arcTo wR="10800" hR="10800" stAng="5466275" swAng="45109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92" y="21598"/>
                      </a:moveTo>
                      <a:arcTo wR="10800" hR="10800" stAng="5466275" swAng="4510932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9" name=""/>
            <p:cNvGrpSpPr/>
            <p:nvPr/>
          </p:nvGrpSpPr>
          <p:grpSpPr>
            <a:xfrm>
              <a:off x="204480" y="4446720"/>
              <a:ext cx="4598640" cy="1387080"/>
              <a:chOff x="204480" y="4446720"/>
              <a:chExt cx="4598640" cy="138708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204480" y="4459320"/>
                <a:ext cx="2465640" cy="1374480"/>
                <a:chOff x="204480" y="4459320"/>
                <a:chExt cx="2465640" cy="13744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4480" y="4614480"/>
                  <a:ext cx="32688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273" y="13439"/>
                      </a:moveTo>
                      <a:arcTo wR="10800" hR="10800" stAng="848555" swAng="46183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273" y="13439"/>
                      </a:moveTo>
                      <a:arcTo wR="10800" hR="10800" stAng="848555" swAng="461836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522360" y="4919760"/>
                  <a:ext cx="49320" cy="4572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68440" y="4462560"/>
                  <a:ext cx="3268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8" y="8160"/>
                      </a:moveTo>
                      <a:arcTo wR="10800" hR="10800" stAng="-9950920" swAng="45175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8" y="8160"/>
                      </a:moveTo>
                      <a:arcTo wR="10800" hR="10800" stAng="-9950920" swAng="451754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54040" y="4459320"/>
                  <a:ext cx="3268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5" y="1"/>
                      </a:moveTo>
                      <a:arcTo wR="10800" hR="10800" stAng="-5433376" swAng="457606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5" y="1"/>
                      </a:moveTo>
                      <a:arcTo wR="10800" hR="10800" stAng="-5433376" swAng="4576068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66880" y="4919760"/>
                  <a:ext cx="69840" cy="55728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19080" y="4611960"/>
                  <a:ext cx="33012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92" y="21598"/>
                      </a:moveTo>
                      <a:arcTo wR="10800" hR="10800" stAng="5466275" swAng="45109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92" y="21598"/>
                      </a:moveTo>
                      <a:arcTo wR="10800" hR="10800" stAng="5466275" swAng="4510932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925200" y="4614480"/>
                  <a:ext cx="32688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273" y="13439"/>
                      </a:moveTo>
                      <a:arcTo wR="10800" hR="10800" stAng="848555" swAng="46183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273" y="13439"/>
                      </a:moveTo>
                      <a:arcTo wR="10800" hR="10800" stAng="848555" swAng="461836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V="1">
                  <a:off x="1233360" y="4874760"/>
                  <a:ext cx="69840" cy="5857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287720" y="4462560"/>
                  <a:ext cx="32976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8" y="8160"/>
                      </a:moveTo>
                      <a:arcTo wR="10800" hR="10800" stAng="-9951155" swAng="45181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8" y="8160"/>
                      </a:moveTo>
                      <a:arcTo wR="10800" hR="10800" stAng="-9951155" swAng="4518101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268640" y="4459320"/>
                  <a:ext cx="32976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6" y="0"/>
                      </a:moveTo>
                      <a:arcTo wR="10800" hR="10800" stAng="-5433054" swAng="457606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6" y="0"/>
                      </a:moveTo>
                      <a:arcTo wR="10800" hR="10800" stAng="-5433054" swAng="4576067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581120" y="4843440"/>
                  <a:ext cx="73080" cy="5904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638360" y="4611960"/>
                  <a:ext cx="32940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92" y="21598"/>
                      </a:moveTo>
                      <a:arcTo wR="10800" hR="10800" stAng="5466275" swAng="45109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92" y="21598"/>
                      </a:moveTo>
                      <a:arcTo wR="10800" hR="10800" stAng="5466275" swAng="4510932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625400" y="4614480"/>
                  <a:ext cx="32688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273" y="13439"/>
                      </a:moveTo>
                      <a:arcTo wR="10800" hR="10800" stAng="848555" swAng="46183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273" y="13439"/>
                      </a:moveTo>
                      <a:arcTo wR="10800" hR="10800" stAng="848555" swAng="461836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1944720" y="4919760"/>
                  <a:ext cx="46080" cy="4572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989360" y="4462560"/>
                  <a:ext cx="3268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8" y="8160"/>
                      </a:moveTo>
                      <a:arcTo wR="10800" hR="10800" stAng="-9950920" swAng="45175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8" y="8160"/>
                      </a:moveTo>
                      <a:arcTo wR="10800" hR="10800" stAng="-9950920" swAng="451754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974240" y="4459320"/>
                  <a:ext cx="32760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5" y="1"/>
                      </a:moveTo>
                      <a:arcTo wR="10800" hR="10800" stAng="-5433376" swAng="457606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5" y="1"/>
                      </a:moveTo>
                      <a:arcTo wR="10800" hR="10800" stAng="-5433376" swAng="4576068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279520" y="4843440"/>
                  <a:ext cx="79560" cy="6048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340000" y="4611960"/>
                  <a:ext cx="33012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92" y="21598"/>
                      </a:moveTo>
                      <a:arcTo wR="10800" hR="10800" stAng="5466275" swAng="45109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92" y="21598"/>
                      </a:moveTo>
                      <a:arcTo wR="10800" hR="10800" stAng="5466275" swAng="4510932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2338200" y="4446720"/>
                <a:ext cx="2464920" cy="1374120"/>
                <a:chOff x="2338200" y="4446720"/>
                <a:chExt cx="2464920" cy="13741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2338200" y="4602240"/>
                  <a:ext cx="3268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273" y="13439"/>
                      </a:moveTo>
                      <a:arcTo wR="10800" hR="10800" stAng="848555" swAng="46183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273" y="13439"/>
                      </a:moveTo>
                      <a:arcTo wR="10800" hR="10800" stAng="848555" swAng="461836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2655720" y="4906800"/>
                  <a:ext cx="49320" cy="4572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702160" y="4449600"/>
                  <a:ext cx="32688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8" y="8160"/>
                      </a:moveTo>
                      <a:arcTo wR="10800" hR="10800" stAng="-9950920" swAng="45175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8" y="8160"/>
                      </a:moveTo>
                      <a:arcTo wR="10800" hR="10800" stAng="-9950920" swAng="451754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687040" y="4446720"/>
                  <a:ext cx="32760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5" y="1"/>
                      </a:moveTo>
                      <a:arcTo wR="10800" hR="10800" stAng="-5433376" swAng="457606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5" y="1"/>
                      </a:moveTo>
                      <a:arcTo wR="10800" hR="10800" stAng="-5433376" swAng="4576068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000240" y="4906800"/>
                  <a:ext cx="69840" cy="55728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052800" y="4598640"/>
                  <a:ext cx="33012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92" y="21598"/>
                      </a:moveTo>
                      <a:arcTo wR="10800" hR="10800" stAng="5466275" swAng="45109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92" y="21598"/>
                      </a:moveTo>
                      <a:arcTo wR="10800" hR="10800" stAng="5466275" swAng="4510932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058920" y="4602240"/>
                  <a:ext cx="3268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273" y="13439"/>
                      </a:moveTo>
                      <a:arcTo wR="10800" hR="10800" stAng="848555" swAng="46183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273" y="13439"/>
                      </a:moveTo>
                      <a:arcTo wR="10800" hR="10800" stAng="848555" swAng="461836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3367080" y="4862160"/>
                  <a:ext cx="69840" cy="5857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421080" y="4449600"/>
                  <a:ext cx="33048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8" y="8160"/>
                      </a:moveTo>
                      <a:arcTo wR="10800" hR="10800" stAng="-9951155" swAng="45181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8" y="8160"/>
                      </a:moveTo>
                      <a:arcTo wR="10800" hR="10800" stAng="-9951155" swAng="4518101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401640" y="4446720"/>
                  <a:ext cx="3304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6" y="0"/>
                      </a:moveTo>
                      <a:arcTo wR="10800" hR="10800" stAng="-5433054" swAng="457606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6" y="0"/>
                      </a:moveTo>
                      <a:arcTo wR="10800" hR="10800" stAng="-5433054" swAng="4576067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714840" y="4830840"/>
                  <a:ext cx="73080" cy="5904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772080" y="4598640"/>
                  <a:ext cx="32940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92" y="21598"/>
                      </a:moveTo>
                      <a:arcTo wR="10800" hR="10800" stAng="5466275" swAng="45109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92" y="21598"/>
                      </a:moveTo>
                      <a:arcTo wR="10800" hR="10800" stAng="5466275" swAng="4510932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759480" y="4602240"/>
                  <a:ext cx="32616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273" y="13439"/>
                      </a:moveTo>
                      <a:arcTo wR="10800" hR="10800" stAng="848555" swAng="46183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273" y="13439"/>
                      </a:moveTo>
                      <a:arcTo wR="10800" hR="10800" stAng="848555" swAng="461836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V="1">
                  <a:off x="4078440" y="4906800"/>
                  <a:ext cx="45720" cy="4572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122720" y="4449600"/>
                  <a:ext cx="32688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8" y="8160"/>
                      </a:moveTo>
                      <a:arcTo wR="10800" hR="10800" stAng="-9950920" swAng="45175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8" y="8160"/>
                      </a:moveTo>
                      <a:arcTo wR="10800" hR="10800" stAng="-9950920" swAng="451754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107960" y="4446720"/>
                  <a:ext cx="32760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5" y="1"/>
                      </a:moveTo>
                      <a:arcTo wR="10800" hR="10800" stAng="-5433376" swAng="457606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5" y="1"/>
                      </a:moveTo>
                      <a:arcTo wR="10800" hR="10800" stAng="-5433376" swAng="4576068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413240" y="4830840"/>
                  <a:ext cx="79560" cy="6048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473720" y="4598640"/>
                  <a:ext cx="32940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92" y="21598"/>
                      </a:moveTo>
                      <a:arcTo wR="10800" hR="10800" stAng="5466275" swAng="45109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92" y="21598"/>
                      </a:moveTo>
                      <a:arcTo wR="10800" hR="10800" stAng="5466275" swAng="4510932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685800" y="95184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 orbi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609480" y="1909800"/>
          <a:ext cx="8166240" cy="26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9800"/>
                    <a:ext cx="8166240" cy="26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685800" y="87552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 orbi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457200" y="2289240"/>
          <a:ext cx="8242200" cy="23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9240"/>
                    <a:ext cx="8242200" cy="23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Quantum number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gnetic quantum number (m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 baseline="-25000">
                <a:solidFill>
                  <a:srgbClr val="ffffff"/>
                </a:solidFill>
                <a:latin typeface="Gigi"/>
              </a:rPr>
              <a:t>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er values between - </a:t>
            </a:r>
            <a:r>
              <a:rPr b="1" lang="en-US" sz="3200" spc="-1" strike="noStrike">
                <a:solidFill>
                  <a:srgbClr val="ffffff"/>
                </a:solidFill>
                <a:latin typeface="Gigi"/>
              </a:rPr>
              <a:t>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nd + </a:t>
            </a:r>
            <a:r>
              <a:rPr b="1" lang="en-US" sz="3200" spc="-1" strike="noStrike">
                <a:solidFill>
                  <a:srgbClr val="ffffff"/>
                </a:solidFill>
                <a:latin typeface="Gigi"/>
              </a:rPr>
              <a:t>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lls direction of each sha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 spin quantum number (m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 baseline="-25000">
                <a:solidFill>
                  <a:srgbClr val="ffffff"/>
                </a:solidFill>
                <a:latin typeface="Lydian Csv BT"/>
              </a:rPr>
              <a:t>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 have 2 valu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ither +1/2 or -1/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olyelectronic Atom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e than one electro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ree energy contributi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kinetic energy of moving electr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otential energy of the attraction between the nucleus and the electr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otential energy from repulsion of electr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 Periodic Table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ed independently by German Meyer and Russian Mendeleev (1870’s)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dn’t know much about ato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t in columns by similar properti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dicted properties of missing element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ufbau Princi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fbau is German for building up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 the protons are added one by one, the electrons fill up hydrogen-like orbital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ll up in order of energy level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"/>
          <p:cNvGrpSpPr/>
          <p:nvPr/>
        </p:nvGrpSpPr>
        <p:grpSpPr>
          <a:xfrm>
            <a:off x="565200" y="493560"/>
            <a:ext cx="7999200" cy="5907240"/>
            <a:chOff x="565200" y="493560"/>
            <a:chExt cx="7999200" cy="5907240"/>
          </a:xfrm>
        </p:grpSpPr>
        <p:sp>
          <p:nvSpPr>
            <p:cNvPr id="549" name=""/>
            <p:cNvSpPr/>
            <p:nvPr/>
          </p:nvSpPr>
          <p:spPr>
            <a:xfrm>
              <a:off x="1147680" y="493560"/>
              <a:ext cx="17640" cy="590724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16200000">
              <a:off x="-1323720" y="3331800"/>
              <a:ext cx="4419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afd00"/>
                  </a:solidFill>
                  <a:latin typeface="Times New Roman"/>
                </a:rPr>
                <a:t>Increasing energy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387440" y="5726160"/>
              <a:ext cx="419040" cy="3967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87440" y="4500720"/>
              <a:ext cx="419040" cy="3952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387440" y="3614760"/>
              <a:ext cx="419040" cy="3967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387440" y="2798640"/>
              <a:ext cx="419040" cy="3952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387440" y="2117880"/>
              <a:ext cx="419040" cy="3967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403280" y="1022400"/>
              <a:ext cx="417600" cy="3952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387440" y="1631880"/>
              <a:ext cx="419040" cy="3952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2281320" y="3270240"/>
              <a:ext cx="1041480" cy="395280"/>
              <a:chOff x="2281320" y="3270240"/>
              <a:chExt cx="1041480" cy="395280"/>
            </a:xfrm>
          </p:grpSpPr>
          <p:sp>
            <p:nvSpPr>
              <p:cNvPr id="559" name=""/>
              <p:cNvSpPr/>
              <p:nvPr/>
            </p:nvSpPr>
            <p:spPr>
              <a:xfrm>
                <a:off x="2281320" y="3270240"/>
                <a:ext cx="33480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635200" y="3270240"/>
                <a:ext cx="33660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987640" y="3270240"/>
                <a:ext cx="33516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1855800" y="5676840"/>
              <a:ext cx="836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1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812960" y="4464000"/>
              <a:ext cx="836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2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797120" y="3556080"/>
              <a:ext cx="836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82720" y="2746440"/>
              <a:ext cx="836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97120" y="2057400"/>
              <a:ext cx="836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98560" y="1536840"/>
              <a:ext cx="836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81280" y="961920"/>
              <a:ext cx="836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7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2281320" y="4124160"/>
              <a:ext cx="1058760" cy="395280"/>
              <a:chOff x="2281320" y="4124160"/>
              <a:chExt cx="1058760" cy="395280"/>
            </a:xfrm>
          </p:grpSpPr>
          <p:sp>
            <p:nvSpPr>
              <p:cNvPr id="570" name=""/>
              <p:cNvSpPr/>
              <p:nvPr/>
            </p:nvSpPr>
            <p:spPr>
              <a:xfrm>
                <a:off x="2281320" y="4124160"/>
                <a:ext cx="33660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635200" y="4124160"/>
                <a:ext cx="33984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002040" y="4124160"/>
                <a:ext cx="33804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2281320" y="2394000"/>
              <a:ext cx="1041480" cy="395280"/>
              <a:chOff x="2281320" y="2394000"/>
              <a:chExt cx="1041480" cy="395280"/>
            </a:xfrm>
          </p:grpSpPr>
          <p:sp>
            <p:nvSpPr>
              <p:cNvPr id="574" name=""/>
              <p:cNvSpPr/>
              <p:nvPr/>
            </p:nvSpPr>
            <p:spPr>
              <a:xfrm>
                <a:off x="2281320" y="2394000"/>
                <a:ext cx="33012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630520" y="2394000"/>
                <a:ext cx="33192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990880" y="2394000"/>
                <a:ext cx="33192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2281320" y="1781280"/>
              <a:ext cx="1041480" cy="395280"/>
              <a:chOff x="2281320" y="1781280"/>
              <a:chExt cx="1041480" cy="395280"/>
            </a:xfrm>
          </p:grpSpPr>
          <p:sp>
            <p:nvSpPr>
              <p:cNvPr id="578" name=""/>
              <p:cNvSpPr/>
              <p:nvPr/>
            </p:nvSpPr>
            <p:spPr>
              <a:xfrm>
                <a:off x="2281320" y="1781280"/>
                <a:ext cx="33012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630520" y="1781280"/>
                <a:ext cx="33192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990880" y="1781280"/>
                <a:ext cx="33192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2281320" y="1179360"/>
              <a:ext cx="1073160" cy="397080"/>
              <a:chOff x="2281320" y="1179360"/>
              <a:chExt cx="1073160" cy="397080"/>
            </a:xfrm>
          </p:grpSpPr>
          <p:sp>
            <p:nvSpPr>
              <p:cNvPr id="582" name=""/>
              <p:cNvSpPr/>
              <p:nvPr/>
            </p:nvSpPr>
            <p:spPr>
              <a:xfrm>
                <a:off x="2281320" y="1179360"/>
                <a:ext cx="3412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641680" y="1179360"/>
                <a:ext cx="3412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013200" y="1179360"/>
                <a:ext cx="3412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3267000" y="4052880"/>
              <a:ext cx="65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2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267000" y="3160800"/>
              <a:ext cx="65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267000" y="2309760"/>
              <a:ext cx="65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267000" y="1695600"/>
              <a:ext cx="65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267000" y="1077840"/>
              <a:ext cx="65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3849840" y="2701800"/>
              <a:ext cx="1639800" cy="395280"/>
              <a:chOff x="3849840" y="2701800"/>
              <a:chExt cx="1639800" cy="395280"/>
            </a:xfrm>
          </p:grpSpPr>
          <p:sp>
            <p:nvSpPr>
              <p:cNvPr id="591" name=""/>
              <p:cNvSpPr/>
              <p:nvPr/>
            </p:nvSpPr>
            <p:spPr>
              <a:xfrm>
                <a:off x="5172120" y="2701800"/>
                <a:ext cx="31752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851360" y="2701800"/>
                <a:ext cx="31896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3849840" y="2701800"/>
                <a:ext cx="995040" cy="395280"/>
                <a:chOff x="3849840" y="2701800"/>
                <a:chExt cx="995040" cy="39528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3849840" y="2701800"/>
                  <a:ext cx="318960" cy="39528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184640" y="2701800"/>
                  <a:ext cx="316080" cy="39528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4529160" y="2701800"/>
                  <a:ext cx="315720" cy="39528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7" name=""/>
            <p:cNvSpPr/>
            <p:nvPr/>
          </p:nvSpPr>
          <p:spPr>
            <a:xfrm>
              <a:off x="5448240" y="2624040"/>
              <a:ext cx="65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448240" y="1849320"/>
              <a:ext cx="65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48240" y="1233360"/>
              <a:ext cx="65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3868560" y="1868400"/>
              <a:ext cx="1640160" cy="397080"/>
              <a:chOff x="3868560" y="1868400"/>
              <a:chExt cx="1640160" cy="397080"/>
            </a:xfrm>
          </p:grpSpPr>
          <p:sp>
            <p:nvSpPr>
              <p:cNvPr id="601" name=""/>
              <p:cNvSpPr/>
              <p:nvPr/>
            </p:nvSpPr>
            <p:spPr>
              <a:xfrm>
                <a:off x="5191200" y="1868400"/>
                <a:ext cx="31752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870440" y="1868400"/>
                <a:ext cx="31752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3" name=""/>
              <p:cNvGrpSpPr/>
              <p:nvPr/>
            </p:nvGrpSpPr>
            <p:grpSpPr>
              <a:xfrm>
                <a:off x="3868560" y="1868400"/>
                <a:ext cx="995400" cy="397080"/>
                <a:chOff x="3868560" y="1868400"/>
                <a:chExt cx="995400" cy="39708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3868560" y="1868400"/>
                  <a:ext cx="319320" cy="39708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203720" y="1868400"/>
                  <a:ext cx="315720" cy="39708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4549680" y="1868400"/>
                  <a:ext cx="314280" cy="39708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7" name=""/>
            <p:cNvGrpSpPr/>
            <p:nvPr/>
          </p:nvGrpSpPr>
          <p:grpSpPr>
            <a:xfrm>
              <a:off x="3868560" y="1327320"/>
              <a:ext cx="1640160" cy="395280"/>
              <a:chOff x="3868560" y="1327320"/>
              <a:chExt cx="1640160" cy="395280"/>
            </a:xfrm>
          </p:grpSpPr>
          <p:sp>
            <p:nvSpPr>
              <p:cNvPr id="608" name=""/>
              <p:cNvSpPr/>
              <p:nvPr/>
            </p:nvSpPr>
            <p:spPr>
              <a:xfrm>
                <a:off x="5191200" y="1327320"/>
                <a:ext cx="31752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870440" y="1327320"/>
                <a:ext cx="31752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0" name=""/>
              <p:cNvGrpSpPr/>
              <p:nvPr/>
            </p:nvGrpSpPr>
            <p:grpSpPr>
              <a:xfrm>
                <a:off x="3868560" y="1327320"/>
                <a:ext cx="995400" cy="395280"/>
                <a:chOff x="3868560" y="1327320"/>
                <a:chExt cx="995400" cy="39528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3868560" y="1327320"/>
                  <a:ext cx="319320" cy="39528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203720" y="1327320"/>
                  <a:ext cx="315720" cy="39528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549680" y="1327320"/>
                  <a:ext cx="314280" cy="39528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"/>
            <p:cNvGrpSpPr/>
            <p:nvPr/>
          </p:nvGrpSpPr>
          <p:grpSpPr>
            <a:xfrm>
              <a:off x="5981760" y="1625760"/>
              <a:ext cx="1984320" cy="395280"/>
              <a:chOff x="5981760" y="1625760"/>
              <a:chExt cx="1984320" cy="395280"/>
            </a:xfrm>
          </p:grpSpPr>
          <p:sp>
            <p:nvSpPr>
              <p:cNvPr id="615" name=""/>
              <p:cNvSpPr/>
              <p:nvPr/>
            </p:nvSpPr>
            <p:spPr>
              <a:xfrm>
                <a:off x="7129440" y="1625760"/>
                <a:ext cx="27144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850080" y="1625760"/>
                <a:ext cx="27288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981760" y="1625760"/>
                <a:ext cx="27288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72280" y="1625760"/>
                <a:ext cx="26964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568920" y="1625760"/>
                <a:ext cx="27324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418520" y="1625760"/>
                <a:ext cx="27288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694640" y="1625760"/>
                <a:ext cx="27144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5964120" y="968400"/>
              <a:ext cx="1987560" cy="396720"/>
              <a:chOff x="5964120" y="968400"/>
              <a:chExt cx="1987560" cy="396720"/>
            </a:xfrm>
          </p:grpSpPr>
          <p:sp>
            <p:nvSpPr>
              <p:cNvPr id="623" name=""/>
              <p:cNvSpPr/>
              <p:nvPr/>
            </p:nvSpPr>
            <p:spPr>
              <a:xfrm>
                <a:off x="7110360" y="968400"/>
                <a:ext cx="27468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832440" y="968400"/>
                <a:ext cx="27468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964120" y="968400"/>
                <a:ext cx="27468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253200" y="968400"/>
                <a:ext cx="27468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553080" y="968400"/>
                <a:ext cx="27144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402680" y="968400"/>
                <a:ext cx="27144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678800" y="968400"/>
                <a:ext cx="27288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2286000" y="600120"/>
              <a:ext cx="1073160" cy="396720"/>
              <a:chOff x="2286000" y="600120"/>
              <a:chExt cx="1073160" cy="396720"/>
            </a:xfrm>
          </p:grpSpPr>
          <p:sp>
            <p:nvSpPr>
              <p:cNvPr id="631" name=""/>
              <p:cNvSpPr/>
              <p:nvPr/>
            </p:nvSpPr>
            <p:spPr>
              <a:xfrm>
                <a:off x="2286000" y="600120"/>
                <a:ext cx="34128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646360" y="600120"/>
                <a:ext cx="34128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017880" y="600120"/>
                <a:ext cx="34128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3333600" y="531720"/>
              <a:ext cx="65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7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3873600" y="717480"/>
              <a:ext cx="1639800" cy="395280"/>
              <a:chOff x="3873600" y="717480"/>
              <a:chExt cx="1639800" cy="395280"/>
            </a:xfrm>
          </p:grpSpPr>
          <p:sp>
            <p:nvSpPr>
              <p:cNvPr id="636" name=""/>
              <p:cNvSpPr/>
              <p:nvPr/>
            </p:nvSpPr>
            <p:spPr>
              <a:xfrm>
                <a:off x="5194440" y="717480"/>
                <a:ext cx="31896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875120" y="717480"/>
                <a:ext cx="31752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8" name=""/>
              <p:cNvGrpSpPr/>
              <p:nvPr/>
            </p:nvGrpSpPr>
            <p:grpSpPr>
              <a:xfrm>
                <a:off x="3873600" y="717480"/>
                <a:ext cx="995400" cy="395280"/>
                <a:chOff x="3873600" y="717480"/>
                <a:chExt cx="995400" cy="39528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73600" y="717480"/>
                  <a:ext cx="318960" cy="39528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206960" y="717480"/>
                  <a:ext cx="317520" cy="39528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554360" y="717480"/>
                  <a:ext cx="314640" cy="39528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2" name=""/>
            <p:cNvSpPr/>
            <p:nvPr/>
          </p:nvSpPr>
          <p:spPr>
            <a:xfrm>
              <a:off x="5435640" y="622440"/>
              <a:ext cx="652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912080" y="1539720"/>
              <a:ext cx="652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02720" y="912960"/>
              <a:ext cx="652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5257800" y="3962520"/>
            <a:ext cx="2362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with 2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1676520" y="5715000"/>
            <a:ext cx="0" cy="3808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5715000"/>
            <a:ext cx="0" cy="3808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Valence electron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the electrons in the outermost energy levels (not d or f)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ore electron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the inner electr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Hund’s Rul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The lowest energy configuration for an atom is the one that has the maximum number of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unpaire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s in the orbital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 = 1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p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4130640" y="5189400"/>
            <a:ext cx="3635280" cy="595440"/>
            <a:chOff x="4130640" y="5189400"/>
            <a:chExt cx="3635280" cy="595440"/>
          </a:xfrm>
        </p:grpSpPr>
        <p:grpSp>
          <p:nvGrpSpPr>
            <p:cNvPr id="651" name=""/>
            <p:cNvGrpSpPr/>
            <p:nvPr/>
          </p:nvGrpSpPr>
          <p:grpSpPr>
            <a:xfrm>
              <a:off x="6302520" y="5189400"/>
              <a:ext cx="1463400" cy="595440"/>
              <a:chOff x="6302520" y="5189400"/>
              <a:chExt cx="1463400" cy="595440"/>
            </a:xfrm>
          </p:grpSpPr>
          <p:sp>
            <p:nvSpPr>
              <p:cNvPr id="652" name=""/>
              <p:cNvSpPr/>
              <p:nvPr/>
            </p:nvSpPr>
            <p:spPr>
              <a:xfrm>
                <a:off x="6302520" y="5189400"/>
                <a:ext cx="471240" cy="59544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791400" y="5189400"/>
                <a:ext cx="473040" cy="59544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297560" y="5189400"/>
                <a:ext cx="468360" cy="59544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5" name=""/>
            <p:cNvSpPr/>
            <p:nvPr/>
          </p:nvSpPr>
          <p:spPr>
            <a:xfrm>
              <a:off x="5284800" y="5189400"/>
              <a:ext cx="581040" cy="5954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30640" y="5189400"/>
              <a:ext cx="581040" cy="5954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4267080" y="5257800"/>
            <a:ext cx="0" cy="45720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410080" y="5257800"/>
            <a:ext cx="0" cy="45720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5257800"/>
            <a:ext cx="0" cy="45720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934320" y="5257800"/>
            <a:ext cx="0" cy="45720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4495680" y="5257800"/>
            <a:ext cx="0" cy="45720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5638680" y="5257800"/>
            <a:ext cx="0" cy="45720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3031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ill from the bottom up following the arrow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893880" y="1730520"/>
            <a:ext cx="2392200" cy="4128840"/>
            <a:chOff x="893880" y="1730520"/>
            <a:chExt cx="2392200" cy="4128840"/>
          </a:xfrm>
        </p:grpSpPr>
        <p:sp>
          <p:nvSpPr>
            <p:cNvPr id="665" name=""/>
            <p:cNvSpPr/>
            <p:nvPr/>
          </p:nvSpPr>
          <p:spPr>
            <a:xfrm>
              <a:off x="893880" y="5218200"/>
              <a:ext cx="688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1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93880" y="459756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2s 2p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93880" y="40273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3s 3p 3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93880" y="34732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4s 4p 4d 4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93880" y="27874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5s 5p 5d 5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93880" y="22510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6s 6p 6d 6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93880" y="17305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7s 7p 7d 7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630360" y="4857840"/>
            <a:ext cx="985680" cy="1164960"/>
          </a:xfrm>
          <a:prstGeom prst="line">
            <a:avLst/>
          </a:prstGeom>
          <a:ln w="507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341960" y="2575080"/>
            <a:ext cx="11444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647960" y="5029200"/>
            <a:ext cx="75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572000" y="5029200"/>
            <a:ext cx="3417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16040" y="4371840"/>
            <a:ext cx="985680" cy="1165320"/>
          </a:xfrm>
          <a:prstGeom prst="line">
            <a:avLst/>
          </a:prstGeom>
          <a:ln w="507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489640" y="2575080"/>
            <a:ext cx="7549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723920" y="5029200"/>
            <a:ext cx="75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77960" y="3871800"/>
            <a:ext cx="1109520" cy="1325520"/>
          </a:xfrm>
          <a:prstGeom prst="line">
            <a:avLst/>
          </a:prstGeom>
          <a:ln w="507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379200" y="2575080"/>
            <a:ext cx="8053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318440" y="2575080"/>
            <a:ext cx="7549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495320" y="5029200"/>
            <a:ext cx="985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95240" y="3232080"/>
            <a:ext cx="1244520" cy="1559160"/>
          </a:xfrm>
          <a:prstGeom prst="line">
            <a:avLst/>
          </a:prstGeom>
          <a:ln w="507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702680" y="3184560"/>
            <a:ext cx="8053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489640" y="3184560"/>
            <a:ext cx="7549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495680" y="4952880"/>
            <a:ext cx="1143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811080" y="2789280"/>
            <a:ext cx="1791000" cy="1871640"/>
          </a:xfrm>
          <a:prstGeom prst="line">
            <a:avLst/>
          </a:prstGeom>
          <a:ln w="507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389640" y="3184560"/>
            <a:ext cx="968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318800" y="3184560"/>
            <a:ext cx="8053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727880" y="3946680"/>
            <a:ext cx="7549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495320" y="4952880"/>
            <a:ext cx="985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847800" y="2300400"/>
            <a:ext cx="1982880" cy="2097000"/>
          </a:xfrm>
          <a:prstGeom prst="line">
            <a:avLst/>
          </a:prstGeom>
          <a:ln w="507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500440" y="3946680"/>
            <a:ext cx="968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379200" y="3946680"/>
            <a:ext cx="8053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318440" y="3946680"/>
            <a:ext cx="7549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495320" y="4952880"/>
            <a:ext cx="985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3" dur="1" fill="hold"/>
                                  <p:tgtEl>
                                    <p:spTgt spid="6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s in the same column have the same electron configuratio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t in columns because of similar  properti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milar properties because of electron configuratio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ble gases have filled energy level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ition metals are filling the d orbit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inds of EMR waves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are radio, micro, IR, Vis, UV, X-rays and gamma ray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ch have different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ible light is only the part our eyes can detec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69880" y="4689360"/>
            <a:ext cx="6338880" cy="1054080"/>
          </a:xfrm>
          <a:custGeom>
            <a:avLst/>
            <a:gdLst/>
            <a:ahLst/>
            <a:rect l="l" t="t" r="r" b="b"/>
            <a:pathLst>
              <a:path w="3993" h="664">
                <a:moveTo>
                  <a:pt x="0" y="0"/>
                </a:moveTo>
                <a:lnTo>
                  <a:pt x="3992" y="0"/>
                </a:lnTo>
                <a:lnTo>
                  <a:pt x="3992" y="663"/>
                </a:lnTo>
                <a:lnTo>
                  <a:pt x="0" y="66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69880" y="4676760"/>
            <a:ext cx="6351840" cy="27000"/>
          </a:xfrm>
          <a:custGeom>
            <a:avLst/>
            <a:gdLst/>
            <a:ahLst/>
            <a:rect l="l" t="t" r="r" b="b"/>
            <a:pathLst>
              <a:path w="4001" h="17">
                <a:moveTo>
                  <a:pt x="4000" y="8"/>
                </a:moveTo>
                <a:lnTo>
                  <a:pt x="3992" y="0"/>
                </a:lnTo>
                <a:lnTo>
                  <a:pt x="0" y="0"/>
                </a:lnTo>
                <a:lnTo>
                  <a:pt x="0" y="16"/>
                </a:lnTo>
                <a:lnTo>
                  <a:pt x="3992" y="16"/>
                </a:lnTo>
                <a:lnTo>
                  <a:pt x="3984" y="8"/>
                </a:lnTo>
                <a:lnTo>
                  <a:pt x="4000" y="8"/>
                </a:lnTo>
                <a:lnTo>
                  <a:pt x="4000" y="0"/>
                </a:lnTo>
                <a:lnTo>
                  <a:pt x="3992" y="0"/>
                </a:lnTo>
                <a:lnTo>
                  <a:pt x="400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04080" y="4689360"/>
            <a:ext cx="27000" cy="1067040"/>
          </a:xfrm>
          <a:custGeom>
            <a:avLst/>
            <a:gdLst/>
            <a:ahLst/>
            <a:rect l="l" t="t" r="r" b="b"/>
            <a:pathLst>
              <a:path w="17" h="672">
                <a:moveTo>
                  <a:pt x="8" y="671"/>
                </a:moveTo>
                <a:lnTo>
                  <a:pt x="16" y="663"/>
                </a:lnTo>
                <a:lnTo>
                  <a:pt x="16" y="0"/>
                </a:lnTo>
                <a:lnTo>
                  <a:pt x="0" y="0"/>
                </a:lnTo>
                <a:lnTo>
                  <a:pt x="0" y="663"/>
                </a:lnTo>
                <a:lnTo>
                  <a:pt x="8" y="655"/>
                </a:lnTo>
                <a:lnTo>
                  <a:pt x="8" y="671"/>
                </a:lnTo>
                <a:lnTo>
                  <a:pt x="16" y="671"/>
                </a:lnTo>
                <a:lnTo>
                  <a:pt x="16" y="663"/>
                </a:lnTo>
                <a:lnTo>
                  <a:pt x="8" y="67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57280" y="5738760"/>
            <a:ext cx="6351480" cy="27000"/>
          </a:xfrm>
          <a:custGeom>
            <a:avLst/>
            <a:gdLst/>
            <a:ahLst/>
            <a:rect l="l" t="t" r="r" b="b"/>
            <a:pathLst>
              <a:path w="4001" h="17">
                <a:moveTo>
                  <a:pt x="0" y="8"/>
                </a:moveTo>
                <a:lnTo>
                  <a:pt x="8" y="16"/>
                </a:lnTo>
                <a:lnTo>
                  <a:pt x="4000" y="16"/>
                </a:lnTo>
                <a:lnTo>
                  <a:pt x="4000" y="0"/>
                </a:lnTo>
                <a:lnTo>
                  <a:pt x="8" y="0"/>
                </a:lnTo>
                <a:lnTo>
                  <a:pt x="16" y="8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57280" y="4676760"/>
            <a:ext cx="27000" cy="1066680"/>
          </a:xfrm>
          <a:custGeom>
            <a:avLst/>
            <a:gdLst/>
            <a:ahLst/>
            <a:rect l="l" t="t" r="r" b="b"/>
            <a:pathLst>
              <a:path w="17" h="672">
                <a:moveTo>
                  <a:pt x="8" y="0"/>
                </a:moveTo>
                <a:lnTo>
                  <a:pt x="0" y="8"/>
                </a:lnTo>
                <a:lnTo>
                  <a:pt x="0" y="671"/>
                </a:lnTo>
                <a:lnTo>
                  <a:pt x="16" y="671"/>
                </a:lnTo>
                <a:lnTo>
                  <a:pt x="16" y="8"/>
                </a:lnTo>
                <a:lnTo>
                  <a:pt x="8" y="16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10840" y="4794120"/>
            <a:ext cx="412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38000" y="4794120"/>
            <a:ext cx="346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00360" y="4794120"/>
            <a:ext cx="42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43000" y="4794120"/>
            <a:ext cx="42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5640" y="4794120"/>
            <a:ext cx="346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55640" y="5197320"/>
            <a:ext cx="39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65160" y="5197320"/>
            <a:ext cx="346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26800" y="5197320"/>
            <a:ext cx="33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72960" y="5197320"/>
            <a:ext cx="33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622560" y="4824360"/>
            <a:ext cx="374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vantGarde Bk BT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06160" y="4824360"/>
            <a:ext cx="355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vantGarde Bk BT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990120" y="4824360"/>
            <a:ext cx="37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vantGarde Bk BT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7960" y="4824360"/>
            <a:ext cx="26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vantGarde Bk BT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33840" y="4824360"/>
            <a:ext cx="36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vantGarde Bk BT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18240" y="5189400"/>
            <a:ext cx="424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vantGarde Bk BT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3680" y="5189400"/>
            <a:ext cx="355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vantGarde Bk BT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030800" y="5189400"/>
            <a:ext cx="340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vantGarde Bk BT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185600" y="5189400"/>
            <a:ext cx="357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vantGarde Bk BT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51920" y="5189400"/>
            <a:ext cx="331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vantGarde Bk BT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4299120" y="4689360"/>
            <a:ext cx="387360" cy="1071720"/>
            <a:chOff x="4299120" y="4689360"/>
            <a:chExt cx="387360" cy="1071720"/>
          </a:xfrm>
        </p:grpSpPr>
        <p:sp>
          <p:nvSpPr>
            <p:cNvPr id="245" name=""/>
            <p:cNvSpPr/>
            <p:nvPr/>
          </p:nvSpPr>
          <p:spPr>
            <a:xfrm>
              <a:off x="4659480" y="4689360"/>
              <a:ext cx="27000" cy="1071720"/>
            </a:xfrm>
            <a:custGeom>
              <a:avLst/>
              <a:gdLst/>
              <a:ahLst/>
              <a:rect l="l" t="t" r="r" b="b"/>
              <a:pathLst>
                <a:path w="17" h="675">
                  <a:moveTo>
                    <a:pt x="16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67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51200" y="4689360"/>
              <a:ext cx="180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4184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3248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22760" y="4689360"/>
              <a:ext cx="27000" cy="1071720"/>
            </a:xfrm>
            <a:custGeom>
              <a:avLst/>
              <a:gdLst/>
              <a:ahLst/>
              <a:rect l="l" t="t" r="r" b="b"/>
              <a:pathLst>
                <a:path w="17" h="675">
                  <a:moveTo>
                    <a:pt x="0" y="674"/>
                  </a:moveTo>
                  <a:lnTo>
                    <a:pt x="16" y="67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1484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0548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95760" y="4689360"/>
              <a:ext cx="180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8640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6680" y="4689360"/>
              <a:ext cx="180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6732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f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57600" y="4689360"/>
              <a:ext cx="27000" cy="1071720"/>
            </a:xfrm>
            <a:custGeom>
              <a:avLst/>
              <a:gdLst/>
              <a:ahLst/>
              <a:rect l="l" t="t" r="r" b="b"/>
              <a:pathLst>
                <a:path w="17" h="675">
                  <a:moveTo>
                    <a:pt x="0" y="674"/>
                  </a:moveTo>
                  <a:lnTo>
                    <a:pt x="16" y="67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e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49680" y="4689360"/>
              <a:ext cx="180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c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4032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aa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30600" y="4689360"/>
              <a:ext cx="180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9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21240" y="4689360"/>
              <a:ext cx="27000" cy="1071720"/>
            </a:xfrm>
            <a:custGeom>
              <a:avLst/>
              <a:gdLst/>
              <a:ahLst/>
              <a:rect l="l" t="t" r="r" b="b"/>
              <a:pathLst>
                <a:path w="17" h="675">
                  <a:moveTo>
                    <a:pt x="0" y="674"/>
                  </a:moveTo>
                  <a:lnTo>
                    <a:pt x="16" y="67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7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11520" y="4689360"/>
              <a:ext cx="27000" cy="1071720"/>
            </a:xfrm>
            <a:custGeom>
              <a:avLst/>
              <a:gdLst/>
              <a:ahLst/>
              <a:rect l="l" t="t" r="r" b="b"/>
              <a:pathLst>
                <a:path w="17" h="675">
                  <a:moveTo>
                    <a:pt x="16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674"/>
                  </a:lnTo>
                </a:path>
              </a:pathLst>
            </a:custGeom>
            <a:solidFill>
              <a:srgbClr val="5e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02160" y="4689360"/>
              <a:ext cx="27000" cy="1071720"/>
            </a:xfrm>
            <a:custGeom>
              <a:avLst/>
              <a:gdLst/>
              <a:ahLst/>
              <a:rect l="l" t="t" r="r" b="b"/>
              <a:pathLst>
                <a:path w="17" h="675">
                  <a:moveTo>
                    <a:pt x="0" y="674"/>
                  </a:moveTo>
                  <a:lnTo>
                    <a:pt x="16" y="67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44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9424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2b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84520" y="4689360"/>
              <a:ext cx="180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1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7516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f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65800" y="4689360"/>
              <a:ext cx="27000" cy="1071720"/>
            </a:xfrm>
            <a:custGeom>
              <a:avLst/>
              <a:gdLst/>
              <a:ahLst/>
              <a:rect l="l" t="t" r="r" b="b"/>
              <a:pathLst>
                <a:path w="17" h="675">
                  <a:moveTo>
                    <a:pt x="0" y="674"/>
                  </a:moveTo>
                  <a:lnTo>
                    <a:pt x="16" y="67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f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5788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46720" y="4689360"/>
              <a:ext cx="27000" cy="1071720"/>
            </a:xfrm>
            <a:custGeom>
              <a:avLst/>
              <a:gdLst/>
              <a:ahLst/>
              <a:rect l="l" t="t" r="r" b="b"/>
              <a:pathLst>
                <a:path w="17" h="675">
                  <a:moveTo>
                    <a:pt x="16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674"/>
                  </a:lnTo>
                </a:path>
              </a:pathLst>
            </a:custGeom>
            <a:solidFill>
              <a:srgbClr val="00f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37000" y="4689360"/>
              <a:ext cx="27000" cy="1071720"/>
            </a:xfrm>
            <a:custGeom>
              <a:avLst/>
              <a:gdLst/>
              <a:ahLst/>
              <a:rect l="l" t="t" r="r" b="b"/>
              <a:pathLst>
                <a:path w="17" h="675">
                  <a:moveTo>
                    <a:pt x="0" y="674"/>
                  </a:moveTo>
                  <a:lnTo>
                    <a:pt x="16" y="67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f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29080" y="4689360"/>
              <a:ext cx="180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1972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f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10000" y="4689360"/>
              <a:ext cx="180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00640" y="4689360"/>
              <a:ext cx="27000" cy="1071720"/>
            </a:xfrm>
            <a:custGeom>
              <a:avLst/>
              <a:gdLst/>
              <a:ahLst/>
              <a:rect l="l" t="t" r="r" b="b"/>
              <a:pathLst>
                <a:path w="17" h="675">
                  <a:moveTo>
                    <a:pt x="0" y="674"/>
                  </a:moveTo>
                  <a:lnTo>
                    <a:pt x="16" y="67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9272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83000" y="4689360"/>
              <a:ext cx="180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7364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63920" y="4689360"/>
              <a:ext cx="180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5456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44840" y="4689360"/>
              <a:ext cx="27000" cy="1071720"/>
            </a:xfrm>
            <a:custGeom>
              <a:avLst/>
              <a:gdLst/>
              <a:ahLst/>
              <a:rect l="l" t="t" r="r" b="b"/>
              <a:pathLst>
                <a:path w="17" h="675">
                  <a:moveTo>
                    <a:pt x="0" y="674"/>
                  </a:moveTo>
                  <a:lnTo>
                    <a:pt x="16" y="67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36920" y="4689360"/>
              <a:ext cx="180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6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2756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5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17840" y="4689360"/>
              <a:ext cx="180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3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0848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1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9912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cep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 = [Ar] 4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d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 as wel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lf filled orbital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ientists aren’t sure of why it happe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me for Cu  [Ar] 4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d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nd A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re excep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nthanum La: [Xe] 6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5d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rium Ce: [Xe] 6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4f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5d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methium Pr: [Xe] 6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4f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5d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adolinium Gd: [Xe] 6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4f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5d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utetium Pr: [Xe] 6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4f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5d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’ll just pretend that all except Cu and Cr follow the rul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Ionization Energ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The energy necessary to remove an electron from a gaseous ato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ionization energy for a 1s electron from sodium is 1.39 x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kJ/mol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ionization energy for a 3s electron from sodium is 4.95 x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kJ/mol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onstrates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shielding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hield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s on the higher energy levels tend to be farther ou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ve to look through the other electrons to see the nucleu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y are less effected by the nucleu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wer effective nuclear char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netration effec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outer energy levels penetrate the inner levels so the shielding of the core electrons is not totally effectiv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om most penetration to least penetration  the order 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s &gt; np &gt; nd &gt; nf  (within the same energy level)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is what gives us our order of filling, electrons prefer s and p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ow orbitals dif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ore positive the nucleus, the smaller the orbital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odium 1s orbital is the same shape as a hydrogen 1s orbital, but it is smaller because the electron is more strongly attracted to the nucleu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helium 1s is smaller as well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provides for better shielding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riodic Trend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ization energy the energy required to remove an electron form a gaseous ato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est energy electron removed first.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rst ionization energy (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I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is that required to remove the first electro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ionization energy (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I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- the second electr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c. et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rends in ionization energ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M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735 kJ/mo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1445 kJ/mo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7730 kJ/mo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effective nuclear charge increases as you remove electr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takes much more energy to remove a core electron than a valence electron because there is less shielding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plain this tren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580 kJ/mo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1815 kJ/mo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2740 kJ/mo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11,600 kJ/mo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cross a Perio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ally from left to right, 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I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ncreases becaus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is a greater nuclear charge with the same shielding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 you go down a group 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I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creases because electrons are farther awa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 speed of ligh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a vacuum is 2.998 x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/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noted by 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 =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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the wavelength of light with a frequency 5.89 x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Hz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the frequency of blue light with a wavelength of 484 nm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t is not that si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lf filled and filled orbitals are harder to remove electrons fro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e’s what it looks like on a graph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1320840" y="866880"/>
            <a:ext cx="0" cy="4959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1319040" y="5843520"/>
            <a:ext cx="6964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rot="16200000">
            <a:off x="-1343160" y="2854440"/>
            <a:ext cx="4219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Ionization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570120" y="5891040"/>
            <a:ext cx="2955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643040" y="684360"/>
            <a:ext cx="217440" cy="1728720"/>
            <a:chOff x="1643040" y="684360"/>
            <a:chExt cx="217440" cy="1728720"/>
          </a:xfrm>
        </p:grpSpPr>
        <p:sp>
          <p:nvSpPr>
            <p:cNvPr id="725" name=""/>
            <p:cNvSpPr/>
            <p:nvPr/>
          </p:nvSpPr>
          <p:spPr>
            <a:xfrm>
              <a:off x="1763640" y="684360"/>
              <a:ext cx="96840" cy="1660320"/>
            </a:xfrm>
            <a:custGeom>
              <a:avLst/>
              <a:gdLst/>
              <a:ahLst/>
              <a:rect l="l" t="t" r="r" b="b"/>
              <a:pathLst>
                <a:path w="61" h="1046">
                  <a:moveTo>
                    <a:pt x="0" y="1045"/>
                  </a:moveTo>
                  <a:lnTo>
                    <a:pt x="6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643040" y="223200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1757520" y="588960"/>
            <a:ext cx="411120" cy="3652920"/>
            <a:chOff x="1757520" y="588960"/>
            <a:chExt cx="411120" cy="3652920"/>
          </a:xfrm>
        </p:grpSpPr>
        <p:sp>
          <p:nvSpPr>
            <p:cNvPr id="728" name=""/>
            <p:cNvSpPr/>
            <p:nvPr/>
          </p:nvSpPr>
          <p:spPr>
            <a:xfrm>
              <a:off x="1971720" y="406080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1757520" y="588960"/>
              <a:ext cx="325440" cy="3529080"/>
              <a:chOff x="1757520" y="588960"/>
              <a:chExt cx="325440" cy="3529080"/>
            </a:xfrm>
          </p:grpSpPr>
          <p:sp>
            <p:nvSpPr>
              <p:cNvPr id="730" name=""/>
              <p:cNvSpPr/>
              <p:nvPr/>
            </p:nvSpPr>
            <p:spPr>
              <a:xfrm>
                <a:off x="1859040" y="684360"/>
                <a:ext cx="223920" cy="3433680"/>
              </a:xfrm>
              <a:custGeom>
                <a:avLst/>
                <a:gdLst/>
                <a:ahLst/>
                <a:rect l="l" t="t" r="r" b="b"/>
                <a:pathLst>
                  <a:path w="141" h="2163">
                    <a:moveTo>
                      <a:pt x="0" y="0"/>
                    </a:moveTo>
                    <a:lnTo>
                      <a:pt x="140" y="216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757520" y="588960"/>
                <a:ext cx="196560" cy="18108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32" name=""/>
          <p:cNvGrpSpPr/>
          <p:nvPr/>
        </p:nvGrpSpPr>
        <p:grpSpPr>
          <a:xfrm>
            <a:off x="2071800" y="3117960"/>
            <a:ext cx="196560" cy="1015920"/>
            <a:chOff x="2071800" y="3117960"/>
            <a:chExt cx="196560" cy="1015920"/>
          </a:xfrm>
        </p:grpSpPr>
        <p:sp>
          <p:nvSpPr>
            <p:cNvPr id="733" name=""/>
            <p:cNvSpPr/>
            <p:nvPr/>
          </p:nvSpPr>
          <p:spPr>
            <a:xfrm>
              <a:off x="2090880" y="3228840"/>
              <a:ext cx="87120" cy="905040"/>
            </a:xfrm>
            <a:custGeom>
              <a:avLst/>
              <a:gdLst/>
              <a:ahLst/>
              <a:rect l="l" t="t" r="r" b="b"/>
              <a:pathLst>
                <a:path w="55" h="570">
                  <a:moveTo>
                    <a:pt x="0" y="569"/>
                  </a:move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071800" y="3117960"/>
              <a:ext cx="19656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2168640" y="3228840"/>
            <a:ext cx="285480" cy="527040"/>
            <a:chOff x="2168640" y="3228840"/>
            <a:chExt cx="285480" cy="527040"/>
          </a:xfrm>
        </p:grpSpPr>
        <p:sp>
          <p:nvSpPr>
            <p:cNvPr id="736" name=""/>
            <p:cNvSpPr/>
            <p:nvPr/>
          </p:nvSpPr>
          <p:spPr>
            <a:xfrm>
              <a:off x="2168640" y="3228840"/>
              <a:ext cx="15084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57560" y="3575160"/>
              <a:ext cx="19656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2363760" y="2560680"/>
            <a:ext cx="247680" cy="1054080"/>
            <a:chOff x="2363760" y="2560680"/>
            <a:chExt cx="247680" cy="1054080"/>
          </a:xfrm>
        </p:grpSpPr>
        <p:sp>
          <p:nvSpPr>
            <p:cNvPr id="739" name=""/>
            <p:cNvSpPr/>
            <p:nvPr/>
          </p:nvSpPr>
          <p:spPr>
            <a:xfrm flipV="1">
              <a:off x="2363760" y="2700360"/>
              <a:ext cx="12708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414520" y="256068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2505240" y="1689120"/>
            <a:ext cx="206280" cy="952560"/>
            <a:chOff x="2505240" y="1689120"/>
            <a:chExt cx="206280" cy="952560"/>
          </a:xfrm>
        </p:grpSpPr>
        <p:sp>
          <p:nvSpPr>
            <p:cNvPr id="742" name=""/>
            <p:cNvSpPr/>
            <p:nvPr/>
          </p:nvSpPr>
          <p:spPr>
            <a:xfrm>
              <a:off x="2514600" y="168912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505240" y="1827360"/>
              <a:ext cx="112680" cy="81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2664000" y="1800360"/>
            <a:ext cx="314280" cy="622080"/>
            <a:chOff x="2664000" y="1800360"/>
            <a:chExt cx="314280" cy="622080"/>
          </a:xfrm>
        </p:grpSpPr>
        <p:sp>
          <p:nvSpPr>
            <p:cNvPr id="745" name=""/>
            <p:cNvSpPr/>
            <p:nvPr/>
          </p:nvSpPr>
          <p:spPr>
            <a:xfrm>
              <a:off x="2664000" y="1800360"/>
              <a:ext cx="20160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81360" y="2241720"/>
              <a:ext cx="1969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2871720" y="1389240"/>
            <a:ext cx="196920" cy="937800"/>
            <a:chOff x="2871720" y="1389240"/>
            <a:chExt cx="196920" cy="937800"/>
          </a:xfrm>
        </p:grpSpPr>
        <p:sp>
          <p:nvSpPr>
            <p:cNvPr id="748" name=""/>
            <p:cNvSpPr/>
            <p:nvPr/>
          </p:nvSpPr>
          <p:spPr>
            <a:xfrm flipV="1">
              <a:off x="2881440" y="1455480"/>
              <a:ext cx="110880" cy="871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71720" y="1389240"/>
              <a:ext cx="1969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2986200" y="703440"/>
            <a:ext cx="196560" cy="710640"/>
            <a:chOff x="2986200" y="703440"/>
            <a:chExt cx="196560" cy="710640"/>
          </a:xfrm>
        </p:grpSpPr>
        <p:sp>
          <p:nvSpPr>
            <p:cNvPr id="751" name=""/>
            <p:cNvSpPr/>
            <p:nvPr/>
          </p:nvSpPr>
          <p:spPr>
            <a:xfrm flipV="1">
              <a:off x="3014640" y="899640"/>
              <a:ext cx="54000" cy="51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86200" y="703440"/>
              <a:ext cx="19656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3083040" y="890640"/>
            <a:ext cx="252360" cy="3803760"/>
            <a:chOff x="3083040" y="890640"/>
            <a:chExt cx="252360" cy="3803760"/>
          </a:xfrm>
        </p:grpSpPr>
        <p:sp>
          <p:nvSpPr>
            <p:cNvPr id="754" name=""/>
            <p:cNvSpPr/>
            <p:nvPr/>
          </p:nvSpPr>
          <p:spPr>
            <a:xfrm>
              <a:off x="3083040" y="890640"/>
              <a:ext cx="149040" cy="374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138480" y="451332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1320840" y="866880"/>
            <a:ext cx="0" cy="4959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1319040" y="5843520"/>
            <a:ext cx="6964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rot="16200000">
            <a:off x="-1343160" y="2854440"/>
            <a:ext cx="4219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Ionization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643040" y="588960"/>
            <a:ext cx="1697040" cy="4113360"/>
            <a:chOff x="1643040" y="588960"/>
            <a:chExt cx="1697040" cy="4113360"/>
          </a:xfrm>
        </p:grpSpPr>
        <p:sp>
          <p:nvSpPr>
            <p:cNvPr id="760" name=""/>
            <p:cNvSpPr/>
            <p:nvPr/>
          </p:nvSpPr>
          <p:spPr>
            <a:xfrm>
              <a:off x="1711440" y="2243160"/>
              <a:ext cx="10296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763640" y="684360"/>
              <a:ext cx="96840" cy="1660320"/>
            </a:xfrm>
            <a:custGeom>
              <a:avLst/>
              <a:gdLst/>
              <a:ahLst/>
              <a:rect l="l" t="t" r="r" b="b"/>
              <a:pathLst>
                <a:path w="61" h="1046">
                  <a:moveTo>
                    <a:pt x="0" y="1045"/>
                  </a:moveTo>
                  <a:lnTo>
                    <a:pt x="6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808280" y="590400"/>
              <a:ext cx="10476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859040" y="684360"/>
              <a:ext cx="223920" cy="3433680"/>
            </a:xfrm>
            <a:custGeom>
              <a:avLst/>
              <a:gdLst/>
              <a:ahLst/>
              <a:rect l="l" t="t" r="r" b="b"/>
              <a:pathLst>
                <a:path w="141" h="2163">
                  <a:moveTo>
                    <a:pt x="0" y="0"/>
                  </a:moveTo>
                  <a:lnTo>
                    <a:pt x="140" y="216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031840" y="4054320"/>
              <a:ext cx="1033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090880" y="3228840"/>
              <a:ext cx="87120" cy="905040"/>
            </a:xfrm>
            <a:custGeom>
              <a:avLst/>
              <a:gdLst/>
              <a:ahLst/>
              <a:rect l="l" t="t" r="r" b="b"/>
              <a:pathLst>
                <a:path w="55" h="570">
                  <a:moveTo>
                    <a:pt x="0" y="569"/>
                  </a:move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111400" y="3122640"/>
              <a:ext cx="10476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68640" y="3228840"/>
              <a:ext cx="15084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2363760" y="2700360"/>
              <a:ext cx="12708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281320" y="3575160"/>
              <a:ext cx="10296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452680" y="2541600"/>
              <a:ext cx="1015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2505240" y="1827360"/>
              <a:ext cx="112680" cy="81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570040" y="1698480"/>
              <a:ext cx="10476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64000" y="1800360"/>
              <a:ext cx="20160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17720" y="2227320"/>
              <a:ext cx="1033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2881440" y="1455480"/>
              <a:ext cx="110880" cy="871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51280" y="1351080"/>
              <a:ext cx="1015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3014640" y="899640"/>
              <a:ext cx="54000" cy="51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025800" y="708120"/>
              <a:ext cx="1033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083040" y="814320"/>
              <a:ext cx="149040" cy="374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197160" y="4521240"/>
              <a:ext cx="1033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986200" y="703440"/>
              <a:ext cx="19656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143160" y="451800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514600" y="168912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71720" y="1389240"/>
              <a:ext cx="1969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781360" y="2241720"/>
              <a:ext cx="1969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257560" y="3575160"/>
              <a:ext cx="19656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071800" y="3117960"/>
              <a:ext cx="19656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971720" y="406080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757520" y="588960"/>
              <a:ext cx="19656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643040" y="223200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414520" y="256068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3138480" y="1155600"/>
            <a:ext cx="1368360" cy="3998880"/>
            <a:chOff x="3138480" y="1155600"/>
            <a:chExt cx="1368360" cy="3998880"/>
          </a:xfrm>
        </p:grpSpPr>
        <p:sp>
          <p:nvSpPr>
            <p:cNvPr id="793" name=""/>
            <p:cNvSpPr/>
            <p:nvPr/>
          </p:nvSpPr>
          <p:spPr>
            <a:xfrm>
              <a:off x="3198960" y="4506840"/>
              <a:ext cx="10296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257640" y="3681360"/>
              <a:ext cx="87120" cy="905040"/>
            </a:xfrm>
            <a:custGeom>
              <a:avLst/>
              <a:gdLst/>
              <a:ahLst/>
              <a:rect l="l" t="t" r="r" b="b"/>
              <a:pathLst>
                <a:path w="55" h="570">
                  <a:moveTo>
                    <a:pt x="0" y="569"/>
                  </a:move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278160" y="3575160"/>
              <a:ext cx="10476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335400" y="3681360"/>
              <a:ext cx="15084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3530520" y="3152880"/>
              <a:ext cx="12708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448080" y="4027320"/>
              <a:ext cx="1033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619440" y="2994120"/>
              <a:ext cx="1015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3672000" y="2279160"/>
              <a:ext cx="112680" cy="81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736800" y="2151000"/>
              <a:ext cx="1051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830760" y="2252520"/>
              <a:ext cx="20160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984480" y="2679840"/>
              <a:ext cx="1033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4048200" y="1907640"/>
              <a:ext cx="110880" cy="871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118040" y="1803240"/>
              <a:ext cx="1015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4181400" y="1352160"/>
              <a:ext cx="54000" cy="51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192560" y="1160640"/>
              <a:ext cx="1033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249800" y="1266840"/>
              <a:ext cx="149040" cy="374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63920" y="4973760"/>
              <a:ext cx="1033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152960" y="115560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309920" y="497052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681360" y="2141640"/>
              <a:ext cx="1969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038480" y="184140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948120" y="269388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424320" y="402732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238560" y="357012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138480" y="451332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581280" y="3013200"/>
              <a:ext cx="1969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4379760" y="4998960"/>
            <a:ext cx="103320" cy="1684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319640" y="5005440"/>
            <a:ext cx="196920" cy="1681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570120" y="5891040"/>
            <a:ext cx="2955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5157720" y="3243240"/>
            <a:ext cx="2273400" cy="1273320"/>
          </a:xfrm>
          <a:custGeom>
            <a:avLst/>
            <a:gdLst/>
            <a:ahLst/>
            <a:rect l="l" t="t" r="r" b="b"/>
            <a:pathLst>
              <a:path w="1432" h="802">
                <a:moveTo>
                  <a:pt x="0" y="540"/>
                </a:moveTo>
                <a:lnTo>
                  <a:pt x="135" y="549"/>
                </a:lnTo>
                <a:lnTo>
                  <a:pt x="297" y="567"/>
                </a:lnTo>
                <a:lnTo>
                  <a:pt x="486" y="630"/>
                </a:lnTo>
                <a:lnTo>
                  <a:pt x="639" y="531"/>
                </a:lnTo>
                <a:lnTo>
                  <a:pt x="765" y="432"/>
                </a:lnTo>
                <a:lnTo>
                  <a:pt x="945" y="513"/>
                </a:lnTo>
                <a:lnTo>
                  <a:pt x="1143" y="594"/>
                </a:lnTo>
                <a:lnTo>
                  <a:pt x="1287" y="0"/>
                </a:lnTo>
                <a:lnTo>
                  <a:pt x="1431" y="80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320840" y="866880"/>
            <a:ext cx="0" cy="4959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1319040" y="5843520"/>
            <a:ext cx="6964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rot="16200000">
            <a:off x="-1343160" y="2854440"/>
            <a:ext cx="4219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Ionization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1643040" y="588960"/>
            <a:ext cx="1697040" cy="4113360"/>
            <a:chOff x="1643040" y="588960"/>
            <a:chExt cx="1697040" cy="4113360"/>
          </a:xfrm>
        </p:grpSpPr>
        <p:sp>
          <p:nvSpPr>
            <p:cNvPr id="827" name=""/>
            <p:cNvSpPr/>
            <p:nvPr/>
          </p:nvSpPr>
          <p:spPr>
            <a:xfrm>
              <a:off x="1711440" y="2243160"/>
              <a:ext cx="10296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763640" y="684360"/>
              <a:ext cx="96840" cy="1660320"/>
            </a:xfrm>
            <a:custGeom>
              <a:avLst/>
              <a:gdLst/>
              <a:ahLst/>
              <a:rect l="l" t="t" r="r" b="b"/>
              <a:pathLst>
                <a:path w="61" h="1046">
                  <a:moveTo>
                    <a:pt x="0" y="1045"/>
                  </a:moveTo>
                  <a:lnTo>
                    <a:pt x="6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808280" y="590400"/>
              <a:ext cx="10476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59040" y="684360"/>
              <a:ext cx="223920" cy="3433680"/>
            </a:xfrm>
            <a:custGeom>
              <a:avLst/>
              <a:gdLst/>
              <a:ahLst/>
              <a:rect l="l" t="t" r="r" b="b"/>
              <a:pathLst>
                <a:path w="141" h="2163">
                  <a:moveTo>
                    <a:pt x="0" y="0"/>
                  </a:moveTo>
                  <a:lnTo>
                    <a:pt x="140" y="216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031840" y="4054320"/>
              <a:ext cx="1033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090880" y="3228840"/>
              <a:ext cx="87120" cy="905040"/>
            </a:xfrm>
            <a:custGeom>
              <a:avLst/>
              <a:gdLst/>
              <a:ahLst/>
              <a:rect l="l" t="t" r="r" b="b"/>
              <a:pathLst>
                <a:path w="55" h="570">
                  <a:moveTo>
                    <a:pt x="0" y="569"/>
                  </a:move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111400" y="3122640"/>
              <a:ext cx="10476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168640" y="3228840"/>
              <a:ext cx="15084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2363760" y="2700360"/>
              <a:ext cx="12708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281320" y="3575160"/>
              <a:ext cx="10296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52680" y="2541600"/>
              <a:ext cx="1015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2505240" y="1827360"/>
              <a:ext cx="112680" cy="81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570040" y="1698480"/>
              <a:ext cx="10476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664000" y="1800360"/>
              <a:ext cx="20160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817720" y="2227320"/>
              <a:ext cx="1033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2881440" y="1455480"/>
              <a:ext cx="110880" cy="871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951280" y="1351080"/>
              <a:ext cx="1015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3014640" y="899640"/>
              <a:ext cx="54000" cy="51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25800" y="708120"/>
              <a:ext cx="1033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083040" y="814320"/>
              <a:ext cx="149040" cy="374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197160" y="4521240"/>
              <a:ext cx="1033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986200" y="703440"/>
              <a:ext cx="19656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143160" y="451800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514600" y="168912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871720" y="1389240"/>
              <a:ext cx="1969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781360" y="2241720"/>
              <a:ext cx="1969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257560" y="3575160"/>
              <a:ext cx="19656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071800" y="3117960"/>
              <a:ext cx="19656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971720" y="406080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757520" y="588960"/>
              <a:ext cx="19656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643040" y="223200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414520" y="256068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3138480" y="1155600"/>
            <a:ext cx="1368360" cy="3998880"/>
            <a:chOff x="3138480" y="1155600"/>
            <a:chExt cx="1368360" cy="3998880"/>
          </a:xfrm>
        </p:grpSpPr>
        <p:sp>
          <p:nvSpPr>
            <p:cNvPr id="860" name=""/>
            <p:cNvSpPr/>
            <p:nvPr/>
          </p:nvSpPr>
          <p:spPr>
            <a:xfrm>
              <a:off x="3198960" y="4506840"/>
              <a:ext cx="10296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257640" y="3681360"/>
              <a:ext cx="87120" cy="905040"/>
            </a:xfrm>
            <a:custGeom>
              <a:avLst/>
              <a:gdLst/>
              <a:ahLst/>
              <a:rect l="l" t="t" r="r" b="b"/>
              <a:pathLst>
                <a:path w="55" h="570">
                  <a:moveTo>
                    <a:pt x="0" y="569"/>
                  </a:move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278160" y="3575160"/>
              <a:ext cx="10476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335400" y="3681360"/>
              <a:ext cx="15084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3530520" y="3152880"/>
              <a:ext cx="12708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448080" y="4027320"/>
              <a:ext cx="1033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619440" y="2994120"/>
              <a:ext cx="1015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3672000" y="2279160"/>
              <a:ext cx="112680" cy="81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736800" y="2151000"/>
              <a:ext cx="1051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830760" y="2252520"/>
              <a:ext cx="20160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984480" y="2679840"/>
              <a:ext cx="1033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4048200" y="1907640"/>
              <a:ext cx="110880" cy="871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118040" y="1803240"/>
              <a:ext cx="1015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4181400" y="1352160"/>
              <a:ext cx="54000" cy="51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192560" y="1160640"/>
              <a:ext cx="1033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249800" y="1266840"/>
              <a:ext cx="149040" cy="374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363920" y="4973760"/>
              <a:ext cx="1033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152960" y="115560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309920" y="497052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681360" y="2141640"/>
              <a:ext cx="1969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038480" y="184140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948120" y="269388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424320" y="402732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238560" y="357012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38480" y="451332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581280" y="3013200"/>
              <a:ext cx="1969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4379760" y="4998960"/>
            <a:ext cx="103320" cy="1684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438800" y="4235400"/>
            <a:ext cx="87120" cy="838080"/>
          </a:xfrm>
          <a:custGeom>
            <a:avLst/>
            <a:gdLst/>
            <a:ahLst/>
            <a:rect l="l" t="t" r="r" b="b"/>
            <a:pathLst>
              <a:path w="55" h="528">
                <a:moveTo>
                  <a:pt x="0" y="527"/>
                </a:moveTo>
                <a:lnTo>
                  <a:pt x="5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459320" y="4137120"/>
            <a:ext cx="104760" cy="1666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4516560" y="4127400"/>
            <a:ext cx="412560" cy="106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453440" y="3602160"/>
            <a:ext cx="125280" cy="84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72440" y="4413240"/>
            <a:ext cx="102960" cy="1666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42360" y="3456000"/>
            <a:ext cx="102960" cy="1666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7594560" y="2793600"/>
            <a:ext cx="112680" cy="75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661160" y="2673360"/>
            <a:ext cx="103320" cy="1681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754760" y="2768760"/>
            <a:ext cx="200160" cy="42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08840" y="3164040"/>
            <a:ext cx="101520" cy="1666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7970760" y="2448000"/>
            <a:ext cx="111240" cy="807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040600" y="2352600"/>
            <a:ext cx="101520" cy="16524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8105760" y="1933200"/>
            <a:ext cx="54000" cy="476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115480" y="1755720"/>
            <a:ext cx="102960" cy="1684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174160" y="1854360"/>
            <a:ext cx="147600" cy="347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8286840" y="5289480"/>
            <a:ext cx="102960" cy="1684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8077320" y="1751040"/>
            <a:ext cx="195120" cy="1681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8232840" y="5286240"/>
            <a:ext cx="196920" cy="1684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605720" y="2664000"/>
            <a:ext cx="195120" cy="1681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961400" y="2386080"/>
            <a:ext cx="198360" cy="1681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7870680" y="3178080"/>
            <a:ext cx="196920" cy="1666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732200" y="4056120"/>
            <a:ext cx="198720" cy="1666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419720" y="4132440"/>
            <a:ext cx="196560" cy="1666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319640" y="5005440"/>
            <a:ext cx="196920" cy="1681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7505640" y="3471840"/>
            <a:ext cx="196920" cy="1681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7315200" y="4410000"/>
            <a:ext cx="196920" cy="1684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272200" y="3995640"/>
            <a:ext cx="196560" cy="1684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543640" y="4052880"/>
            <a:ext cx="196920" cy="1681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834160" y="4143240"/>
            <a:ext cx="196920" cy="1684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091200" y="3986280"/>
            <a:ext cx="196920" cy="1681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305400" y="3828960"/>
            <a:ext cx="196920" cy="1684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605640" y="3971880"/>
            <a:ext cx="196920" cy="1684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48640" y="4100400"/>
            <a:ext cx="196560" cy="1684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7120080" y="3186000"/>
            <a:ext cx="196560" cy="1684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4885920" y="4100400"/>
            <a:ext cx="214200" cy="42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014800" y="4010040"/>
            <a:ext cx="196920" cy="1681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570120" y="5891040"/>
            <a:ext cx="2955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and Ionic radiu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omic radius is the relative size of an ato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s across a peri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s down a grou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ic radius is the relative size of an 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ve ions get small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gative ions get larg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fective char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lectronegativit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the tendency of atoms to gain electr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s acro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s dow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ale of 4.0 (F) – 0.8 (C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pecial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up 1 Alkali met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up 2 Alkaline earth met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up 17 Haloge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up 18 Noble ga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 1900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ter and energy were seen as different from each other in fundamental way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ter was particl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ergy could come in waves, with any frequenc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x Planck found that as the cooling of hot objects couldn’t be explained by viewing energy as a wav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ergy is Quantize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ck found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 came in chunks with size h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 = nh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 n is an integ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h is Planck’s constan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 = 6.626 x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J 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se packets of h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re called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quantu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instein is nex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id electromagnetic radiation is quantized in particles called phot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ch photon has energy (E) = h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hc/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bine this with E = mc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get the apparent mass of a photo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 = h / (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26T16:12:45Z</dcterms:created>
  <dc:creator/>
  <dc:description/>
  <cp:keywords/>
  <dc:language>en-US</dc:language>
  <cp:lastModifiedBy>FPS</cp:lastModifiedBy>
  <dcterms:modified xsi:type="dcterms:W3CDTF">2007-10-19T16:48:18Z</dcterms:modified>
  <cp:revision>29</cp:revision>
  <dc:subject/>
  <dc:title>Chapter 7</dc:title>
</cp:coreProperties>
</file>